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whoosh.wav" ContentType="audio/x-wav"/>
  <Override PartName="/ppt/media/image22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camera.wav" ContentType="audio/x-wav"/>
  <Override PartName="/ppt/media/image10.wmf" ContentType="image/x-wmf"/>
  <Override PartName="/ppt/media/image6.wmf" ContentType="image/x-wmf"/>
  <Override PartName="/ppt/media/image11.wmf" ContentType="image/x-wmf"/>
  <Override PartName="/ppt/media/image3.wmf" ContentType="image/x-wmf"/>
  <Override PartName="/ppt/media/image29.jpeg" ContentType="image/jpeg"/>
  <Override PartName="/ppt/media/image13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28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5.wmf" ContentType="image/x-wmf"/>
  <Override PartName="/ppt/media/image16.jpeg" ContentType="image/jpeg"/>
  <Override PartName="/ppt/media/chimes.wav" ContentType="audio/x-wav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CE4-86A7-47DA-943C-C3C41426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1A9-1E8E-476E-B3E9-B2467F28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A3C-1246-4764-A3BC-35319E02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D4F-F995-4DE1-91E9-F350D1F0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489-F9DB-4704-9473-9C3E418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A8E-C797-48DE-9E8B-D4782ADC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B31-B538-4F77-AE61-D88E5C0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484-4A16-45DE-8A00-CB5EEFF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42A-5866-49EE-A929-3B15BC04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B5B-5F70-498F-832A-4259B048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B0B-0A4D-4543-8556-72D3BD8A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082-FFFB-41C3-BDDF-B35EC94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578B-B910-4CD9-A7D3-290937C273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2.wmf"/><Relationship Id="rId26" Type="http://schemas.openxmlformats.org/officeDocument/2006/relationships/audio" Target="../media/whoosh.wav"/><Relationship Id="rId27" Type="http://schemas.openxmlformats.org/officeDocument/2006/relationships/audio" Target="../media/camera.wav"/><Relationship Id="rId28" Type="http://schemas.openxmlformats.org/officeDocument/2006/relationships/audio" Target="../media/whoosh.wav"/><Relationship Id="rId29" Type="http://schemas.openxmlformats.org/officeDocument/2006/relationships/audio" Target="../media/camera.wav"/><Relationship Id="rId30" Type="http://schemas.openxmlformats.org/officeDocument/2006/relationships/audio" Target="../media/whoosh.wav"/><Relationship Id="rId31" Type="http://schemas.openxmlformats.org/officeDocument/2006/relationships/audio" Target="../media/camera.wav"/><Relationship Id="rId32" Type="http://schemas.openxmlformats.org/officeDocument/2006/relationships/audio" Target="../media/whoosh.wav"/><Relationship Id="rId33" Type="http://schemas.openxmlformats.org/officeDocument/2006/relationships/audio" Target="../media/camera.wav"/><Relationship Id="rId34" Type="http://schemas.openxmlformats.org/officeDocument/2006/relationships/audio" Target="../media/whoosh.wav"/><Relationship Id="rId35" Type="http://schemas.openxmlformats.org/officeDocument/2006/relationships/audio" Target="../media/camera.wav"/><Relationship Id="rId36" Type="http://schemas.openxmlformats.org/officeDocument/2006/relationships/audio" Target="../media/whoosh.wav"/><Relationship Id="rId37" Type="http://schemas.openxmlformats.org/officeDocument/2006/relationships/audio" Target="../media/camera.wav"/><Relationship Id="rId38" Type="http://schemas.openxmlformats.org/officeDocument/2006/relationships/audio" Target="../media/whoosh.wav"/><Relationship Id="rId39" Type="http://schemas.openxmlformats.org/officeDocument/2006/relationships/audio" Target="../media/camera.wav"/><Relationship Id="rId40" Type="http://schemas.openxmlformats.org/officeDocument/2006/relationships/audio" Target="../media/whoosh.wav"/><Relationship Id="rId41" Type="http://schemas.openxmlformats.org/officeDocument/2006/relationships/audio" Target="../media/camera.wav"/><Relationship Id="rId42" Type="http://schemas.openxmlformats.org/officeDocument/2006/relationships/audio" Target="../media/whoosh.wav"/><Relationship Id="rId43" Type="http://schemas.openxmlformats.org/officeDocument/2006/relationships/audio" Target="../media/camera.wav"/><Relationship Id="rId4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0.wmf"/><Relationship Id="rId26" Type="http://schemas.openxmlformats.org/officeDocument/2006/relationships/image" Target="../media/image14.wmf"/><Relationship Id="rId27" Type="http://schemas.openxmlformats.org/officeDocument/2006/relationships/audio" Target="../media/whoosh.wav"/><Relationship Id="rId28" Type="http://schemas.openxmlformats.org/officeDocument/2006/relationships/audio" Target="../media/camera.wav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whoosh.wav"/><Relationship Id="rId32" Type="http://schemas.openxmlformats.org/officeDocument/2006/relationships/audio" Target="../media/camera.wav"/><Relationship Id="rId33" Type="http://schemas.openxmlformats.org/officeDocument/2006/relationships/audio" Target="../media/whoosh.wav"/><Relationship Id="rId34" Type="http://schemas.openxmlformats.org/officeDocument/2006/relationships/audio" Target="../media/camera.wav"/><Relationship Id="rId35" Type="http://schemas.openxmlformats.org/officeDocument/2006/relationships/audio" Target="../media/whoosh.wav"/><Relationship Id="rId36" Type="http://schemas.openxmlformats.org/officeDocument/2006/relationships/audio" Target="../media/camera.wav"/><Relationship Id="rId37" Type="http://schemas.openxmlformats.org/officeDocument/2006/relationships/audio" Target="../media/whoosh.wav"/><Relationship Id="rId38" Type="http://schemas.openxmlformats.org/officeDocument/2006/relationships/audio" Target="../media/camera.wav"/><Relationship Id="rId39" Type="http://schemas.openxmlformats.org/officeDocument/2006/relationships/audio" Target="../media/whoosh.wav"/><Relationship Id="rId40" Type="http://schemas.openxmlformats.org/officeDocument/2006/relationships/audio" Target="../media/camera.wav"/><Relationship Id="rId41" Type="http://schemas.openxmlformats.org/officeDocument/2006/relationships/audio" Target="../media/whoosh.wav"/><Relationship Id="rId42" Type="http://schemas.openxmlformats.org/officeDocument/2006/relationships/audio" Target="../media/camera.wav"/><Relationship Id="rId43" Type="http://schemas.openxmlformats.org/officeDocument/2006/relationships/audio" Target="../media/whoosh.wav"/><Relationship Id="rId44" Type="http://schemas.openxmlformats.org/officeDocument/2006/relationships/audio" Target="../media/camera.wav"/><Relationship Id="rId45" Type="http://schemas.openxmlformats.org/officeDocument/2006/relationships/audio" Target="../media/whoosh.wav"/><Relationship Id="rId46" Type="http://schemas.openxmlformats.org/officeDocument/2006/relationships/audio" Target="../media/camera.wav"/><Relationship Id="rId47" Type="http://schemas.openxmlformats.org/officeDocument/2006/relationships/audio" Target="../media/whoosh.wav"/><Relationship Id="rId48" Type="http://schemas.openxmlformats.org/officeDocument/2006/relationships/audio" Target="../media/camera.wav"/><Relationship Id="rId4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chimes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chimes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2.wm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3333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42080"/>
            <a:ext cx="9144000" cy="24624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84200" y="3263760"/>
            <a:ext cx="4454640" cy="268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2400" y="658800"/>
            <a:ext cx="661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pperplate Gothic Bold"/>
              </a:rPr>
              <a:t>Rhifau cyfeirio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9400" y="3919680"/>
            <a:ext cx="314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Y cyfan mae’r term yma’n golygu yw rhifau gydag arwydd o’u blaenau, er enghraifft –2, 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38960" y="658800"/>
            <a:ext cx="1676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 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05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733400" y="4538520"/>
            <a:ext cx="190800" cy="10112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1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09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09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09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15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18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733400" y="4924440"/>
            <a:ext cx="190800" cy="6253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2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21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21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21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27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wahania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959200" y="40788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4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314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733400" y="1609560"/>
            <a:ext cx="190800" cy="3940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34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34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40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8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1433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64480" y="3165480"/>
            <a:ext cx="190440" cy="2371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1460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1461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1462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1522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6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55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733400" y="2386080"/>
            <a:ext cx="190800" cy="3163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584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585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586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646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0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1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1676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6864480" y="2970360"/>
            <a:ext cx="190440" cy="25668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1703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1704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1705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4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1765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89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5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801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733400" y="2778120"/>
            <a:ext cx="190800" cy="2771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828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829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830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890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4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5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9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1920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64480" y="3946680"/>
            <a:ext cx="190440" cy="15904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1947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1948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1949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009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3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4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3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045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5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733400" y="3168720"/>
            <a:ext cx="190800" cy="23810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1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072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073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074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134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58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9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164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6864480" y="4336920"/>
            <a:ext cx="190440" cy="12002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0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191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192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193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253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77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8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3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289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733400" y="2006640"/>
            <a:ext cx="190800" cy="35431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31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31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31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37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0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3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408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6864480" y="4533840"/>
            <a:ext cx="190440" cy="10033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4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435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436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437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6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497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1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2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65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53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1733400" y="3949560"/>
            <a:ext cx="190800" cy="1600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56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56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56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62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4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7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1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652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2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6864480" y="4334040"/>
            <a:ext cx="190440" cy="12031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8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679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680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681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0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741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65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6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77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733400" y="4340160"/>
            <a:ext cx="190800" cy="120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3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804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805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806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5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866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0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1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896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864480" y="5114880"/>
            <a:ext cx="190440" cy="4222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2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923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924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925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4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985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09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0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021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1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1733400" y="4340160"/>
            <a:ext cx="190800" cy="120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7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048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049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050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110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34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5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9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140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0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6864480" y="4900680"/>
            <a:ext cx="190440" cy="6364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6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167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168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169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8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229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3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4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5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47680" y="1512720"/>
            <a:ext cx="417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rmome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67120" y="281952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60280" y="685800"/>
            <a:ext cx="3316320" cy="5676840"/>
            <a:chOff x="260280" y="685800"/>
            <a:chExt cx="3316320" cy="5676840"/>
          </a:xfrm>
        </p:grpSpPr>
        <p:grpSp>
          <p:nvGrpSpPr>
            <p:cNvPr id="56" name=""/>
            <p:cNvGrpSpPr/>
            <p:nvPr/>
          </p:nvGrpSpPr>
          <p:grpSpPr>
            <a:xfrm>
              <a:off x="1000080" y="685800"/>
              <a:ext cx="1666800" cy="5676840"/>
              <a:chOff x="1000080" y="685800"/>
              <a:chExt cx="1666800" cy="5676840"/>
            </a:xfrm>
          </p:grpSpPr>
          <p:sp>
            <p:nvSpPr>
              <p:cNvPr id="57" name=""/>
              <p:cNvSpPr/>
              <p:nvPr/>
            </p:nvSpPr>
            <p:spPr>
              <a:xfrm rot="5400000">
                <a:off x="-1004760" y="2690640"/>
                <a:ext cx="5676840" cy="166680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146240" y="965160"/>
                <a:ext cx="1291680" cy="5124600"/>
                <a:chOff x="1146240" y="965160"/>
                <a:chExt cx="1291680" cy="51246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217520" y="965160"/>
                  <a:ext cx="1220400" cy="51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c8474"/>
                    </a:gs>
                    <a:gs pos="50000">
                      <a:srgbClr val="d5c9b1"/>
                    </a:gs>
                    <a:gs pos="100000">
                      <a:srgbClr val="8c847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689120" y="5340600"/>
                  <a:ext cx="285120" cy="583920"/>
                </a:xfrm>
                <a:prstGeom prst="ellipse">
                  <a:avLst/>
                </a:prstGeom>
                <a:solidFill>
                  <a:srgbClr val="8e348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733400" y="1212840"/>
                  <a:ext cx="190080" cy="4267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733400" y="3956040"/>
                  <a:ext cx="190080" cy="1594080"/>
                </a:xfrm>
                <a:prstGeom prst="rect">
                  <a:avLst/>
                </a:prstGeom>
                <a:solidFill>
                  <a:srgbClr val="8e34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1923840" y="1613160"/>
                  <a:ext cx="304560" cy="3514680"/>
                  <a:chOff x="1923840" y="1613160"/>
                  <a:chExt cx="304560" cy="3514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1923840" y="5127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23840" y="4737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23840" y="4346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23840" y="39560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23840" y="35658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23840" y="31752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23840" y="27846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23840" y="23940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23840" y="20034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23840" y="161316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" name=""/>
                <p:cNvSpPr/>
                <p:nvPr/>
              </p:nvSpPr>
              <p:spPr>
                <a:xfrm>
                  <a:off x="1355400" y="3762360"/>
                  <a:ext cx="482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53800" y="414828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146240" y="454500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57040" y="491832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-3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217520" y="337356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204920" y="2989440"/>
                  <a:ext cx="66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201680" y="2581560"/>
                  <a:ext cx="66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207800" y="220212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209600" y="1812960"/>
                  <a:ext cx="66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206360" y="142416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179360" y="982800"/>
                  <a:ext cx="66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541ae4"/>
                      </a:solidFill>
                      <a:latin typeface="Comic Sans MS"/>
                    </a:rPr>
                    <a:t>o</a:t>
                  </a:r>
                  <a:r>
                    <a:rPr b="0" lang="en-US" sz="2400" spc="-1" strike="noStrike">
                      <a:solidFill>
                        <a:srgbClr val="541ae4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53960" y="5908680"/>
                  <a:ext cx="95040" cy="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9a9a9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288800" y="5905800"/>
                  <a:ext cx="9504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9a9a9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241360" y="1028880"/>
                  <a:ext cx="9504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9a9a9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276200" y="1025640"/>
                  <a:ext cx="95040" cy="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9a9a9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11040" y="3727440"/>
              <a:ext cx="57168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260280" y="1446120"/>
              <a:ext cx="3316320" cy="4040280"/>
              <a:chOff x="260280" y="1446120"/>
              <a:chExt cx="3316320" cy="404028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727360" y="4735440"/>
                <a:ext cx="849240" cy="750960"/>
                <a:chOff x="2727360" y="4735440"/>
                <a:chExt cx="849240" cy="7509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727360" y="4735440"/>
                  <a:ext cx="849240" cy="750960"/>
                </a:xfrm>
                <a:custGeom>
                  <a:avLst/>
                  <a:gdLst/>
                  <a:ahLst/>
                  <a:rect l="l" t="t" r="r" b="b"/>
                  <a:pathLst>
                    <a:path w="3237" h="2859">
                      <a:moveTo>
                        <a:pt x="76" y="2360"/>
                      </a:moveTo>
                      <a:lnTo>
                        <a:pt x="94" y="2332"/>
                      </a:lnTo>
                      <a:lnTo>
                        <a:pt x="113" y="2307"/>
                      </a:lnTo>
                      <a:lnTo>
                        <a:pt x="133" y="2280"/>
                      </a:lnTo>
                      <a:lnTo>
                        <a:pt x="153" y="2254"/>
                      </a:lnTo>
                      <a:lnTo>
                        <a:pt x="172" y="2227"/>
                      </a:lnTo>
                      <a:lnTo>
                        <a:pt x="192" y="2200"/>
                      </a:lnTo>
                      <a:lnTo>
                        <a:pt x="209" y="2173"/>
                      </a:lnTo>
                      <a:lnTo>
                        <a:pt x="227" y="2147"/>
                      </a:lnTo>
                      <a:lnTo>
                        <a:pt x="239" y="2115"/>
                      </a:lnTo>
                      <a:lnTo>
                        <a:pt x="248" y="2083"/>
                      </a:lnTo>
                      <a:lnTo>
                        <a:pt x="255" y="2049"/>
                      </a:lnTo>
                      <a:lnTo>
                        <a:pt x="259" y="2016"/>
                      </a:lnTo>
                      <a:lnTo>
                        <a:pt x="259" y="1980"/>
                      </a:lnTo>
                      <a:lnTo>
                        <a:pt x="258" y="1945"/>
                      </a:lnTo>
                      <a:lnTo>
                        <a:pt x="255" y="1909"/>
                      </a:lnTo>
                      <a:lnTo>
                        <a:pt x="251" y="1877"/>
                      </a:lnTo>
                      <a:lnTo>
                        <a:pt x="238" y="1824"/>
                      </a:lnTo>
                      <a:lnTo>
                        <a:pt x="225" y="1771"/>
                      </a:lnTo>
                      <a:lnTo>
                        <a:pt x="211" y="1717"/>
                      </a:lnTo>
                      <a:lnTo>
                        <a:pt x="200" y="1665"/>
                      </a:lnTo>
                      <a:lnTo>
                        <a:pt x="189" y="1611"/>
                      </a:lnTo>
                      <a:lnTo>
                        <a:pt x="184" y="1557"/>
                      </a:lnTo>
                      <a:lnTo>
                        <a:pt x="184" y="1502"/>
                      </a:lnTo>
                      <a:lnTo>
                        <a:pt x="192" y="1447"/>
                      </a:lnTo>
                      <a:lnTo>
                        <a:pt x="184" y="1443"/>
                      </a:lnTo>
                      <a:lnTo>
                        <a:pt x="177" y="1439"/>
                      </a:lnTo>
                      <a:lnTo>
                        <a:pt x="169" y="1436"/>
                      </a:lnTo>
                      <a:lnTo>
                        <a:pt x="163" y="1433"/>
                      </a:lnTo>
                      <a:lnTo>
                        <a:pt x="155" y="1428"/>
                      </a:lnTo>
                      <a:lnTo>
                        <a:pt x="149" y="1423"/>
                      </a:lnTo>
                      <a:lnTo>
                        <a:pt x="142" y="1417"/>
                      </a:lnTo>
                      <a:lnTo>
                        <a:pt x="139" y="1412"/>
                      </a:lnTo>
                      <a:lnTo>
                        <a:pt x="133" y="1389"/>
                      </a:lnTo>
                      <a:lnTo>
                        <a:pt x="127" y="1366"/>
                      </a:lnTo>
                      <a:lnTo>
                        <a:pt x="123" y="1344"/>
                      </a:lnTo>
                      <a:lnTo>
                        <a:pt x="122" y="1322"/>
                      </a:lnTo>
                      <a:lnTo>
                        <a:pt x="122" y="1300"/>
                      </a:lnTo>
                      <a:lnTo>
                        <a:pt x="126" y="1280"/>
                      </a:lnTo>
                      <a:lnTo>
                        <a:pt x="135" y="1258"/>
                      </a:lnTo>
                      <a:lnTo>
                        <a:pt x="149" y="1240"/>
                      </a:lnTo>
                      <a:lnTo>
                        <a:pt x="154" y="1230"/>
                      </a:lnTo>
                      <a:lnTo>
                        <a:pt x="162" y="1222"/>
                      </a:lnTo>
                      <a:lnTo>
                        <a:pt x="169" y="1214"/>
                      </a:lnTo>
                      <a:lnTo>
                        <a:pt x="179" y="1208"/>
                      </a:lnTo>
                      <a:lnTo>
                        <a:pt x="187" y="1200"/>
                      </a:lnTo>
                      <a:lnTo>
                        <a:pt x="196" y="1194"/>
                      </a:lnTo>
                      <a:lnTo>
                        <a:pt x="204" y="1186"/>
                      </a:lnTo>
                      <a:lnTo>
                        <a:pt x="213" y="1180"/>
                      </a:lnTo>
                      <a:lnTo>
                        <a:pt x="221" y="1176"/>
                      </a:lnTo>
                      <a:lnTo>
                        <a:pt x="229" y="1174"/>
                      </a:lnTo>
                      <a:lnTo>
                        <a:pt x="237" y="1171"/>
                      </a:lnTo>
                      <a:lnTo>
                        <a:pt x="245" y="1170"/>
                      </a:lnTo>
                      <a:lnTo>
                        <a:pt x="254" y="1168"/>
                      </a:lnTo>
                      <a:lnTo>
                        <a:pt x="262" y="1168"/>
                      </a:lnTo>
                      <a:lnTo>
                        <a:pt x="272" y="1167"/>
                      </a:lnTo>
                      <a:lnTo>
                        <a:pt x="282" y="1169"/>
                      </a:lnTo>
                      <a:lnTo>
                        <a:pt x="287" y="1157"/>
                      </a:lnTo>
                      <a:lnTo>
                        <a:pt x="292" y="1146"/>
                      </a:lnTo>
                      <a:lnTo>
                        <a:pt x="298" y="1136"/>
                      </a:lnTo>
                      <a:lnTo>
                        <a:pt x="304" y="1126"/>
                      </a:lnTo>
                      <a:lnTo>
                        <a:pt x="310" y="1115"/>
                      </a:lnTo>
                      <a:lnTo>
                        <a:pt x="316" y="1105"/>
                      </a:lnTo>
                      <a:lnTo>
                        <a:pt x="321" y="1094"/>
                      </a:lnTo>
                      <a:lnTo>
                        <a:pt x="328" y="1083"/>
                      </a:lnTo>
                      <a:lnTo>
                        <a:pt x="352" y="1041"/>
                      </a:lnTo>
                      <a:lnTo>
                        <a:pt x="381" y="1003"/>
                      </a:lnTo>
                      <a:lnTo>
                        <a:pt x="414" y="964"/>
                      </a:lnTo>
                      <a:lnTo>
                        <a:pt x="449" y="930"/>
                      </a:lnTo>
                      <a:lnTo>
                        <a:pt x="485" y="896"/>
                      </a:lnTo>
                      <a:lnTo>
                        <a:pt x="526" y="868"/>
                      </a:lnTo>
                      <a:lnTo>
                        <a:pt x="567" y="843"/>
                      </a:lnTo>
                      <a:lnTo>
                        <a:pt x="612" y="823"/>
                      </a:lnTo>
                      <a:lnTo>
                        <a:pt x="625" y="819"/>
                      </a:lnTo>
                      <a:lnTo>
                        <a:pt x="639" y="816"/>
                      </a:lnTo>
                      <a:lnTo>
                        <a:pt x="653" y="813"/>
                      </a:lnTo>
                      <a:lnTo>
                        <a:pt x="668" y="809"/>
                      </a:lnTo>
                      <a:lnTo>
                        <a:pt x="682" y="806"/>
                      </a:lnTo>
                      <a:lnTo>
                        <a:pt x="697" y="805"/>
                      </a:lnTo>
                      <a:lnTo>
                        <a:pt x="712" y="804"/>
                      </a:lnTo>
                      <a:lnTo>
                        <a:pt x="728" y="804"/>
                      </a:lnTo>
                      <a:lnTo>
                        <a:pt x="744" y="779"/>
                      </a:lnTo>
                      <a:lnTo>
                        <a:pt x="764" y="757"/>
                      </a:lnTo>
                      <a:lnTo>
                        <a:pt x="785" y="734"/>
                      </a:lnTo>
                      <a:lnTo>
                        <a:pt x="807" y="715"/>
                      </a:lnTo>
                      <a:lnTo>
                        <a:pt x="830" y="696"/>
                      </a:lnTo>
                      <a:lnTo>
                        <a:pt x="853" y="677"/>
                      </a:lnTo>
                      <a:lnTo>
                        <a:pt x="876" y="660"/>
                      </a:lnTo>
                      <a:lnTo>
                        <a:pt x="899" y="644"/>
                      </a:lnTo>
                      <a:lnTo>
                        <a:pt x="908" y="638"/>
                      </a:lnTo>
                      <a:lnTo>
                        <a:pt x="918" y="633"/>
                      </a:lnTo>
                      <a:lnTo>
                        <a:pt x="927" y="630"/>
                      </a:lnTo>
                      <a:lnTo>
                        <a:pt x="937" y="627"/>
                      </a:lnTo>
                      <a:lnTo>
                        <a:pt x="947" y="624"/>
                      </a:lnTo>
                      <a:lnTo>
                        <a:pt x="957" y="622"/>
                      </a:lnTo>
                      <a:lnTo>
                        <a:pt x="968" y="621"/>
                      </a:lnTo>
                      <a:lnTo>
                        <a:pt x="979" y="621"/>
                      </a:lnTo>
                      <a:lnTo>
                        <a:pt x="995" y="624"/>
                      </a:lnTo>
                      <a:lnTo>
                        <a:pt x="1009" y="631"/>
                      </a:lnTo>
                      <a:lnTo>
                        <a:pt x="1021" y="640"/>
                      </a:lnTo>
                      <a:lnTo>
                        <a:pt x="1032" y="653"/>
                      </a:lnTo>
                      <a:lnTo>
                        <a:pt x="1042" y="666"/>
                      </a:lnTo>
                      <a:lnTo>
                        <a:pt x="1052" y="679"/>
                      </a:lnTo>
                      <a:lnTo>
                        <a:pt x="1060" y="691"/>
                      </a:lnTo>
                      <a:lnTo>
                        <a:pt x="1071" y="704"/>
                      </a:lnTo>
                      <a:lnTo>
                        <a:pt x="1085" y="682"/>
                      </a:lnTo>
                      <a:lnTo>
                        <a:pt x="1102" y="661"/>
                      </a:lnTo>
                      <a:lnTo>
                        <a:pt x="1120" y="641"/>
                      </a:lnTo>
                      <a:lnTo>
                        <a:pt x="1141" y="624"/>
                      </a:lnTo>
                      <a:lnTo>
                        <a:pt x="1161" y="609"/>
                      </a:lnTo>
                      <a:lnTo>
                        <a:pt x="1185" y="597"/>
                      </a:lnTo>
                      <a:lnTo>
                        <a:pt x="1209" y="589"/>
                      </a:lnTo>
                      <a:lnTo>
                        <a:pt x="1237" y="587"/>
                      </a:lnTo>
                      <a:lnTo>
                        <a:pt x="1244" y="587"/>
                      </a:lnTo>
                      <a:lnTo>
                        <a:pt x="1250" y="588"/>
                      </a:lnTo>
                      <a:lnTo>
                        <a:pt x="1257" y="587"/>
                      </a:lnTo>
                      <a:lnTo>
                        <a:pt x="1264" y="587"/>
                      </a:lnTo>
                      <a:lnTo>
                        <a:pt x="1269" y="587"/>
                      </a:lnTo>
                      <a:lnTo>
                        <a:pt x="1276" y="587"/>
                      </a:lnTo>
                      <a:lnTo>
                        <a:pt x="1282" y="588"/>
                      </a:lnTo>
                      <a:lnTo>
                        <a:pt x="1289" y="593"/>
                      </a:lnTo>
                      <a:lnTo>
                        <a:pt x="1295" y="583"/>
                      </a:lnTo>
                      <a:lnTo>
                        <a:pt x="1304" y="574"/>
                      </a:lnTo>
                      <a:lnTo>
                        <a:pt x="1312" y="566"/>
                      </a:lnTo>
                      <a:lnTo>
                        <a:pt x="1324" y="560"/>
                      </a:lnTo>
                      <a:lnTo>
                        <a:pt x="1334" y="555"/>
                      </a:lnTo>
                      <a:lnTo>
                        <a:pt x="1347" y="552"/>
                      </a:lnTo>
                      <a:lnTo>
                        <a:pt x="1359" y="551"/>
                      </a:lnTo>
                      <a:lnTo>
                        <a:pt x="1372" y="554"/>
                      </a:lnTo>
                      <a:lnTo>
                        <a:pt x="1378" y="551"/>
                      </a:lnTo>
                      <a:lnTo>
                        <a:pt x="1384" y="551"/>
                      </a:lnTo>
                      <a:lnTo>
                        <a:pt x="1391" y="551"/>
                      </a:lnTo>
                      <a:lnTo>
                        <a:pt x="1397" y="551"/>
                      </a:lnTo>
                      <a:lnTo>
                        <a:pt x="1403" y="551"/>
                      </a:lnTo>
                      <a:lnTo>
                        <a:pt x="1410" y="552"/>
                      </a:lnTo>
                      <a:lnTo>
                        <a:pt x="1416" y="553"/>
                      </a:lnTo>
                      <a:lnTo>
                        <a:pt x="1424" y="554"/>
                      </a:lnTo>
                      <a:lnTo>
                        <a:pt x="1430" y="555"/>
                      </a:lnTo>
                      <a:lnTo>
                        <a:pt x="1438" y="559"/>
                      </a:lnTo>
                      <a:lnTo>
                        <a:pt x="1443" y="565"/>
                      </a:lnTo>
                      <a:lnTo>
                        <a:pt x="1450" y="570"/>
                      </a:lnTo>
                      <a:lnTo>
                        <a:pt x="1455" y="574"/>
                      </a:lnTo>
                      <a:lnTo>
                        <a:pt x="1461" y="579"/>
                      </a:lnTo>
                      <a:lnTo>
                        <a:pt x="1468" y="581"/>
                      </a:lnTo>
                      <a:lnTo>
                        <a:pt x="1477" y="580"/>
                      </a:lnTo>
                      <a:lnTo>
                        <a:pt x="1486" y="584"/>
                      </a:lnTo>
                      <a:lnTo>
                        <a:pt x="1496" y="589"/>
                      </a:lnTo>
                      <a:lnTo>
                        <a:pt x="1505" y="593"/>
                      </a:lnTo>
                      <a:lnTo>
                        <a:pt x="1515" y="597"/>
                      </a:lnTo>
                      <a:lnTo>
                        <a:pt x="1525" y="599"/>
                      </a:lnTo>
                      <a:lnTo>
                        <a:pt x="1535" y="601"/>
                      </a:lnTo>
                      <a:lnTo>
                        <a:pt x="1546" y="603"/>
                      </a:lnTo>
                      <a:lnTo>
                        <a:pt x="1557" y="606"/>
                      </a:lnTo>
                      <a:lnTo>
                        <a:pt x="1577" y="596"/>
                      </a:lnTo>
                      <a:lnTo>
                        <a:pt x="1601" y="589"/>
                      </a:lnTo>
                      <a:lnTo>
                        <a:pt x="1623" y="584"/>
                      </a:lnTo>
                      <a:lnTo>
                        <a:pt x="1648" y="581"/>
                      </a:lnTo>
                      <a:lnTo>
                        <a:pt x="1672" y="577"/>
                      </a:lnTo>
                      <a:lnTo>
                        <a:pt x="1695" y="573"/>
                      </a:lnTo>
                      <a:lnTo>
                        <a:pt x="1719" y="569"/>
                      </a:lnTo>
                      <a:lnTo>
                        <a:pt x="1742" y="564"/>
                      </a:lnTo>
                      <a:lnTo>
                        <a:pt x="1734" y="557"/>
                      </a:lnTo>
                      <a:lnTo>
                        <a:pt x="1725" y="552"/>
                      </a:lnTo>
                      <a:lnTo>
                        <a:pt x="1716" y="547"/>
                      </a:lnTo>
                      <a:lnTo>
                        <a:pt x="1708" y="541"/>
                      </a:lnTo>
                      <a:lnTo>
                        <a:pt x="1699" y="534"/>
                      </a:lnTo>
                      <a:lnTo>
                        <a:pt x="1695" y="527"/>
                      </a:lnTo>
                      <a:lnTo>
                        <a:pt x="1692" y="516"/>
                      </a:lnTo>
                      <a:lnTo>
                        <a:pt x="1692" y="507"/>
                      </a:lnTo>
                      <a:lnTo>
                        <a:pt x="1687" y="501"/>
                      </a:lnTo>
                      <a:lnTo>
                        <a:pt x="1684" y="496"/>
                      </a:lnTo>
                      <a:lnTo>
                        <a:pt x="1682" y="490"/>
                      </a:lnTo>
                      <a:lnTo>
                        <a:pt x="1682" y="484"/>
                      </a:lnTo>
                      <a:lnTo>
                        <a:pt x="1680" y="478"/>
                      </a:lnTo>
                      <a:lnTo>
                        <a:pt x="1679" y="474"/>
                      </a:lnTo>
                      <a:lnTo>
                        <a:pt x="1675" y="469"/>
                      </a:lnTo>
                      <a:lnTo>
                        <a:pt x="1669" y="468"/>
                      </a:lnTo>
                      <a:lnTo>
                        <a:pt x="1665" y="463"/>
                      </a:lnTo>
                      <a:lnTo>
                        <a:pt x="1664" y="457"/>
                      </a:lnTo>
                      <a:lnTo>
                        <a:pt x="1664" y="451"/>
                      </a:lnTo>
                      <a:lnTo>
                        <a:pt x="1666" y="446"/>
                      </a:lnTo>
                      <a:lnTo>
                        <a:pt x="1665" y="439"/>
                      </a:lnTo>
                      <a:lnTo>
                        <a:pt x="1665" y="436"/>
                      </a:lnTo>
                      <a:lnTo>
                        <a:pt x="1662" y="433"/>
                      </a:lnTo>
                      <a:lnTo>
                        <a:pt x="1658" y="433"/>
                      </a:lnTo>
                      <a:lnTo>
                        <a:pt x="1640" y="420"/>
                      </a:lnTo>
                      <a:lnTo>
                        <a:pt x="1627" y="406"/>
                      </a:lnTo>
                      <a:lnTo>
                        <a:pt x="1614" y="390"/>
                      </a:lnTo>
                      <a:lnTo>
                        <a:pt x="1604" y="375"/>
                      </a:lnTo>
                      <a:lnTo>
                        <a:pt x="1593" y="357"/>
                      </a:lnTo>
                      <a:lnTo>
                        <a:pt x="1587" y="339"/>
                      </a:lnTo>
                      <a:lnTo>
                        <a:pt x="1583" y="320"/>
                      </a:lnTo>
                      <a:lnTo>
                        <a:pt x="1580" y="301"/>
                      </a:lnTo>
                      <a:lnTo>
                        <a:pt x="1576" y="289"/>
                      </a:lnTo>
                      <a:lnTo>
                        <a:pt x="1579" y="278"/>
                      </a:lnTo>
                      <a:lnTo>
                        <a:pt x="1585" y="266"/>
                      </a:lnTo>
                      <a:lnTo>
                        <a:pt x="1587" y="256"/>
                      </a:lnTo>
                      <a:lnTo>
                        <a:pt x="1597" y="240"/>
                      </a:lnTo>
                      <a:lnTo>
                        <a:pt x="1608" y="227"/>
                      </a:lnTo>
                      <a:lnTo>
                        <a:pt x="1620" y="213"/>
                      </a:lnTo>
                      <a:lnTo>
                        <a:pt x="1635" y="201"/>
                      </a:lnTo>
                      <a:lnTo>
                        <a:pt x="1648" y="188"/>
                      </a:lnTo>
                      <a:lnTo>
                        <a:pt x="1664" y="178"/>
                      </a:lnTo>
                      <a:lnTo>
                        <a:pt x="1680" y="169"/>
                      </a:lnTo>
                      <a:lnTo>
                        <a:pt x="1696" y="161"/>
                      </a:lnTo>
                      <a:lnTo>
                        <a:pt x="1702" y="151"/>
                      </a:lnTo>
                      <a:lnTo>
                        <a:pt x="1711" y="144"/>
                      </a:lnTo>
                      <a:lnTo>
                        <a:pt x="1717" y="136"/>
                      </a:lnTo>
                      <a:lnTo>
                        <a:pt x="1714" y="127"/>
                      </a:lnTo>
                      <a:lnTo>
                        <a:pt x="1724" y="116"/>
                      </a:lnTo>
                      <a:lnTo>
                        <a:pt x="1734" y="107"/>
                      </a:lnTo>
                      <a:lnTo>
                        <a:pt x="1745" y="96"/>
                      </a:lnTo>
                      <a:lnTo>
                        <a:pt x="1755" y="86"/>
                      </a:lnTo>
                      <a:lnTo>
                        <a:pt x="1766" y="76"/>
                      </a:lnTo>
                      <a:lnTo>
                        <a:pt x="1778" y="67"/>
                      </a:lnTo>
                      <a:lnTo>
                        <a:pt x="1788" y="58"/>
                      </a:lnTo>
                      <a:lnTo>
                        <a:pt x="1800" y="50"/>
                      </a:lnTo>
                      <a:lnTo>
                        <a:pt x="1807" y="48"/>
                      </a:lnTo>
                      <a:lnTo>
                        <a:pt x="1813" y="45"/>
                      </a:lnTo>
                      <a:lnTo>
                        <a:pt x="1820" y="41"/>
                      </a:lnTo>
                      <a:lnTo>
                        <a:pt x="1827" y="38"/>
                      </a:lnTo>
                      <a:lnTo>
                        <a:pt x="1832" y="32"/>
                      </a:lnTo>
                      <a:lnTo>
                        <a:pt x="1839" y="29"/>
                      </a:lnTo>
                      <a:lnTo>
                        <a:pt x="1845" y="26"/>
                      </a:lnTo>
                      <a:lnTo>
                        <a:pt x="1854" y="26"/>
                      </a:lnTo>
                      <a:lnTo>
                        <a:pt x="1860" y="22"/>
                      </a:lnTo>
                      <a:lnTo>
                        <a:pt x="1869" y="21"/>
                      </a:lnTo>
                      <a:lnTo>
                        <a:pt x="1878" y="19"/>
                      </a:lnTo>
                      <a:lnTo>
                        <a:pt x="1887" y="19"/>
                      </a:lnTo>
                      <a:lnTo>
                        <a:pt x="1896" y="17"/>
                      </a:lnTo>
                      <a:lnTo>
                        <a:pt x="1904" y="16"/>
                      </a:lnTo>
                      <a:lnTo>
                        <a:pt x="1912" y="14"/>
                      </a:lnTo>
                      <a:lnTo>
                        <a:pt x="1920" y="11"/>
                      </a:lnTo>
                      <a:lnTo>
                        <a:pt x="1939" y="6"/>
                      </a:lnTo>
                      <a:lnTo>
                        <a:pt x="1958" y="2"/>
                      </a:lnTo>
                      <a:lnTo>
                        <a:pt x="1978" y="0"/>
                      </a:lnTo>
                      <a:lnTo>
                        <a:pt x="1999" y="1"/>
                      </a:lnTo>
                      <a:lnTo>
                        <a:pt x="2018" y="1"/>
                      </a:lnTo>
                      <a:lnTo>
                        <a:pt x="2038" y="5"/>
                      </a:lnTo>
                      <a:lnTo>
                        <a:pt x="2058" y="8"/>
                      </a:lnTo>
                      <a:lnTo>
                        <a:pt x="2077" y="14"/>
                      </a:lnTo>
                      <a:lnTo>
                        <a:pt x="2097" y="16"/>
                      </a:lnTo>
                      <a:lnTo>
                        <a:pt x="2119" y="20"/>
                      </a:lnTo>
                      <a:lnTo>
                        <a:pt x="2140" y="24"/>
                      </a:lnTo>
                      <a:lnTo>
                        <a:pt x="2163" y="31"/>
                      </a:lnTo>
                      <a:lnTo>
                        <a:pt x="2182" y="39"/>
                      </a:lnTo>
                      <a:lnTo>
                        <a:pt x="2200" y="52"/>
                      </a:lnTo>
                      <a:lnTo>
                        <a:pt x="2216" y="68"/>
                      </a:lnTo>
                      <a:lnTo>
                        <a:pt x="2229" y="88"/>
                      </a:lnTo>
                      <a:lnTo>
                        <a:pt x="2235" y="93"/>
                      </a:lnTo>
                      <a:lnTo>
                        <a:pt x="2241" y="99"/>
                      </a:lnTo>
                      <a:lnTo>
                        <a:pt x="2245" y="105"/>
                      </a:lnTo>
                      <a:lnTo>
                        <a:pt x="2250" y="113"/>
                      </a:lnTo>
                      <a:lnTo>
                        <a:pt x="2253" y="119"/>
                      </a:lnTo>
                      <a:lnTo>
                        <a:pt x="2256" y="127"/>
                      </a:lnTo>
                      <a:lnTo>
                        <a:pt x="2259" y="134"/>
                      </a:lnTo>
                      <a:lnTo>
                        <a:pt x="2265" y="142"/>
                      </a:lnTo>
                      <a:lnTo>
                        <a:pt x="2265" y="156"/>
                      </a:lnTo>
                      <a:lnTo>
                        <a:pt x="2268" y="171"/>
                      </a:lnTo>
                      <a:lnTo>
                        <a:pt x="2271" y="185"/>
                      </a:lnTo>
                      <a:lnTo>
                        <a:pt x="2276" y="200"/>
                      </a:lnTo>
                      <a:lnTo>
                        <a:pt x="2279" y="214"/>
                      </a:lnTo>
                      <a:lnTo>
                        <a:pt x="2282" y="229"/>
                      </a:lnTo>
                      <a:lnTo>
                        <a:pt x="2283" y="245"/>
                      </a:lnTo>
                      <a:lnTo>
                        <a:pt x="2282" y="261"/>
                      </a:lnTo>
                      <a:lnTo>
                        <a:pt x="2282" y="274"/>
                      </a:lnTo>
                      <a:lnTo>
                        <a:pt x="2282" y="287"/>
                      </a:lnTo>
                      <a:lnTo>
                        <a:pt x="2281" y="300"/>
                      </a:lnTo>
                      <a:lnTo>
                        <a:pt x="2281" y="314"/>
                      </a:lnTo>
                      <a:lnTo>
                        <a:pt x="2279" y="327"/>
                      </a:lnTo>
                      <a:lnTo>
                        <a:pt x="2276" y="342"/>
                      </a:lnTo>
                      <a:lnTo>
                        <a:pt x="2272" y="354"/>
                      </a:lnTo>
                      <a:lnTo>
                        <a:pt x="2267" y="369"/>
                      </a:lnTo>
                      <a:lnTo>
                        <a:pt x="2263" y="377"/>
                      </a:lnTo>
                      <a:lnTo>
                        <a:pt x="2263" y="387"/>
                      </a:lnTo>
                      <a:lnTo>
                        <a:pt x="2259" y="393"/>
                      </a:lnTo>
                      <a:lnTo>
                        <a:pt x="2253" y="397"/>
                      </a:lnTo>
                      <a:lnTo>
                        <a:pt x="2250" y="405"/>
                      </a:lnTo>
                      <a:lnTo>
                        <a:pt x="2255" y="404"/>
                      </a:lnTo>
                      <a:lnTo>
                        <a:pt x="2260" y="400"/>
                      </a:lnTo>
                      <a:lnTo>
                        <a:pt x="2265" y="394"/>
                      </a:lnTo>
                      <a:lnTo>
                        <a:pt x="2271" y="391"/>
                      </a:lnTo>
                      <a:lnTo>
                        <a:pt x="2279" y="387"/>
                      </a:lnTo>
                      <a:lnTo>
                        <a:pt x="2286" y="383"/>
                      </a:lnTo>
                      <a:lnTo>
                        <a:pt x="2293" y="378"/>
                      </a:lnTo>
                      <a:lnTo>
                        <a:pt x="2301" y="374"/>
                      </a:lnTo>
                      <a:lnTo>
                        <a:pt x="2308" y="368"/>
                      </a:lnTo>
                      <a:lnTo>
                        <a:pt x="2316" y="366"/>
                      </a:lnTo>
                      <a:lnTo>
                        <a:pt x="2325" y="366"/>
                      </a:lnTo>
                      <a:lnTo>
                        <a:pt x="2335" y="369"/>
                      </a:lnTo>
                      <a:lnTo>
                        <a:pt x="2344" y="375"/>
                      </a:lnTo>
                      <a:lnTo>
                        <a:pt x="2353" y="379"/>
                      </a:lnTo>
                      <a:lnTo>
                        <a:pt x="2361" y="381"/>
                      </a:lnTo>
                      <a:lnTo>
                        <a:pt x="2371" y="383"/>
                      </a:lnTo>
                      <a:lnTo>
                        <a:pt x="2379" y="384"/>
                      </a:lnTo>
                      <a:lnTo>
                        <a:pt x="2389" y="388"/>
                      </a:lnTo>
                      <a:lnTo>
                        <a:pt x="2398" y="392"/>
                      </a:lnTo>
                      <a:lnTo>
                        <a:pt x="2406" y="401"/>
                      </a:lnTo>
                      <a:lnTo>
                        <a:pt x="2408" y="408"/>
                      </a:lnTo>
                      <a:lnTo>
                        <a:pt x="2415" y="416"/>
                      </a:lnTo>
                      <a:lnTo>
                        <a:pt x="2421" y="407"/>
                      </a:lnTo>
                      <a:lnTo>
                        <a:pt x="2428" y="401"/>
                      </a:lnTo>
                      <a:lnTo>
                        <a:pt x="2434" y="394"/>
                      </a:lnTo>
                      <a:lnTo>
                        <a:pt x="2442" y="388"/>
                      </a:lnTo>
                      <a:lnTo>
                        <a:pt x="2447" y="380"/>
                      </a:lnTo>
                      <a:lnTo>
                        <a:pt x="2453" y="374"/>
                      </a:lnTo>
                      <a:lnTo>
                        <a:pt x="2459" y="366"/>
                      </a:lnTo>
                      <a:lnTo>
                        <a:pt x="2465" y="360"/>
                      </a:lnTo>
                      <a:lnTo>
                        <a:pt x="2496" y="337"/>
                      </a:lnTo>
                      <a:lnTo>
                        <a:pt x="2529" y="317"/>
                      </a:lnTo>
                      <a:lnTo>
                        <a:pt x="2561" y="296"/>
                      </a:lnTo>
                      <a:lnTo>
                        <a:pt x="2593" y="278"/>
                      </a:lnTo>
                      <a:lnTo>
                        <a:pt x="2625" y="260"/>
                      </a:lnTo>
                      <a:lnTo>
                        <a:pt x="2660" y="245"/>
                      </a:lnTo>
                      <a:lnTo>
                        <a:pt x="2695" y="233"/>
                      </a:lnTo>
                      <a:lnTo>
                        <a:pt x="2731" y="225"/>
                      </a:lnTo>
                      <a:lnTo>
                        <a:pt x="2745" y="220"/>
                      </a:lnTo>
                      <a:lnTo>
                        <a:pt x="2760" y="217"/>
                      </a:lnTo>
                      <a:lnTo>
                        <a:pt x="2774" y="214"/>
                      </a:lnTo>
                      <a:lnTo>
                        <a:pt x="2789" y="211"/>
                      </a:lnTo>
                      <a:lnTo>
                        <a:pt x="2803" y="207"/>
                      </a:lnTo>
                      <a:lnTo>
                        <a:pt x="2819" y="205"/>
                      </a:lnTo>
                      <a:lnTo>
                        <a:pt x="2833" y="203"/>
                      </a:lnTo>
                      <a:lnTo>
                        <a:pt x="2849" y="203"/>
                      </a:lnTo>
                      <a:lnTo>
                        <a:pt x="2846" y="197"/>
                      </a:lnTo>
                      <a:lnTo>
                        <a:pt x="2846" y="192"/>
                      </a:lnTo>
                      <a:lnTo>
                        <a:pt x="2845" y="188"/>
                      </a:lnTo>
                      <a:lnTo>
                        <a:pt x="2844" y="184"/>
                      </a:lnTo>
                      <a:lnTo>
                        <a:pt x="2846" y="185"/>
                      </a:lnTo>
                      <a:lnTo>
                        <a:pt x="2848" y="184"/>
                      </a:lnTo>
                      <a:lnTo>
                        <a:pt x="2842" y="176"/>
                      </a:lnTo>
                      <a:lnTo>
                        <a:pt x="2843" y="178"/>
                      </a:lnTo>
                      <a:lnTo>
                        <a:pt x="2846" y="172"/>
                      </a:lnTo>
                      <a:lnTo>
                        <a:pt x="2848" y="162"/>
                      </a:lnTo>
                      <a:lnTo>
                        <a:pt x="2848" y="157"/>
                      </a:lnTo>
                      <a:lnTo>
                        <a:pt x="2850" y="153"/>
                      </a:lnTo>
                      <a:lnTo>
                        <a:pt x="2853" y="149"/>
                      </a:lnTo>
                      <a:lnTo>
                        <a:pt x="2860" y="147"/>
                      </a:lnTo>
                      <a:lnTo>
                        <a:pt x="2864" y="139"/>
                      </a:lnTo>
                      <a:lnTo>
                        <a:pt x="2871" y="132"/>
                      </a:lnTo>
                      <a:lnTo>
                        <a:pt x="2877" y="126"/>
                      </a:lnTo>
                      <a:lnTo>
                        <a:pt x="2885" y="123"/>
                      </a:lnTo>
                      <a:lnTo>
                        <a:pt x="2891" y="117"/>
                      </a:lnTo>
                      <a:lnTo>
                        <a:pt x="2900" y="114"/>
                      </a:lnTo>
                      <a:lnTo>
                        <a:pt x="2907" y="111"/>
                      </a:lnTo>
                      <a:lnTo>
                        <a:pt x="2916" y="108"/>
                      </a:lnTo>
                      <a:lnTo>
                        <a:pt x="2929" y="104"/>
                      </a:lnTo>
                      <a:lnTo>
                        <a:pt x="2941" y="105"/>
                      </a:lnTo>
                      <a:lnTo>
                        <a:pt x="2953" y="108"/>
                      </a:lnTo>
                      <a:lnTo>
                        <a:pt x="2965" y="112"/>
                      </a:lnTo>
                      <a:lnTo>
                        <a:pt x="2976" y="116"/>
                      </a:lnTo>
                      <a:lnTo>
                        <a:pt x="2988" y="124"/>
                      </a:lnTo>
                      <a:lnTo>
                        <a:pt x="2997" y="130"/>
                      </a:lnTo>
                      <a:lnTo>
                        <a:pt x="3008" y="140"/>
                      </a:lnTo>
                      <a:lnTo>
                        <a:pt x="3011" y="146"/>
                      </a:lnTo>
                      <a:lnTo>
                        <a:pt x="3015" y="155"/>
                      </a:lnTo>
                      <a:lnTo>
                        <a:pt x="3020" y="162"/>
                      </a:lnTo>
                      <a:lnTo>
                        <a:pt x="3024" y="171"/>
                      </a:lnTo>
                      <a:lnTo>
                        <a:pt x="3030" y="183"/>
                      </a:lnTo>
                      <a:lnTo>
                        <a:pt x="3035" y="196"/>
                      </a:lnTo>
                      <a:lnTo>
                        <a:pt x="3036" y="210"/>
                      </a:lnTo>
                      <a:lnTo>
                        <a:pt x="3036" y="224"/>
                      </a:lnTo>
                      <a:lnTo>
                        <a:pt x="3034" y="236"/>
                      </a:lnTo>
                      <a:lnTo>
                        <a:pt x="3032" y="250"/>
                      </a:lnTo>
                      <a:lnTo>
                        <a:pt x="3028" y="264"/>
                      </a:lnTo>
                      <a:lnTo>
                        <a:pt x="3027" y="278"/>
                      </a:lnTo>
                      <a:lnTo>
                        <a:pt x="3029" y="276"/>
                      </a:lnTo>
                      <a:lnTo>
                        <a:pt x="3032" y="275"/>
                      </a:lnTo>
                      <a:lnTo>
                        <a:pt x="3027" y="279"/>
                      </a:lnTo>
                      <a:lnTo>
                        <a:pt x="3029" y="281"/>
                      </a:lnTo>
                      <a:lnTo>
                        <a:pt x="3024" y="283"/>
                      </a:lnTo>
                      <a:lnTo>
                        <a:pt x="3027" y="287"/>
                      </a:lnTo>
                      <a:lnTo>
                        <a:pt x="3024" y="288"/>
                      </a:lnTo>
                      <a:lnTo>
                        <a:pt x="3020" y="291"/>
                      </a:lnTo>
                      <a:lnTo>
                        <a:pt x="3015" y="294"/>
                      </a:lnTo>
                      <a:lnTo>
                        <a:pt x="3012" y="300"/>
                      </a:lnTo>
                      <a:lnTo>
                        <a:pt x="3009" y="305"/>
                      </a:lnTo>
                      <a:lnTo>
                        <a:pt x="3004" y="312"/>
                      </a:lnTo>
                      <a:lnTo>
                        <a:pt x="2999" y="319"/>
                      </a:lnTo>
                      <a:lnTo>
                        <a:pt x="3003" y="328"/>
                      </a:lnTo>
                      <a:lnTo>
                        <a:pt x="3028" y="353"/>
                      </a:lnTo>
                      <a:lnTo>
                        <a:pt x="3055" y="380"/>
                      </a:lnTo>
                      <a:lnTo>
                        <a:pt x="3080" y="408"/>
                      </a:lnTo>
                      <a:lnTo>
                        <a:pt x="3106" y="438"/>
                      </a:lnTo>
                      <a:lnTo>
                        <a:pt x="3128" y="467"/>
                      </a:lnTo>
                      <a:lnTo>
                        <a:pt x="3151" y="497"/>
                      </a:lnTo>
                      <a:lnTo>
                        <a:pt x="3172" y="527"/>
                      </a:lnTo>
                      <a:lnTo>
                        <a:pt x="3193" y="559"/>
                      </a:lnTo>
                      <a:lnTo>
                        <a:pt x="3204" y="582"/>
                      </a:lnTo>
                      <a:lnTo>
                        <a:pt x="3215" y="608"/>
                      </a:lnTo>
                      <a:lnTo>
                        <a:pt x="3222" y="633"/>
                      </a:lnTo>
                      <a:lnTo>
                        <a:pt x="3230" y="660"/>
                      </a:lnTo>
                      <a:lnTo>
                        <a:pt x="3234" y="686"/>
                      </a:lnTo>
                      <a:lnTo>
                        <a:pt x="3237" y="714"/>
                      </a:lnTo>
                      <a:lnTo>
                        <a:pt x="3237" y="741"/>
                      </a:lnTo>
                      <a:lnTo>
                        <a:pt x="3236" y="769"/>
                      </a:lnTo>
                      <a:lnTo>
                        <a:pt x="3230" y="808"/>
                      </a:lnTo>
                      <a:lnTo>
                        <a:pt x="3221" y="848"/>
                      </a:lnTo>
                      <a:lnTo>
                        <a:pt x="3208" y="887"/>
                      </a:lnTo>
                      <a:lnTo>
                        <a:pt x="3193" y="924"/>
                      </a:lnTo>
                      <a:lnTo>
                        <a:pt x="3174" y="960"/>
                      </a:lnTo>
                      <a:lnTo>
                        <a:pt x="3152" y="995"/>
                      </a:lnTo>
                      <a:lnTo>
                        <a:pt x="3127" y="1027"/>
                      </a:lnTo>
                      <a:lnTo>
                        <a:pt x="3099" y="1060"/>
                      </a:lnTo>
                      <a:lnTo>
                        <a:pt x="3072" y="1083"/>
                      </a:lnTo>
                      <a:lnTo>
                        <a:pt x="3069" y="1096"/>
                      </a:lnTo>
                      <a:lnTo>
                        <a:pt x="3064" y="1108"/>
                      </a:lnTo>
                      <a:lnTo>
                        <a:pt x="3055" y="1119"/>
                      </a:lnTo>
                      <a:lnTo>
                        <a:pt x="3047" y="1129"/>
                      </a:lnTo>
                      <a:lnTo>
                        <a:pt x="3035" y="1138"/>
                      </a:lnTo>
                      <a:lnTo>
                        <a:pt x="3024" y="1146"/>
                      </a:lnTo>
                      <a:lnTo>
                        <a:pt x="3013" y="1155"/>
                      </a:lnTo>
                      <a:lnTo>
                        <a:pt x="3004" y="1165"/>
                      </a:lnTo>
                      <a:lnTo>
                        <a:pt x="2990" y="1171"/>
                      </a:lnTo>
                      <a:lnTo>
                        <a:pt x="2977" y="1178"/>
                      </a:lnTo>
                      <a:lnTo>
                        <a:pt x="2962" y="1181"/>
                      </a:lnTo>
                      <a:lnTo>
                        <a:pt x="2947" y="1184"/>
                      </a:lnTo>
                      <a:lnTo>
                        <a:pt x="2931" y="1183"/>
                      </a:lnTo>
                      <a:lnTo>
                        <a:pt x="2915" y="1182"/>
                      </a:lnTo>
                      <a:lnTo>
                        <a:pt x="2900" y="1178"/>
                      </a:lnTo>
                      <a:lnTo>
                        <a:pt x="2887" y="1173"/>
                      </a:lnTo>
                      <a:lnTo>
                        <a:pt x="2874" y="1176"/>
                      </a:lnTo>
                      <a:lnTo>
                        <a:pt x="2861" y="1181"/>
                      </a:lnTo>
                      <a:lnTo>
                        <a:pt x="2849" y="1184"/>
                      </a:lnTo>
                      <a:lnTo>
                        <a:pt x="2837" y="1189"/>
                      </a:lnTo>
                      <a:lnTo>
                        <a:pt x="2826" y="1194"/>
                      </a:lnTo>
                      <a:lnTo>
                        <a:pt x="2814" y="1198"/>
                      </a:lnTo>
                      <a:lnTo>
                        <a:pt x="2801" y="1201"/>
                      </a:lnTo>
                      <a:lnTo>
                        <a:pt x="2789" y="1204"/>
                      </a:lnTo>
                      <a:lnTo>
                        <a:pt x="2791" y="1212"/>
                      </a:lnTo>
                      <a:lnTo>
                        <a:pt x="2792" y="1220"/>
                      </a:lnTo>
                      <a:lnTo>
                        <a:pt x="2792" y="1228"/>
                      </a:lnTo>
                      <a:lnTo>
                        <a:pt x="2792" y="1237"/>
                      </a:lnTo>
                      <a:lnTo>
                        <a:pt x="2791" y="1244"/>
                      </a:lnTo>
                      <a:lnTo>
                        <a:pt x="2791" y="1253"/>
                      </a:lnTo>
                      <a:lnTo>
                        <a:pt x="2791" y="1262"/>
                      </a:lnTo>
                      <a:lnTo>
                        <a:pt x="2793" y="1273"/>
                      </a:lnTo>
                      <a:lnTo>
                        <a:pt x="2791" y="1302"/>
                      </a:lnTo>
                      <a:lnTo>
                        <a:pt x="2787" y="1331"/>
                      </a:lnTo>
                      <a:lnTo>
                        <a:pt x="2781" y="1359"/>
                      </a:lnTo>
                      <a:lnTo>
                        <a:pt x="2773" y="1388"/>
                      </a:lnTo>
                      <a:lnTo>
                        <a:pt x="2762" y="1415"/>
                      </a:lnTo>
                      <a:lnTo>
                        <a:pt x="2753" y="1444"/>
                      </a:lnTo>
                      <a:lnTo>
                        <a:pt x="2743" y="1471"/>
                      </a:lnTo>
                      <a:lnTo>
                        <a:pt x="2733" y="1499"/>
                      </a:lnTo>
                      <a:lnTo>
                        <a:pt x="2702" y="1550"/>
                      </a:lnTo>
                      <a:lnTo>
                        <a:pt x="2700" y="1560"/>
                      </a:lnTo>
                      <a:lnTo>
                        <a:pt x="2699" y="1570"/>
                      </a:lnTo>
                      <a:lnTo>
                        <a:pt x="2698" y="1580"/>
                      </a:lnTo>
                      <a:lnTo>
                        <a:pt x="2697" y="1590"/>
                      </a:lnTo>
                      <a:lnTo>
                        <a:pt x="2695" y="1598"/>
                      </a:lnTo>
                      <a:lnTo>
                        <a:pt x="2693" y="1608"/>
                      </a:lnTo>
                      <a:lnTo>
                        <a:pt x="2690" y="1618"/>
                      </a:lnTo>
                      <a:lnTo>
                        <a:pt x="2688" y="1629"/>
                      </a:lnTo>
                      <a:lnTo>
                        <a:pt x="2708" y="1637"/>
                      </a:lnTo>
                      <a:lnTo>
                        <a:pt x="2728" y="1645"/>
                      </a:lnTo>
                      <a:lnTo>
                        <a:pt x="2747" y="1655"/>
                      </a:lnTo>
                      <a:lnTo>
                        <a:pt x="2768" y="1666"/>
                      </a:lnTo>
                      <a:lnTo>
                        <a:pt x="2786" y="1675"/>
                      </a:lnTo>
                      <a:lnTo>
                        <a:pt x="2805" y="1688"/>
                      </a:lnTo>
                      <a:lnTo>
                        <a:pt x="2823" y="1700"/>
                      </a:lnTo>
                      <a:lnTo>
                        <a:pt x="2843" y="1715"/>
                      </a:lnTo>
                      <a:lnTo>
                        <a:pt x="2878" y="1758"/>
                      </a:lnTo>
                      <a:lnTo>
                        <a:pt x="2908" y="1806"/>
                      </a:lnTo>
                      <a:lnTo>
                        <a:pt x="2931" y="1858"/>
                      </a:lnTo>
                      <a:lnTo>
                        <a:pt x="2948" y="1913"/>
                      </a:lnTo>
                      <a:lnTo>
                        <a:pt x="2958" y="1968"/>
                      </a:lnTo>
                      <a:lnTo>
                        <a:pt x="2962" y="2026"/>
                      </a:lnTo>
                      <a:lnTo>
                        <a:pt x="2959" y="2083"/>
                      </a:lnTo>
                      <a:lnTo>
                        <a:pt x="2950" y="2141"/>
                      </a:lnTo>
                      <a:lnTo>
                        <a:pt x="2949" y="2168"/>
                      </a:lnTo>
                      <a:lnTo>
                        <a:pt x="2949" y="2196"/>
                      </a:lnTo>
                      <a:lnTo>
                        <a:pt x="2949" y="2223"/>
                      </a:lnTo>
                      <a:lnTo>
                        <a:pt x="2949" y="2251"/>
                      </a:lnTo>
                      <a:lnTo>
                        <a:pt x="2946" y="2276"/>
                      </a:lnTo>
                      <a:lnTo>
                        <a:pt x="2939" y="2302"/>
                      </a:lnTo>
                      <a:lnTo>
                        <a:pt x="2929" y="2327"/>
                      </a:lnTo>
                      <a:lnTo>
                        <a:pt x="2912" y="2353"/>
                      </a:lnTo>
                      <a:lnTo>
                        <a:pt x="2902" y="2364"/>
                      </a:lnTo>
                      <a:lnTo>
                        <a:pt x="2892" y="2377"/>
                      </a:lnTo>
                      <a:lnTo>
                        <a:pt x="2880" y="2388"/>
                      </a:lnTo>
                      <a:lnTo>
                        <a:pt x="2868" y="2399"/>
                      </a:lnTo>
                      <a:lnTo>
                        <a:pt x="2855" y="2407"/>
                      </a:lnTo>
                      <a:lnTo>
                        <a:pt x="2842" y="2414"/>
                      </a:lnTo>
                      <a:lnTo>
                        <a:pt x="2827" y="2418"/>
                      </a:lnTo>
                      <a:lnTo>
                        <a:pt x="2812" y="2421"/>
                      </a:lnTo>
                      <a:lnTo>
                        <a:pt x="2799" y="2427"/>
                      </a:lnTo>
                      <a:lnTo>
                        <a:pt x="2786" y="2430"/>
                      </a:lnTo>
                      <a:lnTo>
                        <a:pt x="2773" y="2431"/>
                      </a:lnTo>
                      <a:lnTo>
                        <a:pt x="2760" y="2430"/>
                      </a:lnTo>
                      <a:lnTo>
                        <a:pt x="2747" y="2426"/>
                      </a:lnTo>
                      <a:lnTo>
                        <a:pt x="2734" y="2421"/>
                      </a:lnTo>
                      <a:lnTo>
                        <a:pt x="2723" y="2415"/>
                      </a:lnTo>
                      <a:lnTo>
                        <a:pt x="2713" y="2410"/>
                      </a:lnTo>
                      <a:lnTo>
                        <a:pt x="2710" y="2402"/>
                      </a:lnTo>
                      <a:lnTo>
                        <a:pt x="2705" y="2398"/>
                      </a:lnTo>
                      <a:lnTo>
                        <a:pt x="2700" y="2393"/>
                      </a:lnTo>
                      <a:lnTo>
                        <a:pt x="2696" y="2390"/>
                      </a:lnTo>
                      <a:lnTo>
                        <a:pt x="2689" y="2386"/>
                      </a:lnTo>
                      <a:lnTo>
                        <a:pt x="2685" y="2383"/>
                      </a:lnTo>
                      <a:lnTo>
                        <a:pt x="2680" y="2377"/>
                      </a:lnTo>
                      <a:lnTo>
                        <a:pt x="2678" y="2372"/>
                      </a:lnTo>
                      <a:lnTo>
                        <a:pt x="2656" y="2342"/>
                      </a:lnTo>
                      <a:lnTo>
                        <a:pt x="2642" y="2310"/>
                      </a:lnTo>
                      <a:lnTo>
                        <a:pt x="2634" y="2276"/>
                      </a:lnTo>
                      <a:lnTo>
                        <a:pt x="2630" y="2242"/>
                      </a:lnTo>
                      <a:lnTo>
                        <a:pt x="2630" y="2207"/>
                      </a:lnTo>
                      <a:lnTo>
                        <a:pt x="2634" y="2171"/>
                      </a:lnTo>
                      <a:lnTo>
                        <a:pt x="2639" y="2137"/>
                      </a:lnTo>
                      <a:lnTo>
                        <a:pt x="2648" y="2105"/>
                      </a:lnTo>
                      <a:lnTo>
                        <a:pt x="2653" y="2093"/>
                      </a:lnTo>
                      <a:lnTo>
                        <a:pt x="2658" y="2081"/>
                      </a:lnTo>
                      <a:lnTo>
                        <a:pt x="2664" y="2069"/>
                      </a:lnTo>
                      <a:lnTo>
                        <a:pt x="2670" y="2059"/>
                      </a:lnTo>
                      <a:lnTo>
                        <a:pt x="2675" y="2046"/>
                      </a:lnTo>
                      <a:lnTo>
                        <a:pt x="2682" y="2035"/>
                      </a:lnTo>
                      <a:lnTo>
                        <a:pt x="2688" y="2025"/>
                      </a:lnTo>
                      <a:lnTo>
                        <a:pt x="2697" y="2016"/>
                      </a:lnTo>
                      <a:lnTo>
                        <a:pt x="2684" y="1996"/>
                      </a:lnTo>
                      <a:lnTo>
                        <a:pt x="2669" y="1981"/>
                      </a:lnTo>
                      <a:lnTo>
                        <a:pt x="2652" y="1970"/>
                      </a:lnTo>
                      <a:lnTo>
                        <a:pt x="2635" y="1962"/>
                      </a:lnTo>
                      <a:lnTo>
                        <a:pt x="2614" y="1955"/>
                      </a:lnTo>
                      <a:lnTo>
                        <a:pt x="2595" y="1949"/>
                      </a:lnTo>
                      <a:lnTo>
                        <a:pt x="2576" y="1945"/>
                      </a:lnTo>
                      <a:lnTo>
                        <a:pt x="2556" y="1942"/>
                      </a:lnTo>
                      <a:lnTo>
                        <a:pt x="2545" y="1959"/>
                      </a:lnTo>
                      <a:lnTo>
                        <a:pt x="2532" y="1975"/>
                      </a:lnTo>
                      <a:lnTo>
                        <a:pt x="2516" y="1988"/>
                      </a:lnTo>
                      <a:lnTo>
                        <a:pt x="2501" y="1999"/>
                      </a:lnTo>
                      <a:lnTo>
                        <a:pt x="2482" y="2008"/>
                      </a:lnTo>
                      <a:lnTo>
                        <a:pt x="2465" y="2018"/>
                      </a:lnTo>
                      <a:lnTo>
                        <a:pt x="2448" y="2029"/>
                      </a:lnTo>
                      <a:lnTo>
                        <a:pt x="2433" y="2040"/>
                      </a:lnTo>
                      <a:lnTo>
                        <a:pt x="2431" y="2039"/>
                      </a:lnTo>
                      <a:lnTo>
                        <a:pt x="2423" y="2050"/>
                      </a:lnTo>
                      <a:lnTo>
                        <a:pt x="2419" y="2062"/>
                      </a:lnTo>
                      <a:lnTo>
                        <a:pt x="2416" y="2075"/>
                      </a:lnTo>
                      <a:lnTo>
                        <a:pt x="2415" y="2088"/>
                      </a:lnTo>
                      <a:lnTo>
                        <a:pt x="2413" y="2100"/>
                      </a:lnTo>
                      <a:lnTo>
                        <a:pt x="2412" y="2113"/>
                      </a:lnTo>
                      <a:lnTo>
                        <a:pt x="2411" y="2126"/>
                      </a:lnTo>
                      <a:lnTo>
                        <a:pt x="2408" y="2139"/>
                      </a:lnTo>
                      <a:lnTo>
                        <a:pt x="2404" y="2152"/>
                      </a:lnTo>
                      <a:lnTo>
                        <a:pt x="2400" y="2165"/>
                      </a:lnTo>
                      <a:lnTo>
                        <a:pt x="2394" y="2178"/>
                      </a:lnTo>
                      <a:lnTo>
                        <a:pt x="2390" y="2191"/>
                      </a:lnTo>
                      <a:lnTo>
                        <a:pt x="2384" y="2203"/>
                      </a:lnTo>
                      <a:lnTo>
                        <a:pt x="2378" y="2216"/>
                      </a:lnTo>
                      <a:lnTo>
                        <a:pt x="2373" y="2229"/>
                      </a:lnTo>
                      <a:lnTo>
                        <a:pt x="2369" y="2242"/>
                      </a:lnTo>
                      <a:lnTo>
                        <a:pt x="2362" y="2258"/>
                      </a:lnTo>
                      <a:lnTo>
                        <a:pt x="2356" y="2274"/>
                      </a:lnTo>
                      <a:lnTo>
                        <a:pt x="2349" y="2290"/>
                      </a:lnTo>
                      <a:lnTo>
                        <a:pt x="2344" y="2307"/>
                      </a:lnTo>
                      <a:lnTo>
                        <a:pt x="2338" y="2323"/>
                      </a:lnTo>
                      <a:lnTo>
                        <a:pt x="2331" y="2339"/>
                      </a:lnTo>
                      <a:lnTo>
                        <a:pt x="2325" y="2355"/>
                      </a:lnTo>
                      <a:lnTo>
                        <a:pt x="2319" y="2372"/>
                      </a:lnTo>
                      <a:lnTo>
                        <a:pt x="2323" y="2378"/>
                      </a:lnTo>
                      <a:lnTo>
                        <a:pt x="2320" y="2377"/>
                      </a:lnTo>
                      <a:lnTo>
                        <a:pt x="2319" y="2378"/>
                      </a:lnTo>
                      <a:lnTo>
                        <a:pt x="2319" y="2381"/>
                      </a:lnTo>
                      <a:lnTo>
                        <a:pt x="2315" y="2390"/>
                      </a:lnTo>
                      <a:lnTo>
                        <a:pt x="2312" y="2402"/>
                      </a:lnTo>
                      <a:lnTo>
                        <a:pt x="2308" y="2413"/>
                      </a:lnTo>
                      <a:lnTo>
                        <a:pt x="2304" y="2425"/>
                      </a:lnTo>
                      <a:lnTo>
                        <a:pt x="2301" y="2435"/>
                      </a:lnTo>
                      <a:lnTo>
                        <a:pt x="2298" y="2447"/>
                      </a:lnTo>
                      <a:lnTo>
                        <a:pt x="2295" y="2458"/>
                      </a:lnTo>
                      <a:lnTo>
                        <a:pt x="2293" y="2470"/>
                      </a:lnTo>
                      <a:lnTo>
                        <a:pt x="2318" y="2474"/>
                      </a:lnTo>
                      <a:lnTo>
                        <a:pt x="2345" y="2481"/>
                      </a:lnTo>
                      <a:lnTo>
                        <a:pt x="2370" y="2490"/>
                      </a:lnTo>
                      <a:lnTo>
                        <a:pt x="2396" y="2501"/>
                      </a:lnTo>
                      <a:lnTo>
                        <a:pt x="2419" y="2513"/>
                      </a:lnTo>
                      <a:lnTo>
                        <a:pt x="2443" y="2527"/>
                      </a:lnTo>
                      <a:lnTo>
                        <a:pt x="2466" y="2542"/>
                      </a:lnTo>
                      <a:lnTo>
                        <a:pt x="2491" y="2558"/>
                      </a:lnTo>
                      <a:lnTo>
                        <a:pt x="2509" y="2574"/>
                      </a:lnTo>
                      <a:lnTo>
                        <a:pt x="2525" y="2592"/>
                      </a:lnTo>
                      <a:lnTo>
                        <a:pt x="2538" y="2611"/>
                      </a:lnTo>
                      <a:lnTo>
                        <a:pt x="2549" y="2634"/>
                      </a:lnTo>
                      <a:lnTo>
                        <a:pt x="2555" y="2656"/>
                      </a:lnTo>
                      <a:lnTo>
                        <a:pt x="2559" y="2680"/>
                      </a:lnTo>
                      <a:lnTo>
                        <a:pt x="2559" y="2706"/>
                      </a:lnTo>
                      <a:lnTo>
                        <a:pt x="2555" y="2733"/>
                      </a:lnTo>
                      <a:lnTo>
                        <a:pt x="2547" y="2745"/>
                      </a:lnTo>
                      <a:lnTo>
                        <a:pt x="2538" y="2757"/>
                      </a:lnTo>
                      <a:lnTo>
                        <a:pt x="2527" y="2767"/>
                      </a:lnTo>
                      <a:lnTo>
                        <a:pt x="2516" y="2777"/>
                      </a:lnTo>
                      <a:lnTo>
                        <a:pt x="2502" y="2783"/>
                      </a:lnTo>
                      <a:lnTo>
                        <a:pt x="2488" y="2789"/>
                      </a:lnTo>
                      <a:lnTo>
                        <a:pt x="2474" y="2795"/>
                      </a:lnTo>
                      <a:lnTo>
                        <a:pt x="2461" y="2800"/>
                      </a:lnTo>
                      <a:lnTo>
                        <a:pt x="2442" y="2797"/>
                      </a:lnTo>
                      <a:lnTo>
                        <a:pt x="2424" y="2799"/>
                      </a:lnTo>
                      <a:lnTo>
                        <a:pt x="2408" y="2803"/>
                      </a:lnTo>
                      <a:lnTo>
                        <a:pt x="2392" y="2810"/>
                      </a:lnTo>
                      <a:lnTo>
                        <a:pt x="2375" y="2814"/>
                      </a:lnTo>
                      <a:lnTo>
                        <a:pt x="2359" y="2819"/>
                      </a:lnTo>
                      <a:lnTo>
                        <a:pt x="2341" y="2823"/>
                      </a:lnTo>
                      <a:lnTo>
                        <a:pt x="2323" y="2824"/>
                      </a:lnTo>
                      <a:lnTo>
                        <a:pt x="2313" y="2823"/>
                      </a:lnTo>
                      <a:lnTo>
                        <a:pt x="2303" y="2824"/>
                      </a:lnTo>
                      <a:lnTo>
                        <a:pt x="2295" y="2827"/>
                      </a:lnTo>
                      <a:lnTo>
                        <a:pt x="2287" y="2831"/>
                      </a:lnTo>
                      <a:lnTo>
                        <a:pt x="2278" y="2836"/>
                      </a:lnTo>
                      <a:lnTo>
                        <a:pt x="2270" y="2840"/>
                      </a:lnTo>
                      <a:lnTo>
                        <a:pt x="2260" y="2843"/>
                      </a:lnTo>
                      <a:lnTo>
                        <a:pt x="2253" y="2846"/>
                      </a:lnTo>
                      <a:lnTo>
                        <a:pt x="2211" y="2851"/>
                      </a:lnTo>
                      <a:lnTo>
                        <a:pt x="2169" y="2854"/>
                      </a:lnTo>
                      <a:lnTo>
                        <a:pt x="2127" y="2854"/>
                      </a:lnTo>
                      <a:lnTo>
                        <a:pt x="2087" y="2854"/>
                      </a:lnTo>
                      <a:lnTo>
                        <a:pt x="2046" y="2848"/>
                      </a:lnTo>
                      <a:lnTo>
                        <a:pt x="2007" y="2841"/>
                      </a:lnTo>
                      <a:lnTo>
                        <a:pt x="1969" y="2830"/>
                      </a:lnTo>
                      <a:lnTo>
                        <a:pt x="1932" y="2816"/>
                      </a:lnTo>
                      <a:lnTo>
                        <a:pt x="1926" y="2810"/>
                      </a:lnTo>
                      <a:lnTo>
                        <a:pt x="1919" y="2804"/>
                      </a:lnTo>
                      <a:lnTo>
                        <a:pt x="1914" y="2799"/>
                      </a:lnTo>
                      <a:lnTo>
                        <a:pt x="1909" y="2794"/>
                      </a:lnTo>
                      <a:lnTo>
                        <a:pt x="1902" y="2787"/>
                      </a:lnTo>
                      <a:lnTo>
                        <a:pt x="1897" y="2782"/>
                      </a:lnTo>
                      <a:lnTo>
                        <a:pt x="1891" y="2775"/>
                      </a:lnTo>
                      <a:lnTo>
                        <a:pt x="1888" y="2770"/>
                      </a:lnTo>
                      <a:lnTo>
                        <a:pt x="1881" y="2751"/>
                      </a:lnTo>
                      <a:lnTo>
                        <a:pt x="1878" y="2733"/>
                      </a:lnTo>
                      <a:lnTo>
                        <a:pt x="1874" y="2712"/>
                      </a:lnTo>
                      <a:lnTo>
                        <a:pt x="1874" y="2692"/>
                      </a:lnTo>
                      <a:lnTo>
                        <a:pt x="1873" y="2670"/>
                      </a:lnTo>
                      <a:lnTo>
                        <a:pt x="1873" y="2649"/>
                      </a:lnTo>
                      <a:lnTo>
                        <a:pt x="1872" y="2628"/>
                      </a:lnTo>
                      <a:lnTo>
                        <a:pt x="1871" y="2609"/>
                      </a:lnTo>
                      <a:lnTo>
                        <a:pt x="1878" y="2553"/>
                      </a:lnTo>
                      <a:lnTo>
                        <a:pt x="1887" y="2498"/>
                      </a:lnTo>
                      <a:lnTo>
                        <a:pt x="1899" y="2443"/>
                      </a:lnTo>
                      <a:lnTo>
                        <a:pt x="1913" y="2389"/>
                      </a:lnTo>
                      <a:lnTo>
                        <a:pt x="1928" y="2334"/>
                      </a:lnTo>
                      <a:lnTo>
                        <a:pt x="1945" y="2282"/>
                      </a:lnTo>
                      <a:lnTo>
                        <a:pt x="1964" y="2230"/>
                      </a:lnTo>
                      <a:lnTo>
                        <a:pt x="1986" y="2179"/>
                      </a:lnTo>
                      <a:lnTo>
                        <a:pt x="1983" y="2176"/>
                      </a:lnTo>
                      <a:lnTo>
                        <a:pt x="1949" y="2187"/>
                      </a:lnTo>
                      <a:lnTo>
                        <a:pt x="1916" y="2199"/>
                      </a:lnTo>
                      <a:lnTo>
                        <a:pt x="1883" y="2209"/>
                      </a:lnTo>
                      <a:lnTo>
                        <a:pt x="1850" y="2220"/>
                      </a:lnTo>
                      <a:lnTo>
                        <a:pt x="1815" y="2228"/>
                      </a:lnTo>
                      <a:lnTo>
                        <a:pt x="1781" y="2237"/>
                      </a:lnTo>
                      <a:lnTo>
                        <a:pt x="1747" y="2244"/>
                      </a:lnTo>
                      <a:lnTo>
                        <a:pt x="1712" y="2252"/>
                      </a:lnTo>
                      <a:lnTo>
                        <a:pt x="1678" y="2260"/>
                      </a:lnTo>
                      <a:lnTo>
                        <a:pt x="1644" y="2268"/>
                      </a:lnTo>
                      <a:lnTo>
                        <a:pt x="1609" y="2274"/>
                      </a:lnTo>
                      <a:lnTo>
                        <a:pt x="1575" y="2281"/>
                      </a:lnTo>
                      <a:lnTo>
                        <a:pt x="1540" y="2284"/>
                      </a:lnTo>
                      <a:lnTo>
                        <a:pt x="1505" y="2287"/>
                      </a:lnTo>
                      <a:lnTo>
                        <a:pt x="1471" y="2289"/>
                      </a:lnTo>
                      <a:lnTo>
                        <a:pt x="1438" y="2290"/>
                      </a:lnTo>
                      <a:lnTo>
                        <a:pt x="1418" y="2286"/>
                      </a:lnTo>
                      <a:lnTo>
                        <a:pt x="1399" y="2283"/>
                      </a:lnTo>
                      <a:lnTo>
                        <a:pt x="1380" y="2279"/>
                      </a:lnTo>
                      <a:lnTo>
                        <a:pt x="1362" y="2274"/>
                      </a:lnTo>
                      <a:lnTo>
                        <a:pt x="1342" y="2269"/>
                      </a:lnTo>
                      <a:lnTo>
                        <a:pt x="1325" y="2265"/>
                      </a:lnTo>
                      <a:lnTo>
                        <a:pt x="1306" y="2259"/>
                      </a:lnTo>
                      <a:lnTo>
                        <a:pt x="1289" y="2256"/>
                      </a:lnTo>
                      <a:lnTo>
                        <a:pt x="1287" y="2263"/>
                      </a:lnTo>
                      <a:lnTo>
                        <a:pt x="1287" y="2269"/>
                      </a:lnTo>
                      <a:lnTo>
                        <a:pt x="1288" y="2275"/>
                      </a:lnTo>
                      <a:lnTo>
                        <a:pt x="1292" y="2283"/>
                      </a:lnTo>
                      <a:lnTo>
                        <a:pt x="1292" y="2281"/>
                      </a:lnTo>
                      <a:lnTo>
                        <a:pt x="1295" y="2281"/>
                      </a:lnTo>
                      <a:lnTo>
                        <a:pt x="1295" y="2283"/>
                      </a:lnTo>
                      <a:lnTo>
                        <a:pt x="1294" y="2283"/>
                      </a:lnTo>
                      <a:lnTo>
                        <a:pt x="1302" y="2305"/>
                      </a:lnTo>
                      <a:lnTo>
                        <a:pt x="1311" y="2328"/>
                      </a:lnTo>
                      <a:lnTo>
                        <a:pt x="1321" y="2352"/>
                      </a:lnTo>
                      <a:lnTo>
                        <a:pt x="1333" y="2375"/>
                      </a:lnTo>
                      <a:lnTo>
                        <a:pt x="1343" y="2398"/>
                      </a:lnTo>
                      <a:lnTo>
                        <a:pt x="1356" y="2421"/>
                      </a:lnTo>
                      <a:lnTo>
                        <a:pt x="1368" y="2444"/>
                      </a:lnTo>
                      <a:lnTo>
                        <a:pt x="1383" y="2467"/>
                      </a:lnTo>
                      <a:lnTo>
                        <a:pt x="1418" y="2464"/>
                      </a:lnTo>
                      <a:lnTo>
                        <a:pt x="1455" y="2467"/>
                      </a:lnTo>
                      <a:lnTo>
                        <a:pt x="1491" y="2474"/>
                      </a:lnTo>
                      <a:lnTo>
                        <a:pt x="1528" y="2484"/>
                      </a:lnTo>
                      <a:lnTo>
                        <a:pt x="1561" y="2496"/>
                      </a:lnTo>
                      <a:lnTo>
                        <a:pt x="1594" y="2513"/>
                      </a:lnTo>
                      <a:lnTo>
                        <a:pt x="1625" y="2531"/>
                      </a:lnTo>
                      <a:lnTo>
                        <a:pt x="1654" y="2551"/>
                      </a:lnTo>
                      <a:lnTo>
                        <a:pt x="1668" y="2567"/>
                      </a:lnTo>
                      <a:lnTo>
                        <a:pt x="1683" y="2584"/>
                      </a:lnTo>
                      <a:lnTo>
                        <a:pt x="1696" y="2603"/>
                      </a:lnTo>
                      <a:lnTo>
                        <a:pt x="1709" y="2622"/>
                      </a:lnTo>
                      <a:lnTo>
                        <a:pt x="1719" y="2641"/>
                      </a:lnTo>
                      <a:lnTo>
                        <a:pt x="1727" y="2663"/>
                      </a:lnTo>
                      <a:lnTo>
                        <a:pt x="1733" y="2684"/>
                      </a:lnTo>
                      <a:lnTo>
                        <a:pt x="1735" y="2709"/>
                      </a:lnTo>
                      <a:lnTo>
                        <a:pt x="1734" y="2714"/>
                      </a:lnTo>
                      <a:lnTo>
                        <a:pt x="1732" y="2721"/>
                      </a:lnTo>
                      <a:lnTo>
                        <a:pt x="1727" y="2726"/>
                      </a:lnTo>
                      <a:lnTo>
                        <a:pt x="1724" y="2733"/>
                      </a:lnTo>
                      <a:lnTo>
                        <a:pt x="1714" y="2741"/>
                      </a:lnTo>
                      <a:lnTo>
                        <a:pt x="1705" y="2748"/>
                      </a:lnTo>
                      <a:lnTo>
                        <a:pt x="1697" y="2755"/>
                      </a:lnTo>
                      <a:lnTo>
                        <a:pt x="1688" y="2759"/>
                      </a:lnTo>
                      <a:lnTo>
                        <a:pt x="1681" y="2759"/>
                      </a:lnTo>
                      <a:lnTo>
                        <a:pt x="1676" y="2760"/>
                      </a:lnTo>
                      <a:lnTo>
                        <a:pt x="1669" y="2762"/>
                      </a:lnTo>
                      <a:lnTo>
                        <a:pt x="1665" y="2764"/>
                      </a:lnTo>
                      <a:lnTo>
                        <a:pt x="1658" y="2773"/>
                      </a:lnTo>
                      <a:lnTo>
                        <a:pt x="1650" y="2782"/>
                      </a:lnTo>
                      <a:lnTo>
                        <a:pt x="1640" y="2787"/>
                      </a:lnTo>
                      <a:lnTo>
                        <a:pt x="1632" y="2794"/>
                      </a:lnTo>
                      <a:lnTo>
                        <a:pt x="1621" y="2798"/>
                      </a:lnTo>
                      <a:lnTo>
                        <a:pt x="1612" y="2802"/>
                      </a:lnTo>
                      <a:lnTo>
                        <a:pt x="1601" y="2807"/>
                      </a:lnTo>
                      <a:lnTo>
                        <a:pt x="1591" y="2812"/>
                      </a:lnTo>
                      <a:lnTo>
                        <a:pt x="1576" y="2811"/>
                      </a:lnTo>
                      <a:lnTo>
                        <a:pt x="1561" y="2812"/>
                      </a:lnTo>
                      <a:lnTo>
                        <a:pt x="1545" y="2812"/>
                      </a:lnTo>
                      <a:lnTo>
                        <a:pt x="1529" y="2813"/>
                      </a:lnTo>
                      <a:lnTo>
                        <a:pt x="1513" y="2812"/>
                      </a:lnTo>
                      <a:lnTo>
                        <a:pt x="1497" y="2811"/>
                      </a:lnTo>
                      <a:lnTo>
                        <a:pt x="1481" y="2809"/>
                      </a:lnTo>
                      <a:lnTo>
                        <a:pt x="1467" y="2806"/>
                      </a:lnTo>
                      <a:lnTo>
                        <a:pt x="1456" y="2806"/>
                      </a:lnTo>
                      <a:lnTo>
                        <a:pt x="1446" y="2806"/>
                      </a:lnTo>
                      <a:lnTo>
                        <a:pt x="1435" y="2806"/>
                      </a:lnTo>
                      <a:lnTo>
                        <a:pt x="1425" y="2808"/>
                      </a:lnTo>
                      <a:lnTo>
                        <a:pt x="1425" y="2811"/>
                      </a:lnTo>
                      <a:lnTo>
                        <a:pt x="1410" y="2808"/>
                      </a:lnTo>
                      <a:lnTo>
                        <a:pt x="1395" y="2808"/>
                      </a:lnTo>
                      <a:lnTo>
                        <a:pt x="1379" y="2808"/>
                      </a:lnTo>
                      <a:lnTo>
                        <a:pt x="1364" y="2810"/>
                      </a:lnTo>
                      <a:lnTo>
                        <a:pt x="1348" y="2811"/>
                      </a:lnTo>
                      <a:lnTo>
                        <a:pt x="1333" y="2813"/>
                      </a:lnTo>
                      <a:lnTo>
                        <a:pt x="1317" y="2815"/>
                      </a:lnTo>
                      <a:lnTo>
                        <a:pt x="1302" y="2816"/>
                      </a:lnTo>
                      <a:lnTo>
                        <a:pt x="1285" y="2816"/>
                      </a:lnTo>
                      <a:lnTo>
                        <a:pt x="1269" y="2817"/>
                      </a:lnTo>
                      <a:lnTo>
                        <a:pt x="1253" y="2817"/>
                      </a:lnTo>
                      <a:lnTo>
                        <a:pt x="1238" y="2817"/>
                      </a:lnTo>
                      <a:lnTo>
                        <a:pt x="1222" y="2816"/>
                      </a:lnTo>
                      <a:lnTo>
                        <a:pt x="1207" y="2814"/>
                      </a:lnTo>
                      <a:lnTo>
                        <a:pt x="1192" y="2811"/>
                      </a:lnTo>
                      <a:lnTo>
                        <a:pt x="1178" y="2808"/>
                      </a:lnTo>
                      <a:lnTo>
                        <a:pt x="1169" y="2808"/>
                      </a:lnTo>
                      <a:lnTo>
                        <a:pt x="1160" y="2804"/>
                      </a:lnTo>
                      <a:lnTo>
                        <a:pt x="1134" y="2787"/>
                      </a:lnTo>
                      <a:lnTo>
                        <a:pt x="1112" y="2768"/>
                      </a:lnTo>
                      <a:lnTo>
                        <a:pt x="1091" y="2745"/>
                      </a:lnTo>
                      <a:lnTo>
                        <a:pt x="1075" y="2724"/>
                      </a:lnTo>
                      <a:lnTo>
                        <a:pt x="1059" y="2699"/>
                      </a:lnTo>
                      <a:lnTo>
                        <a:pt x="1043" y="2676"/>
                      </a:lnTo>
                      <a:lnTo>
                        <a:pt x="1026" y="2652"/>
                      </a:lnTo>
                      <a:lnTo>
                        <a:pt x="1010" y="2631"/>
                      </a:lnTo>
                      <a:lnTo>
                        <a:pt x="999" y="2598"/>
                      </a:lnTo>
                      <a:lnTo>
                        <a:pt x="989" y="2566"/>
                      </a:lnTo>
                      <a:lnTo>
                        <a:pt x="980" y="2534"/>
                      </a:lnTo>
                      <a:lnTo>
                        <a:pt x="970" y="2502"/>
                      </a:lnTo>
                      <a:lnTo>
                        <a:pt x="959" y="2470"/>
                      </a:lnTo>
                      <a:lnTo>
                        <a:pt x="949" y="2439"/>
                      </a:lnTo>
                      <a:lnTo>
                        <a:pt x="937" y="2407"/>
                      </a:lnTo>
                      <a:lnTo>
                        <a:pt x="925" y="2377"/>
                      </a:lnTo>
                      <a:lnTo>
                        <a:pt x="915" y="2352"/>
                      </a:lnTo>
                      <a:lnTo>
                        <a:pt x="908" y="2326"/>
                      </a:lnTo>
                      <a:lnTo>
                        <a:pt x="899" y="2300"/>
                      </a:lnTo>
                      <a:lnTo>
                        <a:pt x="893" y="2274"/>
                      </a:lnTo>
                      <a:lnTo>
                        <a:pt x="884" y="2249"/>
                      </a:lnTo>
                      <a:lnTo>
                        <a:pt x="877" y="2223"/>
                      </a:lnTo>
                      <a:lnTo>
                        <a:pt x="868" y="2197"/>
                      </a:lnTo>
                      <a:lnTo>
                        <a:pt x="861" y="2172"/>
                      </a:lnTo>
                      <a:lnTo>
                        <a:pt x="845" y="2187"/>
                      </a:lnTo>
                      <a:lnTo>
                        <a:pt x="830" y="2202"/>
                      </a:lnTo>
                      <a:lnTo>
                        <a:pt x="815" y="2217"/>
                      </a:lnTo>
                      <a:lnTo>
                        <a:pt x="801" y="2232"/>
                      </a:lnTo>
                      <a:lnTo>
                        <a:pt x="785" y="2247"/>
                      </a:lnTo>
                      <a:lnTo>
                        <a:pt x="770" y="2263"/>
                      </a:lnTo>
                      <a:lnTo>
                        <a:pt x="754" y="2278"/>
                      </a:lnTo>
                      <a:lnTo>
                        <a:pt x="737" y="2294"/>
                      </a:lnTo>
                      <a:lnTo>
                        <a:pt x="720" y="2308"/>
                      </a:lnTo>
                      <a:lnTo>
                        <a:pt x="703" y="2323"/>
                      </a:lnTo>
                      <a:lnTo>
                        <a:pt x="685" y="2335"/>
                      </a:lnTo>
                      <a:lnTo>
                        <a:pt x="668" y="2349"/>
                      </a:lnTo>
                      <a:lnTo>
                        <a:pt x="650" y="2362"/>
                      </a:lnTo>
                      <a:lnTo>
                        <a:pt x="631" y="2375"/>
                      </a:lnTo>
                      <a:lnTo>
                        <a:pt x="613" y="2388"/>
                      </a:lnTo>
                      <a:lnTo>
                        <a:pt x="596" y="2402"/>
                      </a:lnTo>
                      <a:lnTo>
                        <a:pt x="584" y="2410"/>
                      </a:lnTo>
                      <a:lnTo>
                        <a:pt x="572" y="2418"/>
                      </a:lnTo>
                      <a:lnTo>
                        <a:pt x="560" y="2426"/>
                      </a:lnTo>
                      <a:lnTo>
                        <a:pt x="549" y="2434"/>
                      </a:lnTo>
                      <a:lnTo>
                        <a:pt x="537" y="2442"/>
                      </a:lnTo>
                      <a:lnTo>
                        <a:pt x="526" y="2450"/>
                      </a:lnTo>
                      <a:lnTo>
                        <a:pt x="514" y="2460"/>
                      </a:lnTo>
                      <a:lnTo>
                        <a:pt x="505" y="2471"/>
                      </a:lnTo>
                      <a:lnTo>
                        <a:pt x="537" y="2471"/>
                      </a:lnTo>
                      <a:lnTo>
                        <a:pt x="568" y="2477"/>
                      </a:lnTo>
                      <a:lnTo>
                        <a:pt x="597" y="2486"/>
                      </a:lnTo>
                      <a:lnTo>
                        <a:pt x="627" y="2498"/>
                      </a:lnTo>
                      <a:lnTo>
                        <a:pt x="655" y="2511"/>
                      </a:lnTo>
                      <a:lnTo>
                        <a:pt x="682" y="2528"/>
                      </a:lnTo>
                      <a:lnTo>
                        <a:pt x="707" y="2546"/>
                      </a:lnTo>
                      <a:lnTo>
                        <a:pt x="734" y="2565"/>
                      </a:lnTo>
                      <a:lnTo>
                        <a:pt x="748" y="2580"/>
                      </a:lnTo>
                      <a:lnTo>
                        <a:pt x="760" y="2597"/>
                      </a:lnTo>
                      <a:lnTo>
                        <a:pt x="770" y="2617"/>
                      </a:lnTo>
                      <a:lnTo>
                        <a:pt x="777" y="2637"/>
                      </a:lnTo>
                      <a:lnTo>
                        <a:pt x="781" y="2656"/>
                      </a:lnTo>
                      <a:lnTo>
                        <a:pt x="785" y="2678"/>
                      </a:lnTo>
                      <a:lnTo>
                        <a:pt x="785" y="2697"/>
                      </a:lnTo>
                      <a:lnTo>
                        <a:pt x="784" y="2718"/>
                      </a:lnTo>
                      <a:lnTo>
                        <a:pt x="778" y="2733"/>
                      </a:lnTo>
                      <a:lnTo>
                        <a:pt x="771" y="2749"/>
                      </a:lnTo>
                      <a:lnTo>
                        <a:pt x="761" y="2762"/>
                      </a:lnTo>
                      <a:lnTo>
                        <a:pt x="749" y="2775"/>
                      </a:lnTo>
                      <a:lnTo>
                        <a:pt x="734" y="2785"/>
                      </a:lnTo>
                      <a:lnTo>
                        <a:pt x="719" y="2795"/>
                      </a:lnTo>
                      <a:lnTo>
                        <a:pt x="704" y="2801"/>
                      </a:lnTo>
                      <a:lnTo>
                        <a:pt x="689" y="2808"/>
                      </a:lnTo>
                      <a:lnTo>
                        <a:pt x="672" y="2807"/>
                      </a:lnTo>
                      <a:lnTo>
                        <a:pt x="656" y="2807"/>
                      </a:lnTo>
                      <a:lnTo>
                        <a:pt x="641" y="2807"/>
                      </a:lnTo>
                      <a:lnTo>
                        <a:pt x="627" y="2809"/>
                      </a:lnTo>
                      <a:lnTo>
                        <a:pt x="611" y="2811"/>
                      </a:lnTo>
                      <a:lnTo>
                        <a:pt x="596" y="2815"/>
                      </a:lnTo>
                      <a:lnTo>
                        <a:pt x="581" y="2819"/>
                      </a:lnTo>
                      <a:lnTo>
                        <a:pt x="566" y="2827"/>
                      </a:lnTo>
                      <a:lnTo>
                        <a:pt x="551" y="2829"/>
                      </a:lnTo>
                      <a:lnTo>
                        <a:pt x="537" y="2829"/>
                      </a:lnTo>
                      <a:lnTo>
                        <a:pt x="523" y="2827"/>
                      </a:lnTo>
                      <a:lnTo>
                        <a:pt x="510" y="2825"/>
                      </a:lnTo>
                      <a:lnTo>
                        <a:pt x="496" y="2822"/>
                      </a:lnTo>
                      <a:lnTo>
                        <a:pt x="482" y="2823"/>
                      </a:lnTo>
                      <a:lnTo>
                        <a:pt x="468" y="2825"/>
                      </a:lnTo>
                      <a:lnTo>
                        <a:pt x="455" y="2833"/>
                      </a:lnTo>
                      <a:lnTo>
                        <a:pt x="435" y="2844"/>
                      </a:lnTo>
                      <a:lnTo>
                        <a:pt x="414" y="2853"/>
                      </a:lnTo>
                      <a:lnTo>
                        <a:pt x="391" y="2856"/>
                      </a:lnTo>
                      <a:lnTo>
                        <a:pt x="370" y="2859"/>
                      </a:lnTo>
                      <a:lnTo>
                        <a:pt x="346" y="2858"/>
                      </a:lnTo>
                      <a:lnTo>
                        <a:pt x="323" y="2856"/>
                      </a:lnTo>
                      <a:lnTo>
                        <a:pt x="301" y="2851"/>
                      </a:lnTo>
                      <a:lnTo>
                        <a:pt x="281" y="2846"/>
                      </a:lnTo>
                      <a:lnTo>
                        <a:pt x="256" y="2839"/>
                      </a:lnTo>
                      <a:lnTo>
                        <a:pt x="232" y="2831"/>
                      </a:lnTo>
                      <a:lnTo>
                        <a:pt x="208" y="2823"/>
                      </a:lnTo>
                      <a:lnTo>
                        <a:pt x="185" y="2815"/>
                      </a:lnTo>
                      <a:lnTo>
                        <a:pt x="162" y="2806"/>
                      </a:lnTo>
                      <a:lnTo>
                        <a:pt x="139" y="2797"/>
                      </a:lnTo>
                      <a:lnTo>
                        <a:pt x="116" y="2787"/>
                      </a:lnTo>
                      <a:lnTo>
                        <a:pt x="95" y="2778"/>
                      </a:lnTo>
                      <a:lnTo>
                        <a:pt x="81" y="2765"/>
                      </a:lnTo>
                      <a:lnTo>
                        <a:pt x="68" y="2752"/>
                      </a:lnTo>
                      <a:lnTo>
                        <a:pt x="55" y="2737"/>
                      </a:lnTo>
                      <a:lnTo>
                        <a:pt x="45" y="2723"/>
                      </a:lnTo>
                      <a:lnTo>
                        <a:pt x="33" y="2708"/>
                      </a:lnTo>
                      <a:lnTo>
                        <a:pt x="24" y="2693"/>
                      </a:lnTo>
                      <a:lnTo>
                        <a:pt x="16" y="2678"/>
                      </a:lnTo>
                      <a:lnTo>
                        <a:pt x="10" y="2663"/>
                      </a:lnTo>
                      <a:lnTo>
                        <a:pt x="9" y="2665"/>
                      </a:lnTo>
                      <a:lnTo>
                        <a:pt x="8" y="2657"/>
                      </a:lnTo>
                      <a:lnTo>
                        <a:pt x="6" y="2651"/>
                      </a:lnTo>
                      <a:lnTo>
                        <a:pt x="4" y="2645"/>
                      </a:lnTo>
                      <a:lnTo>
                        <a:pt x="4" y="2638"/>
                      </a:lnTo>
                      <a:lnTo>
                        <a:pt x="0" y="2623"/>
                      </a:lnTo>
                      <a:lnTo>
                        <a:pt x="0" y="2608"/>
                      </a:lnTo>
                      <a:lnTo>
                        <a:pt x="1" y="2593"/>
                      </a:lnTo>
                      <a:lnTo>
                        <a:pt x="5" y="2578"/>
                      </a:lnTo>
                      <a:lnTo>
                        <a:pt x="8" y="2563"/>
                      </a:lnTo>
                      <a:lnTo>
                        <a:pt x="12" y="2548"/>
                      </a:lnTo>
                      <a:lnTo>
                        <a:pt x="16" y="2533"/>
                      </a:lnTo>
                      <a:lnTo>
                        <a:pt x="19" y="2519"/>
                      </a:lnTo>
                      <a:lnTo>
                        <a:pt x="22" y="2498"/>
                      </a:lnTo>
                      <a:lnTo>
                        <a:pt x="29" y="2477"/>
                      </a:lnTo>
                      <a:lnTo>
                        <a:pt x="35" y="2457"/>
                      </a:lnTo>
                      <a:lnTo>
                        <a:pt x="42" y="2437"/>
                      </a:lnTo>
                      <a:lnTo>
                        <a:pt x="50" y="2418"/>
                      </a:lnTo>
                      <a:lnTo>
                        <a:pt x="59" y="2399"/>
                      </a:lnTo>
                      <a:lnTo>
                        <a:pt x="66" y="2379"/>
                      </a:lnTo>
                      <a:lnTo>
                        <a:pt x="76" y="2360"/>
                      </a:lnTo>
                      <a:close/>
                      <a:moveTo>
                        <a:pt x="2171" y="525"/>
                      </a:moveTo>
                      <a:lnTo>
                        <a:pt x="2171" y="525"/>
                      </a:lnTo>
                      <a:lnTo>
                        <a:pt x="2167" y="530"/>
                      </a:lnTo>
                      <a:lnTo>
                        <a:pt x="2164" y="537"/>
                      </a:lnTo>
                      <a:lnTo>
                        <a:pt x="2161" y="543"/>
                      </a:lnTo>
                      <a:lnTo>
                        <a:pt x="2157" y="551"/>
                      </a:lnTo>
                      <a:lnTo>
                        <a:pt x="2153" y="556"/>
                      </a:lnTo>
                      <a:lnTo>
                        <a:pt x="2149" y="563"/>
                      </a:lnTo>
                      <a:lnTo>
                        <a:pt x="2143" y="569"/>
                      </a:lnTo>
                      <a:lnTo>
                        <a:pt x="2139" y="576"/>
                      </a:lnTo>
                      <a:lnTo>
                        <a:pt x="2139" y="582"/>
                      </a:lnTo>
                      <a:lnTo>
                        <a:pt x="2143" y="589"/>
                      </a:lnTo>
                      <a:lnTo>
                        <a:pt x="2148" y="597"/>
                      </a:lnTo>
                      <a:lnTo>
                        <a:pt x="2153" y="606"/>
                      </a:lnTo>
                      <a:lnTo>
                        <a:pt x="2158" y="613"/>
                      </a:lnTo>
                      <a:lnTo>
                        <a:pt x="2166" y="622"/>
                      </a:lnTo>
                      <a:lnTo>
                        <a:pt x="2175" y="628"/>
                      </a:lnTo>
                      <a:lnTo>
                        <a:pt x="2184" y="635"/>
                      </a:lnTo>
                      <a:lnTo>
                        <a:pt x="2194" y="639"/>
                      </a:lnTo>
                      <a:lnTo>
                        <a:pt x="2205" y="644"/>
                      </a:lnTo>
                      <a:lnTo>
                        <a:pt x="2214" y="648"/>
                      </a:lnTo>
                      <a:lnTo>
                        <a:pt x="2226" y="653"/>
                      </a:lnTo>
                      <a:lnTo>
                        <a:pt x="2235" y="648"/>
                      </a:lnTo>
                      <a:lnTo>
                        <a:pt x="2244" y="645"/>
                      </a:lnTo>
                      <a:lnTo>
                        <a:pt x="2254" y="642"/>
                      </a:lnTo>
                      <a:lnTo>
                        <a:pt x="2265" y="640"/>
                      </a:lnTo>
                      <a:lnTo>
                        <a:pt x="2274" y="638"/>
                      </a:lnTo>
                      <a:lnTo>
                        <a:pt x="2285" y="637"/>
                      </a:lnTo>
                      <a:lnTo>
                        <a:pt x="2296" y="635"/>
                      </a:lnTo>
                      <a:lnTo>
                        <a:pt x="2307" y="633"/>
                      </a:lnTo>
                      <a:lnTo>
                        <a:pt x="2275" y="627"/>
                      </a:lnTo>
                      <a:lnTo>
                        <a:pt x="2269" y="626"/>
                      </a:lnTo>
                      <a:lnTo>
                        <a:pt x="2264" y="626"/>
                      </a:lnTo>
                      <a:lnTo>
                        <a:pt x="2257" y="624"/>
                      </a:lnTo>
                      <a:lnTo>
                        <a:pt x="2253" y="621"/>
                      </a:lnTo>
                      <a:lnTo>
                        <a:pt x="2249" y="613"/>
                      </a:lnTo>
                      <a:lnTo>
                        <a:pt x="2244" y="608"/>
                      </a:lnTo>
                      <a:lnTo>
                        <a:pt x="2239" y="604"/>
                      </a:lnTo>
                      <a:lnTo>
                        <a:pt x="2234" y="602"/>
                      </a:lnTo>
                      <a:lnTo>
                        <a:pt x="2226" y="599"/>
                      </a:lnTo>
                      <a:lnTo>
                        <a:pt x="2220" y="597"/>
                      </a:lnTo>
                      <a:lnTo>
                        <a:pt x="2213" y="593"/>
                      </a:lnTo>
                      <a:lnTo>
                        <a:pt x="2209" y="589"/>
                      </a:lnTo>
                      <a:lnTo>
                        <a:pt x="2205" y="584"/>
                      </a:lnTo>
                      <a:lnTo>
                        <a:pt x="2201" y="579"/>
                      </a:lnTo>
                      <a:lnTo>
                        <a:pt x="2199" y="573"/>
                      </a:lnTo>
                      <a:lnTo>
                        <a:pt x="2201" y="569"/>
                      </a:lnTo>
                      <a:lnTo>
                        <a:pt x="2194" y="553"/>
                      </a:lnTo>
                      <a:lnTo>
                        <a:pt x="2191" y="538"/>
                      </a:lnTo>
                      <a:lnTo>
                        <a:pt x="2191" y="522"/>
                      </a:lnTo>
                      <a:lnTo>
                        <a:pt x="2195" y="507"/>
                      </a:lnTo>
                      <a:lnTo>
                        <a:pt x="2200" y="491"/>
                      </a:lnTo>
                      <a:lnTo>
                        <a:pt x="2207" y="475"/>
                      </a:lnTo>
                      <a:lnTo>
                        <a:pt x="2213" y="460"/>
                      </a:lnTo>
                      <a:lnTo>
                        <a:pt x="2221" y="447"/>
                      </a:lnTo>
                      <a:lnTo>
                        <a:pt x="2214" y="455"/>
                      </a:lnTo>
                      <a:lnTo>
                        <a:pt x="2208" y="464"/>
                      </a:lnTo>
                      <a:lnTo>
                        <a:pt x="2200" y="472"/>
                      </a:lnTo>
                      <a:lnTo>
                        <a:pt x="2193" y="482"/>
                      </a:lnTo>
                      <a:lnTo>
                        <a:pt x="2184" y="492"/>
                      </a:lnTo>
                      <a:lnTo>
                        <a:pt x="2178" y="501"/>
                      </a:lnTo>
                      <a:lnTo>
                        <a:pt x="2172" y="512"/>
                      </a:lnTo>
                      <a:lnTo>
                        <a:pt x="2171" y="5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732400" y="4951800"/>
                  <a:ext cx="661680" cy="528840"/>
                </a:xfrm>
                <a:custGeom>
                  <a:avLst/>
                  <a:gdLst/>
                  <a:ahLst/>
                  <a:rect l="l" t="t" r="r" b="b"/>
                  <a:pathLst>
                    <a:path w="2518" h="2013">
                      <a:moveTo>
                        <a:pt x="53" y="1597"/>
                      </a:moveTo>
                      <a:lnTo>
                        <a:pt x="56" y="1588"/>
                      </a:lnTo>
                      <a:lnTo>
                        <a:pt x="61" y="1580"/>
                      </a:lnTo>
                      <a:lnTo>
                        <a:pt x="67" y="1573"/>
                      </a:lnTo>
                      <a:lnTo>
                        <a:pt x="72" y="1565"/>
                      </a:lnTo>
                      <a:lnTo>
                        <a:pt x="76" y="1557"/>
                      </a:lnTo>
                      <a:lnTo>
                        <a:pt x="82" y="1548"/>
                      </a:lnTo>
                      <a:lnTo>
                        <a:pt x="84" y="1540"/>
                      </a:lnTo>
                      <a:lnTo>
                        <a:pt x="87" y="1531"/>
                      </a:lnTo>
                      <a:lnTo>
                        <a:pt x="97" y="1514"/>
                      </a:lnTo>
                      <a:lnTo>
                        <a:pt x="108" y="1498"/>
                      </a:lnTo>
                      <a:lnTo>
                        <a:pt x="119" y="1481"/>
                      </a:lnTo>
                      <a:lnTo>
                        <a:pt x="131" y="1464"/>
                      </a:lnTo>
                      <a:lnTo>
                        <a:pt x="142" y="1447"/>
                      </a:lnTo>
                      <a:lnTo>
                        <a:pt x="154" y="1432"/>
                      </a:lnTo>
                      <a:lnTo>
                        <a:pt x="167" y="1417"/>
                      </a:lnTo>
                      <a:lnTo>
                        <a:pt x="181" y="1404"/>
                      </a:lnTo>
                      <a:lnTo>
                        <a:pt x="183" y="1396"/>
                      </a:lnTo>
                      <a:lnTo>
                        <a:pt x="187" y="1389"/>
                      </a:lnTo>
                      <a:lnTo>
                        <a:pt x="191" y="1384"/>
                      </a:lnTo>
                      <a:lnTo>
                        <a:pt x="196" y="1379"/>
                      </a:lnTo>
                      <a:lnTo>
                        <a:pt x="201" y="1372"/>
                      </a:lnTo>
                      <a:lnTo>
                        <a:pt x="205" y="1367"/>
                      </a:lnTo>
                      <a:lnTo>
                        <a:pt x="207" y="1359"/>
                      </a:lnTo>
                      <a:lnTo>
                        <a:pt x="209" y="1353"/>
                      </a:lnTo>
                      <a:lnTo>
                        <a:pt x="216" y="1342"/>
                      </a:lnTo>
                      <a:lnTo>
                        <a:pt x="224" y="1333"/>
                      </a:lnTo>
                      <a:lnTo>
                        <a:pt x="227" y="1328"/>
                      </a:lnTo>
                      <a:lnTo>
                        <a:pt x="231" y="1324"/>
                      </a:lnTo>
                      <a:lnTo>
                        <a:pt x="232" y="1318"/>
                      </a:lnTo>
                      <a:lnTo>
                        <a:pt x="233" y="1313"/>
                      </a:lnTo>
                      <a:lnTo>
                        <a:pt x="248" y="1263"/>
                      </a:lnTo>
                      <a:lnTo>
                        <a:pt x="256" y="1212"/>
                      </a:lnTo>
                      <a:lnTo>
                        <a:pt x="260" y="1160"/>
                      </a:lnTo>
                      <a:lnTo>
                        <a:pt x="258" y="1108"/>
                      </a:lnTo>
                      <a:lnTo>
                        <a:pt x="253" y="1056"/>
                      </a:lnTo>
                      <a:lnTo>
                        <a:pt x="245" y="1005"/>
                      </a:lnTo>
                      <a:lnTo>
                        <a:pt x="233" y="954"/>
                      </a:lnTo>
                      <a:lnTo>
                        <a:pt x="222" y="905"/>
                      </a:lnTo>
                      <a:lnTo>
                        <a:pt x="215" y="886"/>
                      </a:lnTo>
                      <a:lnTo>
                        <a:pt x="210" y="868"/>
                      </a:lnTo>
                      <a:lnTo>
                        <a:pt x="206" y="848"/>
                      </a:lnTo>
                      <a:lnTo>
                        <a:pt x="205" y="830"/>
                      </a:lnTo>
                      <a:lnTo>
                        <a:pt x="202" y="811"/>
                      </a:lnTo>
                      <a:lnTo>
                        <a:pt x="200" y="792"/>
                      </a:lnTo>
                      <a:lnTo>
                        <a:pt x="195" y="772"/>
                      </a:lnTo>
                      <a:lnTo>
                        <a:pt x="191" y="755"/>
                      </a:lnTo>
                      <a:lnTo>
                        <a:pt x="191" y="730"/>
                      </a:lnTo>
                      <a:lnTo>
                        <a:pt x="190" y="707"/>
                      </a:lnTo>
                      <a:lnTo>
                        <a:pt x="188" y="682"/>
                      </a:lnTo>
                      <a:lnTo>
                        <a:pt x="188" y="657"/>
                      </a:lnTo>
                      <a:lnTo>
                        <a:pt x="187" y="633"/>
                      </a:lnTo>
                      <a:lnTo>
                        <a:pt x="189" y="609"/>
                      </a:lnTo>
                      <a:lnTo>
                        <a:pt x="193" y="586"/>
                      </a:lnTo>
                      <a:lnTo>
                        <a:pt x="202" y="563"/>
                      </a:lnTo>
                      <a:lnTo>
                        <a:pt x="197" y="559"/>
                      </a:lnTo>
                      <a:lnTo>
                        <a:pt x="201" y="546"/>
                      </a:lnTo>
                      <a:lnTo>
                        <a:pt x="205" y="534"/>
                      </a:lnTo>
                      <a:lnTo>
                        <a:pt x="208" y="521"/>
                      </a:lnTo>
                      <a:lnTo>
                        <a:pt x="212" y="509"/>
                      </a:lnTo>
                      <a:lnTo>
                        <a:pt x="216" y="496"/>
                      </a:lnTo>
                      <a:lnTo>
                        <a:pt x="219" y="485"/>
                      </a:lnTo>
                      <a:lnTo>
                        <a:pt x="222" y="473"/>
                      </a:lnTo>
                      <a:lnTo>
                        <a:pt x="226" y="461"/>
                      </a:lnTo>
                      <a:lnTo>
                        <a:pt x="233" y="448"/>
                      </a:lnTo>
                      <a:lnTo>
                        <a:pt x="240" y="436"/>
                      </a:lnTo>
                      <a:lnTo>
                        <a:pt x="246" y="423"/>
                      </a:lnTo>
                      <a:lnTo>
                        <a:pt x="252" y="411"/>
                      </a:lnTo>
                      <a:lnTo>
                        <a:pt x="257" y="398"/>
                      </a:lnTo>
                      <a:lnTo>
                        <a:pt x="264" y="385"/>
                      </a:lnTo>
                      <a:lnTo>
                        <a:pt x="271" y="372"/>
                      </a:lnTo>
                      <a:lnTo>
                        <a:pt x="282" y="361"/>
                      </a:lnTo>
                      <a:lnTo>
                        <a:pt x="281" y="350"/>
                      </a:lnTo>
                      <a:lnTo>
                        <a:pt x="287" y="342"/>
                      </a:lnTo>
                      <a:lnTo>
                        <a:pt x="294" y="332"/>
                      </a:lnTo>
                      <a:lnTo>
                        <a:pt x="297" y="323"/>
                      </a:lnTo>
                      <a:lnTo>
                        <a:pt x="306" y="303"/>
                      </a:lnTo>
                      <a:lnTo>
                        <a:pt x="315" y="284"/>
                      </a:lnTo>
                      <a:lnTo>
                        <a:pt x="326" y="266"/>
                      </a:lnTo>
                      <a:lnTo>
                        <a:pt x="339" y="249"/>
                      </a:lnTo>
                      <a:lnTo>
                        <a:pt x="352" y="230"/>
                      </a:lnTo>
                      <a:lnTo>
                        <a:pt x="365" y="213"/>
                      </a:lnTo>
                      <a:lnTo>
                        <a:pt x="379" y="195"/>
                      </a:lnTo>
                      <a:lnTo>
                        <a:pt x="393" y="179"/>
                      </a:lnTo>
                      <a:lnTo>
                        <a:pt x="407" y="154"/>
                      </a:lnTo>
                      <a:lnTo>
                        <a:pt x="425" y="134"/>
                      </a:lnTo>
                      <a:lnTo>
                        <a:pt x="444" y="113"/>
                      </a:lnTo>
                      <a:lnTo>
                        <a:pt x="467" y="96"/>
                      </a:lnTo>
                      <a:lnTo>
                        <a:pt x="489" y="79"/>
                      </a:lnTo>
                      <a:lnTo>
                        <a:pt x="513" y="64"/>
                      </a:lnTo>
                      <a:lnTo>
                        <a:pt x="536" y="48"/>
                      </a:lnTo>
                      <a:lnTo>
                        <a:pt x="560" y="34"/>
                      </a:lnTo>
                      <a:lnTo>
                        <a:pt x="575" y="25"/>
                      </a:lnTo>
                      <a:lnTo>
                        <a:pt x="590" y="20"/>
                      </a:lnTo>
                      <a:lnTo>
                        <a:pt x="606" y="14"/>
                      </a:lnTo>
                      <a:lnTo>
                        <a:pt x="623" y="10"/>
                      </a:lnTo>
                      <a:lnTo>
                        <a:pt x="639" y="5"/>
                      </a:lnTo>
                      <a:lnTo>
                        <a:pt x="656" y="3"/>
                      </a:lnTo>
                      <a:lnTo>
                        <a:pt x="674" y="0"/>
                      </a:lnTo>
                      <a:lnTo>
                        <a:pt x="692" y="0"/>
                      </a:lnTo>
                      <a:lnTo>
                        <a:pt x="687" y="6"/>
                      </a:lnTo>
                      <a:lnTo>
                        <a:pt x="684" y="14"/>
                      </a:lnTo>
                      <a:lnTo>
                        <a:pt x="682" y="21"/>
                      </a:lnTo>
                      <a:lnTo>
                        <a:pt x="686" y="30"/>
                      </a:lnTo>
                      <a:lnTo>
                        <a:pt x="692" y="36"/>
                      </a:lnTo>
                      <a:lnTo>
                        <a:pt x="698" y="44"/>
                      </a:lnTo>
                      <a:lnTo>
                        <a:pt x="705" y="50"/>
                      </a:lnTo>
                      <a:lnTo>
                        <a:pt x="711" y="58"/>
                      </a:lnTo>
                      <a:lnTo>
                        <a:pt x="718" y="63"/>
                      </a:lnTo>
                      <a:lnTo>
                        <a:pt x="725" y="67"/>
                      </a:lnTo>
                      <a:lnTo>
                        <a:pt x="734" y="69"/>
                      </a:lnTo>
                      <a:lnTo>
                        <a:pt x="744" y="71"/>
                      </a:lnTo>
                      <a:lnTo>
                        <a:pt x="761" y="71"/>
                      </a:lnTo>
                      <a:lnTo>
                        <a:pt x="781" y="71"/>
                      </a:lnTo>
                      <a:lnTo>
                        <a:pt x="800" y="71"/>
                      </a:lnTo>
                      <a:lnTo>
                        <a:pt x="820" y="73"/>
                      </a:lnTo>
                      <a:lnTo>
                        <a:pt x="840" y="69"/>
                      </a:lnTo>
                      <a:lnTo>
                        <a:pt x="860" y="66"/>
                      </a:lnTo>
                      <a:lnTo>
                        <a:pt x="878" y="61"/>
                      </a:lnTo>
                      <a:lnTo>
                        <a:pt x="897" y="54"/>
                      </a:lnTo>
                      <a:lnTo>
                        <a:pt x="905" y="49"/>
                      </a:lnTo>
                      <a:lnTo>
                        <a:pt x="915" y="44"/>
                      </a:lnTo>
                      <a:lnTo>
                        <a:pt x="923" y="38"/>
                      </a:lnTo>
                      <a:lnTo>
                        <a:pt x="933" y="33"/>
                      </a:lnTo>
                      <a:lnTo>
                        <a:pt x="942" y="26"/>
                      </a:lnTo>
                      <a:lnTo>
                        <a:pt x="951" y="21"/>
                      </a:lnTo>
                      <a:lnTo>
                        <a:pt x="961" y="15"/>
                      </a:lnTo>
                      <a:lnTo>
                        <a:pt x="971" y="9"/>
                      </a:lnTo>
                      <a:lnTo>
                        <a:pt x="1027" y="23"/>
                      </a:lnTo>
                      <a:lnTo>
                        <a:pt x="1022" y="35"/>
                      </a:lnTo>
                      <a:lnTo>
                        <a:pt x="1014" y="44"/>
                      </a:lnTo>
                      <a:lnTo>
                        <a:pt x="1003" y="49"/>
                      </a:lnTo>
                      <a:lnTo>
                        <a:pt x="991" y="53"/>
                      </a:lnTo>
                      <a:lnTo>
                        <a:pt x="978" y="55"/>
                      </a:lnTo>
                      <a:lnTo>
                        <a:pt x="965" y="59"/>
                      </a:lnTo>
                      <a:lnTo>
                        <a:pt x="952" y="63"/>
                      </a:lnTo>
                      <a:lnTo>
                        <a:pt x="944" y="71"/>
                      </a:lnTo>
                      <a:lnTo>
                        <a:pt x="938" y="63"/>
                      </a:lnTo>
                      <a:lnTo>
                        <a:pt x="933" y="59"/>
                      </a:lnTo>
                      <a:lnTo>
                        <a:pt x="927" y="58"/>
                      </a:lnTo>
                      <a:lnTo>
                        <a:pt x="920" y="59"/>
                      </a:lnTo>
                      <a:lnTo>
                        <a:pt x="912" y="60"/>
                      </a:lnTo>
                      <a:lnTo>
                        <a:pt x="903" y="62"/>
                      </a:lnTo>
                      <a:lnTo>
                        <a:pt x="896" y="64"/>
                      </a:lnTo>
                      <a:lnTo>
                        <a:pt x="890" y="66"/>
                      </a:lnTo>
                      <a:lnTo>
                        <a:pt x="881" y="69"/>
                      </a:lnTo>
                      <a:lnTo>
                        <a:pt x="872" y="74"/>
                      </a:lnTo>
                      <a:lnTo>
                        <a:pt x="863" y="77"/>
                      </a:lnTo>
                      <a:lnTo>
                        <a:pt x="855" y="81"/>
                      </a:lnTo>
                      <a:lnTo>
                        <a:pt x="846" y="84"/>
                      </a:lnTo>
                      <a:lnTo>
                        <a:pt x="838" y="90"/>
                      </a:lnTo>
                      <a:lnTo>
                        <a:pt x="829" y="95"/>
                      </a:lnTo>
                      <a:lnTo>
                        <a:pt x="823" y="103"/>
                      </a:lnTo>
                      <a:lnTo>
                        <a:pt x="809" y="97"/>
                      </a:lnTo>
                      <a:lnTo>
                        <a:pt x="796" y="94"/>
                      </a:lnTo>
                      <a:lnTo>
                        <a:pt x="782" y="91"/>
                      </a:lnTo>
                      <a:lnTo>
                        <a:pt x="768" y="90"/>
                      </a:lnTo>
                      <a:lnTo>
                        <a:pt x="753" y="89"/>
                      </a:lnTo>
                      <a:lnTo>
                        <a:pt x="739" y="89"/>
                      </a:lnTo>
                      <a:lnTo>
                        <a:pt x="725" y="91"/>
                      </a:lnTo>
                      <a:lnTo>
                        <a:pt x="713" y="95"/>
                      </a:lnTo>
                      <a:lnTo>
                        <a:pt x="696" y="106"/>
                      </a:lnTo>
                      <a:lnTo>
                        <a:pt x="682" y="120"/>
                      </a:lnTo>
                      <a:lnTo>
                        <a:pt x="668" y="135"/>
                      </a:lnTo>
                      <a:lnTo>
                        <a:pt x="657" y="152"/>
                      </a:lnTo>
                      <a:lnTo>
                        <a:pt x="645" y="167"/>
                      </a:lnTo>
                      <a:lnTo>
                        <a:pt x="633" y="182"/>
                      </a:lnTo>
                      <a:lnTo>
                        <a:pt x="617" y="194"/>
                      </a:lnTo>
                      <a:lnTo>
                        <a:pt x="598" y="203"/>
                      </a:lnTo>
                      <a:lnTo>
                        <a:pt x="574" y="222"/>
                      </a:lnTo>
                      <a:lnTo>
                        <a:pt x="547" y="241"/>
                      </a:lnTo>
                      <a:lnTo>
                        <a:pt x="520" y="261"/>
                      </a:lnTo>
                      <a:lnTo>
                        <a:pt x="497" y="285"/>
                      </a:lnTo>
                      <a:lnTo>
                        <a:pt x="474" y="309"/>
                      </a:lnTo>
                      <a:lnTo>
                        <a:pt x="459" y="335"/>
                      </a:lnTo>
                      <a:lnTo>
                        <a:pt x="450" y="366"/>
                      </a:lnTo>
                      <a:lnTo>
                        <a:pt x="453" y="399"/>
                      </a:lnTo>
                      <a:lnTo>
                        <a:pt x="454" y="411"/>
                      </a:lnTo>
                      <a:lnTo>
                        <a:pt x="456" y="423"/>
                      </a:lnTo>
                      <a:lnTo>
                        <a:pt x="458" y="435"/>
                      </a:lnTo>
                      <a:lnTo>
                        <a:pt x="462" y="448"/>
                      </a:lnTo>
                      <a:lnTo>
                        <a:pt x="467" y="459"/>
                      </a:lnTo>
                      <a:lnTo>
                        <a:pt x="474" y="471"/>
                      </a:lnTo>
                      <a:lnTo>
                        <a:pt x="482" y="479"/>
                      </a:lnTo>
                      <a:lnTo>
                        <a:pt x="492" y="489"/>
                      </a:lnTo>
                      <a:lnTo>
                        <a:pt x="500" y="493"/>
                      </a:lnTo>
                      <a:lnTo>
                        <a:pt x="508" y="496"/>
                      </a:lnTo>
                      <a:lnTo>
                        <a:pt x="517" y="499"/>
                      </a:lnTo>
                      <a:lnTo>
                        <a:pt x="527" y="501"/>
                      </a:lnTo>
                      <a:lnTo>
                        <a:pt x="535" y="500"/>
                      </a:lnTo>
                      <a:lnTo>
                        <a:pt x="545" y="500"/>
                      </a:lnTo>
                      <a:lnTo>
                        <a:pt x="555" y="499"/>
                      </a:lnTo>
                      <a:lnTo>
                        <a:pt x="564" y="499"/>
                      </a:lnTo>
                      <a:lnTo>
                        <a:pt x="587" y="485"/>
                      </a:lnTo>
                      <a:lnTo>
                        <a:pt x="609" y="471"/>
                      </a:lnTo>
                      <a:lnTo>
                        <a:pt x="631" y="455"/>
                      </a:lnTo>
                      <a:lnTo>
                        <a:pt x="652" y="438"/>
                      </a:lnTo>
                      <a:lnTo>
                        <a:pt x="672" y="420"/>
                      </a:lnTo>
                      <a:lnTo>
                        <a:pt x="693" y="402"/>
                      </a:lnTo>
                      <a:lnTo>
                        <a:pt x="713" y="383"/>
                      </a:lnTo>
                      <a:lnTo>
                        <a:pt x="734" y="366"/>
                      </a:lnTo>
                      <a:lnTo>
                        <a:pt x="748" y="364"/>
                      </a:lnTo>
                      <a:lnTo>
                        <a:pt x="763" y="364"/>
                      </a:lnTo>
                      <a:lnTo>
                        <a:pt x="777" y="362"/>
                      </a:lnTo>
                      <a:lnTo>
                        <a:pt x="792" y="361"/>
                      </a:lnTo>
                      <a:lnTo>
                        <a:pt x="804" y="357"/>
                      </a:lnTo>
                      <a:lnTo>
                        <a:pt x="818" y="354"/>
                      </a:lnTo>
                      <a:lnTo>
                        <a:pt x="831" y="346"/>
                      </a:lnTo>
                      <a:lnTo>
                        <a:pt x="844" y="340"/>
                      </a:lnTo>
                      <a:lnTo>
                        <a:pt x="861" y="344"/>
                      </a:lnTo>
                      <a:lnTo>
                        <a:pt x="879" y="346"/>
                      </a:lnTo>
                      <a:lnTo>
                        <a:pt x="898" y="344"/>
                      </a:lnTo>
                      <a:lnTo>
                        <a:pt x="916" y="340"/>
                      </a:lnTo>
                      <a:lnTo>
                        <a:pt x="933" y="332"/>
                      </a:lnTo>
                      <a:lnTo>
                        <a:pt x="950" y="325"/>
                      </a:lnTo>
                      <a:lnTo>
                        <a:pt x="967" y="316"/>
                      </a:lnTo>
                      <a:lnTo>
                        <a:pt x="985" y="309"/>
                      </a:lnTo>
                      <a:lnTo>
                        <a:pt x="988" y="303"/>
                      </a:lnTo>
                      <a:lnTo>
                        <a:pt x="992" y="298"/>
                      </a:lnTo>
                      <a:lnTo>
                        <a:pt x="995" y="291"/>
                      </a:lnTo>
                      <a:lnTo>
                        <a:pt x="1001" y="286"/>
                      </a:lnTo>
                      <a:lnTo>
                        <a:pt x="1005" y="280"/>
                      </a:lnTo>
                      <a:lnTo>
                        <a:pt x="1009" y="274"/>
                      </a:lnTo>
                      <a:lnTo>
                        <a:pt x="1012" y="268"/>
                      </a:lnTo>
                      <a:lnTo>
                        <a:pt x="1017" y="262"/>
                      </a:lnTo>
                      <a:lnTo>
                        <a:pt x="1041" y="255"/>
                      </a:lnTo>
                      <a:lnTo>
                        <a:pt x="1066" y="247"/>
                      </a:lnTo>
                      <a:lnTo>
                        <a:pt x="1090" y="238"/>
                      </a:lnTo>
                      <a:lnTo>
                        <a:pt x="1114" y="227"/>
                      </a:lnTo>
                      <a:lnTo>
                        <a:pt x="1136" y="213"/>
                      </a:lnTo>
                      <a:lnTo>
                        <a:pt x="1157" y="198"/>
                      </a:lnTo>
                      <a:lnTo>
                        <a:pt x="1178" y="181"/>
                      </a:lnTo>
                      <a:lnTo>
                        <a:pt x="1198" y="163"/>
                      </a:lnTo>
                      <a:lnTo>
                        <a:pt x="1198" y="169"/>
                      </a:lnTo>
                      <a:lnTo>
                        <a:pt x="1200" y="176"/>
                      </a:lnTo>
                      <a:lnTo>
                        <a:pt x="1203" y="182"/>
                      </a:lnTo>
                      <a:lnTo>
                        <a:pt x="1209" y="188"/>
                      </a:lnTo>
                      <a:lnTo>
                        <a:pt x="1213" y="194"/>
                      </a:lnTo>
                      <a:lnTo>
                        <a:pt x="1219" y="199"/>
                      </a:lnTo>
                      <a:lnTo>
                        <a:pt x="1226" y="205"/>
                      </a:lnTo>
                      <a:lnTo>
                        <a:pt x="1232" y="210"/>
                      </a:lnTo>
                      <a:lnTo>
                        <a:pt x="1242" y="207"/>
                      </a:lnTo>
                      <a:lnTo>
                        <a:pt x="1252" y="205"/>
                      </a:lnTo>
                      <a:lnTo>
                        <a:pt x="1261" y="203"/>
                      </a:lnTo>
                      <a:lnTo>
                        <a:pt x="1271" y="203"/>
                      </a:lnTo>
                      <a:lnTo>
                        <a:pt x="1281" y="202"/>
                      </a:lnTo>
                      <a:lnTo>
                        <a:pt x="1290" y="202"/>
                      </a:lnTo>
                      <a:lnTo>
                        <a:pt x="1301" y="202"/>
                      </a:lnTo>
                      <a:lnTo>
                        <a:pt x="1312" y="203"/>
                      </a:lnTo>
                      <a:lnTo>
                        <a:pt x="1318" y="205"/>
                      </a:lnTo>
                      <a:lnTo>
                        <a:pt x="1327" y="206"/>
                      </a:lnTo>
                      <a:lnTo>
                        <a:pt x="1334" y="205"/>
                      </a:lnTo>
                      <a:lnTo>
                        <a:pt x="1344" y="203"/>
                      </a:lnTo>
                      <a:lnTo>
                        <a:pt x="1351" y="200"/>
                      </a:lnTo>
                      <a:lnTo>
                        <a:pt x="1360" y="197"/>
                      </a:lnTo>
                      <a:lnTo>
                        <a:pt x="1367" y="194"/>
                      </a:lnTo>
                      <a:lnTo>
                        <a:pt x="1376" y="192"/>
                      </a:lnTo>
                      <a:lnTo>
                        <a:pt x="1379" y="186"/>
                      </a:lnTo>
                      <a:lnTo>
                        <a:pt x="1386" y="186"/>
                      </a:lnTo>
                      <a:lnTo>
                        <a:pt x="1392" y="188"/>
                      </a:lnTo>
                      <a:lnTo>
                        <a:pt x="1400" y="192"/>
                      </a:lnTo>
                      <a:lnTo>
                        <a:pt x="1415" y="196"/>
                      </a:lnTo>
                      <a:lnTo>
                        <a:pt x="1431" y="200"/>
                      </a:lnTo>
                      <a:lnTo>
                        <a:pt x="1448" y="202"/>
                      </a:lnTo>
                      <a:lnTo>
                        <a:pt x="1466" y="205"/>
                      </a:lnTo>
                      <a:lnTo>
                        <a:pt x="1483" y="205"/>
                      </a:lnTo>
                      <a:lnTo>
                        <a:pt x="1502" y="206"/>
                      </a:lnTo>
                      <a:lnTo>
                        <a:pt x="1519" y="206"/>
                      </a:lnTo>
                      <a:lnTo>
                        <a:pt x="1537" y="208"/>
                      </a:lnTo>
                      <a:lnTo>
                        <a:pt x="1568" y="198"/>
                      </a:lnTo>
                      <a:lnTo>
                        <a:pt x="1600" y="190"/>
                      </a:lnTo>
                      <a:lnTo>
                        <a:pt x="1631" y="181"/>
                      </a:lnTo>
                      <a:lnTo>
                        <a:pt x="1663" y="172"/>
                      </a:lnTo>
                      <a:lnTo>
                        <a:pt x="1693" y="162"/>
                      </a:lnTo>
                      <a:lnTo>
                        <a:pt x="1725" y="150"/>
                      </a:lnTo>
                      <a:lnTo>
                        <a:pt x="1754" y="135"/>
                      </a:lnTo>
                      <a:lnTo>
                        <a:pt x="1783" y="118"/>
                      </a:lnTo>
                      <a:lnTo>
                        <a:pt x="1790" y="142"/>
                      </a:lnTo>
                      <a:lnTo>
                        <a:pt x="1801" y="168"/>
                      </a:lnTo>
                      <a:lnTo>
                        <a:pt x="1814" y="193"/>
                      </a:lnTo>
                      <a:lnTo>
                        <a:pt x="1830" y="216"/>
                      </a:lnTo>
                      <a:lnTo>
                        <a:pt x="1847" y="238"/>
                      </a:lnTo>
                      <a:lnTo>
                        <a:pt x="1868" y="258"/>
                      </a:lnTo>
                      <a:lnTo>
                        <a:pt x="1891" y="275"/>
                      </a:lnTo>
                      <a:lnTo>
                        <a:pt x="1917" y="290"/>
                      </a:lnTo>
                      <a:lnTo>
                        <a:pt x="1918" y="300"/>
                      </a:lnTo>
                      <a:lnTo>
                        <a:pt x="1919" y="311"/>
                      </a:lnTo>
                      <a:lnTo>
                        <a:pt x="1922" y="319"/>
                      </a:lnTo>
                      <a:lnTo>
                        <a:pt x="1931" y="327"/>
                      </a:lnTo>
                      <a:lnTo>
                        <a:pt x="1938" y="328"/>
                      </a:lnTo>
                      <a:lnTo>
                        <a:pt x="1947" y="333"/>
                      </a:lnTo>
                      <a:lnTo>
                        <a:pt x="1953" y="339"/>
                      </a:lnTo>
                      <a:lnTo>
                        <a:pt x="1959" y="346"/>
                      </a:lnTo>
                      <a:lnTo>
                        <a:pt x="1966" y="352"/>
                      </a:lnTo>
                      <a:lnTo>
                        <a:pt x="1972" y="357"/>
                      </a:lnTo>
                      <a:lnTo>
                        <a:pt x="1981" y="358"/>
                      </a:lnTo>
                      <a:lnTo>
                        <a:pt x="1993" y="357"/>
                      </a:lnTo>
                      <a:lnTo>
                        <a:pt x="2005" y="378"/>
                      </a:lnTo>
                      <a:lnTo>
                        <a:pt x="2021" y="398"/>
                      </a:lnTo>
                      <a:lnTo>
                        <a:pt x="2039" y="414"/>
                      </a:lnTo>
                      <a:lnTo>
                        <a:pt x="2061" y="428"/>
                      </a:lnTo>
                      <a:lnTo>
                        <a:pt x="2083" y="438"/>
                      </a:lnTo>
                      <a:lnTo>
                        <a:pt x="2107" y="449"/>
                      </a:lnTo>
                      <a:lnTo>
                        <a:pt x="2132" y="457"/>
                      </a:lnTo>
                      <a:lnTo>
                        <a:pt x="2157" y="464"/>
                      </a:lnTo>
                      <a:lnTo>
                        <a:pt x="2173" y="461"/>
                      </a:lnTo>
                      <a:lnTo>
                        <a:pt x="2190" y="458"/>
                      </a:lnTo>
                      <a:lnTo>
                        <a:pt x="2207" y="452"/>
                      </a:lnTo>
                      <a:lnTo>
                        <a:pt x="2224" y="447"/>
                      </a:lnTo>
                      <a:lnTo>
                        <a:pt x="2238" y="437"/>
                      </a:lnTo>
                      <a:lnTo>
                        <a:pt x="2252" y="428"/>
                      </a:lnTo>
                      <a:lnTo>
                        <a:pt x="2264" y="415"/>
                      </a:lnTo>
                      <a:lnTo>
                        <a:pt x="2276" y="400"/>
                      </a:lnTo>
                      <a:lnTo>
                        <a:pt x="2279" y="389"/>
                      </a:lnTo>
                      <a:lnTo>
                        <a:pt x="2282" y="379"/>
                      </a:lnTo>
                      <a:lnTo>
                        <a:pt x="2284" y="370"/>
                      </a:lnTo>
                      <a:lnTo>
                        <a:pt x="2287" y="360"/>
                      </a:lnTo>
                      <a:lnTo>
                        <a:pt x="2286" y="349"/>
                      </a:lnTo>
                      <a:lnTo>
                        <a:pt x="2284" y="339"/>
                      </a:lnTo>
                      <a:lnTo>
                        <a:pt x="2281" y="329"/>
                      </a:lnTo>
                      <a:lnTo>
                        <a:pt x="2277" y="320"/>
                      </a:lnTo>
                      <a:lnTo>
                        <a:pt x="2213" y="264"/>
                      </a:lnTo>
                      <a:lnTo>
                        <a:pt x="2220" y="259"/>
                      </a:lnTo>
                      <a:lnTo>
                        <a:pt x="2230" y="257"/>
                      </a:lnTo>
                      <a:lnTo>
                        <a:pt x="2239" y="254"/>
                      </a:lnTo>
                      <a:lnTo>
                        <a:pt x="2249" y="252"/>
                      </a:lnTo>
                      <a:lnTo>
                        <a:pt x="2258" y="247"/>
                      </a:lnTo>
                      <a:lnTo>
                        <a:pt x="2265" y="242"/>
                      </a:lnTo>
                      <a:lnTo>
                        <a:pt x="2269" y="235"/>
                      </a:lnTo>
                      <a:lnTo>
                        <a:pt x="2273" y="225"/>
                      </a:lnTo>
                      <a:lnTo>
                        <a:pt x="2273" y="218"/>
                      </a:lnTo>
                      <a:lnTo>
                        <a:pt x="2308" y="257"/>
                      </a:lnTo>
                      <a:lnTo>
                        <a:pt x="2341" y="299"/>
                      </a:lnTo>
                      <a:lnTo>
                        <a:pt x="2371" y="342"/>
                      </a:lnTo>
                      <a:lnTo>
                        <a:pt x="2400" y="387"/>
                      </a:lnTo>
                      <a:lnTo>
                        <a:pt x="2426" y="432"/>
                      </a:lnTo>
                      <a:lnTo>
                        <a:pt x="2449" y="479"/>
                      </a:lnTo>
                      <a:lnTo>
                        <a:pt x="2469" y="526"/>
                      </a:lnTo>
                      <a:lnTo>
                        <a:pt x="2488" y="576"/>
                      </a:lnTo>
                      <a:lnTo>
                        <a:pt x="2504" y="636"/>
                      </a:lnTo>
                      <a:lnTo>
                        <a:pt x="2511" y="699"/>
                      </a:lnTo>
                      <a:lnTo>
                        <a:pt x="2510" y="763"/>
                      </a:lnTo>
                      <a:lnTo>
                        <a:pt x="2502" y="826"/>
                      </a:lnTo>
                      <a:lnTo>
                        <a:pt x="2488" y="888"/>
                      </a:lnTo>
                      <a:lnTo>
                        <a:pt x="2471" y="951"/>
                      </a:lnTo>
                      <a:lnTo>
                        <a:pt x="2452" y="1012"/>
                      </a:lnTo>
                      <a:lnTo>
                        <a:pt x="2431" y="1072"/>
                      </a:lnTo>
                      <a:lnTo>
                        <a:pt x="2428" y="1083"/>
                      </a:lnTo>
                      <a:lnTo>
                        <a:pt x="2425" y="1096"/>
                      </a:lnTo>
                      <a:lnTo>
                        <a:pt x="2422" y="1109"/>
                      </a:lnTo>
                      <a:lnTo>
                        <a:pt x="2418" y="1122"/>
                      </a:lnTo>
                      <a:lnTo>
                        <a:pt x="2413" y="1134"/>
                      </a:lnTo>
                      <a:lnTo>
                        <a:pt x="2410" y="1147"/>
                      </a:lnTo>
                      <a:lnTo>
                        <a:pt x="2406" y="1160"/>
                      </a:lnTo>
                      <a:lnTo>
                        <a:pt x="2402" y="1173"/>
                      </a:lnTo>
                      <a:lnTo>
                        <a:pt x="2395" y="1180"/>
                      </a:lnTo>
                      <a:lnTo>
                        <a:pt x="2392" y="1189"/>
                      </a:lnTo>
                      <a:lnTo>
                        <a:pt x="2388" y="1197"/>
                      </a:lnTo>
                      <a:lnTo>
                        <a:pt x="2387" y="1207"/>
                      </a:lnTo>
                      <a:lnTo>
                        <a:pt x="2384" y="1215"/>
                      </a:lnTo>
                      <a:lnTo>
                        <a:pt x="2382" y="1224"/>
                      </a:lnTo>
                      <a:lnTo>
                        <a:pt x="2378" y="1233"/>
                      </a:lnTo>
                      <a:lnTo>
                        <a:pt x="2371" y="1241"/>
                      </a:lnTo>
                      <a:lnTo>
                        <a:pt x="2375" y="1251"/>
                      </a:lnTo>
                      <a:lnTo>
                        <a:pt x="2377" y="1261"/>
                      </a:lnTo>
                      <a:lnTo>
                        <a:pt x="2376" y="1270"/>
                      </a:lnTo>
                      <a:lnTo>
                        <a:pt x="2375" y="1280"/>
                      </a:lnTo>
                      <a:lnTo>
                        <a:pt x="2371" y="1289"/>
                      </a:lnTo>
                      <a:lnTo>
                        <a:pt x="2368" y="1300"/>
                      </a:lnTo>
                      <a:lnTo>
                        <a:pt x="2366" y="1310"/>
                      </a:lnTo>
                      <a:lnTo>
                        <a:pt x="2365" y="1322"/>
                      </a:lnTo>
                      <a:lnTo>
                        <a:pt x="2349" y="1360"/>
                      </a:lnTo>
                      <a:lnTo>
                        <a:pt x="2334" y="1400"/>
                      </a:lnTo>
                      <a:lnTo>
                        <a:pt x="2319" y="1440"/>
                      </a:lnTo>
                      <a:lnTo>
                        <a:pt x="2305" y="1481"/>
                      </a:lnTo>
                      <a:lnTo>
                        <a:pt x="2290" y="1519"/>
                      </a:lnTo>
                      <a:lnTo>
                        <a:pt x="2275" y="1559"/>
                      </a:lnTo>
                      <a:lnTo>
                        <a:pt x="2260" y="1599"/>
                      </a:lnTo>
                      <a:lnTo>
                        <a:pt x="2246" y="1638"/>
                      </a:lnTo>
                      <a:lnTo>
                        <a:pt x="2235" y="1638"/>
                      </a:lnTo>
                      <a:lnTo>
                        <a:pt x="2225" y="1640"/>
                      </a:lnTo>
                      <a:lnTo>
                        <a:pt x="2216" y="1643"/>
                      </a:lnTo>
                      <a:lnTo>
                        <a:pt x="2207" y="1648"/>
                      </a:lnTo>
                      <a:lnTo>
                        <a:pt x="2199" y="1652"/>
                      </a:lnTo>
                      <a:lnTo>
                        <a:pt x="2191" y="1659"/>
                      </a:lnTo>
                      <a:lnTo>
                        <a:pt x="2185" y="1665"/>
                      </a:lnTo>
                      <a:lnTo>
                        <a:pt x="2178" y="1673"/>
                      </a:lnTo>
                      <a:lnTo>
                        <a:pt x="2181" y="1677"/>
                      </a:lnTo>
                      <a:lnTo>
                        <a:pt x="2196" y="1666"/>
                      </a:lnTo>
                      <a:lnTo>
                        <a:pt x="2213" y="1661"/>
                      </a:lnTo>
                      <a:lnTo>
                        <a:pt x="2230" y="1659"/>
                      </a:lnTo>
                      <a:lnTo>
                        <a:pt x="2247" y="1660"/>
                      </a:lnTo>
                      <a:lnTo>
                        <a:pt x="2264" y="1662"/>
                      </a:lnTo>
                      <a:lnTo>
                        <a:pt x="2282" y="1665"/>
                      </a:lnTo>
                      <a:lnTo>
                        <a:pt x="2301" y="1667"/>
                      </a:lnTo>
                      <a:lnTo>
                        <a:pt x="2319" y="1670"/>
                      </a:lnTo>
                      <a:lnTo>
                        <a:pt x="2343" y="1680"/>
                      </a:lnTo>
                      <a:lnTo>
                        <a:pt x="2369" y="1691"/>
                      </a:lnTo>
                      <a:lnTo>
                        <a:pt x="2393" y="1703"/>
                      </a:lnTo>
                      <a:lnTo>
                        <a:pt x="2417" y="1717"/>
                      </a:lnTo>
                      <a:lnTo>
                        <a:pt x="2439" y="1732"/>
                      </a:lnTo>
                      <a:lnTo>
                        <a:pt x="2461" y="1749"/>
                      </a:lnTo>
                      <a:lnTo>
                        <a:pt x="2483" y="1768"/>
                      </a:lnTo>
                      <a:lnTo>
                        <a:pt x="2503" y="1792"/>
                      </a:lnTo>
                      <a:lnTo>
                        <a:pt x="2508" y="1799"/>
                      </a:lnTo>
                      <a:lnTo>
                        <a:pt x="2512" y="1810"/>
                      </a:lnTo>
                      <a:lnTo>
                        <a:pt x="2514" y="1820"/>
                      </a:lnTo>
                      <a:lnTo>
                        <a:pt x="2517" y="1831"/>
                      </a:lnTo>
                      <a:lnTo>
                        <a:pt x="2517" y="1841"/>
                      </a:lnTo>
                      <a:lnTo>
                        <a:pt x="2517" y="1853"/>
                      </a:lnTo>
                      <a:lnTo>
                        <a:pt x="2517" y="1863"/>
                      </a:lnTo>
                      <a:lnTo>
                        <a:pt x="2518" y="1874"/>
                      </a:lnTo>
                      <a:lnTo>
                        <a:pt x="2514" y="1885"/>
                      </a:lnTo>
                      <a:lnTo>
                        <a:pt x="2510" y="1897"/>
                      </a:lnTo>
                      <a:lnTo>
                        <a:pt x="2502" y="1907"/>
                      </a:lnTo>
                      <a:lnTo>
                        <a:pt x="2495" y="1916"/>
                      </a:lnTo>
                      <a:lnTo>
                        <a:pt x="2485" y="1924"/>
                      </a:lnTo>
                      <a:lnTo>
                        <a:pt x="2476" y="1931"/>
                      </a:lnTo>
                      <a:lnTo>
                        <a:pt x="2466" y="1938"/>
                      </a:lnTo>
                      <a:lnTo>
                        <a:pt x="2456" y="1944"/>
                      </a:lnTo>
                      <a:lnTo>
                        <a:pt x="2427" y="1953"/>
                      </a:lnTo>
                      <a:lnTo>
                        <a:pt x="2439" y="1941"/>
                      </a:lnTo>
                      <a:lnTo>
                        <a:pt x="2449" y="1929"/>
                      </a:lnTo>
                      <a:lnTo>
                        <a:pt x="2454" y="1915"/>
                      </a:lnTo>
                      <a:lnTo>
                        <a:pt x="2457" y="1901"/>
                      </a:lnTo>
                      <a:lnTo>
                        <a:pt x="2457" y="1885"/>
                      </a:lnTo>
                      <a:lnTo>
                        <a:pt x="2457" y="1870"/>
                      </a:lnTo>
                      <a:lnTo>
                        <a:pt x="2455" y="1856"/>
                      </a:lnTo>
                      <a:lnTo>
                        <a:pt x="2454" y="1843"/>
                      </a:lnTo>
                      <a:lnTo>
                        <a:pt x="2447" y="1826"/>
                      </a:lnTo>
                      <a:lnTo>
                        <a:pt x="2439" y="1811"/>
                      </a:lnTo>
                      <a:lnTo>
                        <a:pt x="2427" y="1796"/>
                      </a:lnTo>
                      <a:lnTo>
                        <a:pt x="2414" y="1784"/>
                      </a:lnTo>
                      <a:lnTo>
                        <a:pt x="2398" y="1772"/>
                      </a:lnTo>
                      <a:lnTo>
                        <a:pt x="2383" y="1763"/>
                      </a:lnTo>
                      <a:lnTo>
                        <a:pt x="2367" y="1755"/>
                      </a:lnTo>
                      <a:lnTo>
                        <a:pt x="2352" y="1751"/>
                      </a:lnTo>
                      <a:lnTo>
                        <a:pt x="2343" y="1750"/>
                      </a:lnTo>
                      <a:lnTo>
                        <a:pt x="2336" y="1749"/>
                      </a:lnTo>
                      <a:lnTo>
                        <a:pt x="2329" y="1750"/>
                      </a:lnTo>
                      <a:lnTo>
                        <a:pt x="2326" y="1756"/>
                      </a:lnTo>
                      <a:lnTo>
                        <a:pt x="2337" y="1762"/>
                      </a:lnTo>
                      <a:lnTo>
                        <a:pt x="2349" y="1767"/>
                      </a:lnTo>
                      <a:lnTo>
                        <a:pt x="2361" y="1771"/>
                      </a:lnTo>
                      <a:lnTo>
                        <a:pt x="2372" y="1778"/>
                      </a:lnTo>
                      <a:lnTo>
                        <a:pt x="2383" y="1784"/>
                      </a:lnTo>
                      <a:lnTo>
                        <a:pt x="2394" y="1791"/>
                      </a:lnTo>
                      <a:lnTo>
                        <a:pt x="2402" y="1799"/>
                      </a:lnTo>
                      <a:lnTo>
                        <a:pt x="2412" y="1810"/>
                      </a:lnTo>
                      <a:lnTo>
                        <a:pt x="2417" y="1823"/>
                      </a:lnTo>
                      <a:lnTo>
                        <a:pt x="2424" y="1839"/>
                      </a:lnTo>
                      <a:lnTo>
                        <a:pt x="2429" y="1854"/>
                      </a:lnTo>
                      <a:lnTo>
                        <a:pt x="2436" y="1870"/>
                      </a:lnTo>
                      <a:lnTo>
                        <a:pt x="2439" y="1885"/>
                      </a:lnTo>
                      <a:lnTo>
                        <a:pt x="2439" y="1901"/>
                      </a:lnTo>
                      <a:lnTo>
                        <a:pt x="2435" y="1916"/>
                      </a:lnTo>
                      <a:lnTo>
                        <a:pt x="2427" y="1931"/>
                      </a:lnTo>
                      <a:lnTo>
                        <a:pt x="2416" y="1936"/>
                      </a:lnTo>
                      <a:lnTo>
                        <a:pt x="2409" y="1942"/>
                      </a:lnTo>
                      <a:lnTo>
                        <a:pt x="2401" y="1948"/>
                      </a:lnTo>
                      <a:lnTo>
                        <a:pt x="2395" y="1956"/>
                      </a:lnTo>
                      <a:lnTo>
                        <a:pt x="2387" y="1961"/>
                      </a:lnTo>
                      <a:lnTo>
                        <a:pt x="2380" y="1967"/>
                      </a:lnTo>
                      <a:lnTo>
                        <a:pt x="2371" y="1971"/>
                      </a:lnTo>
                      <a:lnTo>
                        <a:pt x="2362" y="1975"/>
                      </a:lnTo>
                      <a:lnTo>
                        <a:pt x="2302" y="1986"/>
                      </a:lnTo>
                      <a:lnTo>
                        <a:pt x="2308" y="1972"/>
                      </a:lnTo>
                      <a:lnTo>
                        <a:pt x="2314" y="1958"/>
                      </a:lnTo>
                      <a:lnTo>
                        <a:pt x="2319" y="1942"/>
                      </a:lnTo>
                      <a:lnTo>
                        <a:pt x="2322" y="1927"/>
                      </a:lnTo>
                      <a:lnTo>
                        <a:pt x="2322" y="1911"/>
                      </a:lnTo>
                      <a:lnTo>
                        <a:pt x="2321" y="1895"/>
                      </a:lnTo>
                      <a:lnTo>
                        <a:pt x="2317" y="1880"/>
                      </a:lnTo>
                      <a:lnTo>
                        <a:pt x="2310" y="1867"/>
                      </a:lnTo>
                      <a:lnTo>
                        <a:pt x="2294" y="1852"/>
                      </a:lnTo>
                      <a:lnTo>
                        <a:pt x="2279" y="1837"/>
                      </a:lnTo>
                      <a:lnTo>
                        <a:pt x="2262" y="1823"/>
                      </a:lnTo>
                      <a:lnTo>
                        <a:pt x="2246" y="1811"/>
                      </a:lnTo>
                      <a:lnTo>
                        <a:pt x="2228" y="1801"/>
                      </a:lnTo>
                      <a:lnTo>
                        <a:pt x="2209" y="1795"/>
                      </a:lnTo>
                      <a:lnTo>
                        <a:pt x="2189" y="1792"/>
                      </a:lnTo>
                      <a:lnTo>
                        <a:pt x="2170" y="1795"/>
                      </a:lnTo>
                      <a:lnTo>
                        <a:pt x="2168" y="1802"/>
                      </a:lnTo>
                      <a:lnTo>
                        <a:pt x="2173" y="1808"/>
                      </a:lnTo>
                      <a:lnTo>
                        <a:pt x="2193" y="1809"/>
                      </a:lnTo>
                      <a:lnTo>
                        <a:pt x="2214" y="1814"/>
                      </a:lnTo>
                      <a:lnTo>
                        <a:pt x="2232" y="1824"/>
                      </a:lnTo>
                      <a:lnTo>
                        <a:pt x="2250" y="1837"/>
                      </a:lnTo>
                      <a:lnTo>
                        <a:pt x="2265" y="1851"/>
                      </a:lnTo>
                      <a:lnTo>
                        <a:pt x="2279" y="1867"/>
                      </a:lnTo>
                      <a:lnTo>
                        <a:pt x="2292" y="1884"/>
                      </a:lnTo>
                      <a:lnTo>
                        <a:pt x="2305" y="1902"/>
                      </a:lnTo>
                      <a:lnTo>
                        <a:pt x="2305" y="1911"/>
                      </a:lnTo>
                      <a:lnTo>
                        <a:pt x="2305" y="1921"/>
                      </a:lnTo>
                      <a:lnTo>
                        <a:pt x="2303" y="1929"/>
                      </a:lnTo>
                      <a:lnTo>
                        <a:pt x="2301" y="1939"/>
                      </a:lnTo>
                      <a:lnTo>
                        <a:pt x="2296" y="1947"/>
                      </a:lnTo>
                      <a:lnTo>
                        <a:pt x="2293" y="1957"/>
                      </a:lnTo>
                      <a:lnTo>
                        <a:pt x="2289" y="1966"/>
                      </a:lnTo>
                      <a:lnTo>
                        <a:pt x="2284" y="1975"/>
                      </a:lnTo>
                      <a:lnTo>
                        <a:pt x="2259" y="1992"/>
                      </a:lnTo>
                      <a:lnTo>
                        <a:pt x="2231" y="2003"/>
                      </a:lnTo>
                      <a:lnTo>
                        <a:pt x="2200" y="2010"/>
                      </a:lnTo>
                      <a:lnTo>
                        <a:pt x="2169" y="2013"/>
                      </a:lnTo>
                      <a:lnTo>
                        <a:pt x="2136" y="2013"/>
                      </a:lnTo>
                      <a:lnTo>
                        <a:pt x="2104" y="2013"/>
                      </a:lnTo>
                      <a:lnTo>
                        <a:pt x="2072" y="2012"/>
                      </a:lnTo>
                      <a:lnTo>
                        <a:pt x="2044" y="2013"/>
                      </a:lnTo>
                      <a:lnTo>
                        <a:pt x="2028" y="2009"/>
                      </a:lnTo>
                      <a:lnTo>
                        <a:pt x="2012" y="2005"/>
                      </a:lnTo>
                      <a:lnTo>
                        <a:pt x="1996" y="2001"/>
                      </a:lnTo>
                      <a:lnTo>
                        <a:pt x="1981" y="1998"/>
                      </a:lnTo>
                      <a:lnTo>
                        <a:pt x="1966" y="1992"/>
                      </a:lnTo>
                      <a:lnTo>
                        <a:pt x="1951" y="1988"/>
                      </a:lnTo>
                      <a:lnTo>
                        <a:pt x="1936" y="1983"/>
                      </a:lnTo>
                      <a:lnTo>
                        <a:pt x="1922" y="1978"/>
                      </a:lnTo>
                      <a:lnTo>
                        <a:pt x="1918" y="1971"/>
                      </a:lnTo>
                      <a:lnTo>
                        <a:pt x="1912" y="1967"/>
                      </a:lnTo>
                      <a:lnTo>
                        <a:pt x="1905" y="1963"/>
                      </a:lnTo>
                      <a:lnTo>
                        <a:pt x="1899" y="1959"/>
                      </a:lnTo>
                      <a:lnTo>
                        <a:pt x="1891" y="1937"/>
                      </a:lnTo>
                      <a:lnTo>
                        <a:pt x="1885" y="1915"/>
                      </a:lnTo>
                      <a:lnTo>
                        <a:pt x="1880" y="1893"/>
                      </a:lnTo>
                      <a:lnTo>
                        <a:pt x="1878" y="1871"/>
                      </a:lnTo>
                      <a:lnTo>
                        <a:pt x="1875" y="1849"/>
                      </a:lnTo>
                      <a:lnTo>
                        <a:pt x="1874" y="1827"/>
                      </a:lnTo>
                      <a:lnTo>
                        <a:pt x="1873" y="1805"/>
                      </a:lnTo>
                      <a:lnTo>
                        <a:pt x="1873" y="1784"/>
                      </a:lnTo>
                      <a:lnTo>
                        <a:pt x="1874" y="1784"/>
                      </a:lnTo>
                      <a:lnTo>
                        <a:pt x="1882" y="1705"/>
                      </a:lnTo>
                      <a:lnTo>
                        <a:pt x="1897" y="1629"/>
                      </a:lnTo>
                      <a:lnTo>
                        <a:pt x="1917" y="1552"/>
                      </a:lnTo>
                      <a:lnTo>
                        <a:pt x="1941" y="1478"/>
                      </a:lnTo>
                      <a:lnTo>
                        <a:pt x="1968" y="1404"/>
                      </a:lnTo>
                      <a:lnTo>
                        <a:pt x="1999" y="1332"/>
                      </a:lnTo>
                      <a:lnTo>
                        <a:pt x="2032" y="1261"/>
                      </a:lnTo>
                      <a:lnTo>
                        <a:pt x="2068" y="1190"/>
                      </a:lnTo>
                      <a:lnTo>
                        <a:pt x="2070" y="1184"/>
                      </a:lnTo>
                      <a:lnTo>
                        <a:pt x="2073" y="1180"/>
                      </a:lnTo>
                      <a:lnTo>
                        <a:pt x="2066" y="1178"/>
                      </a:lnTo>
                      <a:lnTo>
                        <a:pt x="2059" y="1182"/>
                      </a:lnTo>
                      <a:lnTo>
                        <a:pt x="2047" y="1198"/>
                      </a:lnTo>
                      <a:lnTo>
                        <a:pt x="2038" y="1215"/>
                      </a:lnTo>
                      <a:lnTo>
                        <a:pt x="2029" y="1233"/>
                      </a:lnTo>
                      <a:lnTo>
                        <a:pt x="2022" y="1251"/>
                      </a:lnTo>
                      <a:lnTo>
                        <a:pt x="2012" y="1268"/>
                      </a:lnTo>
                      <a:lnTo>
                        <a:pt x="2002" y="1285"/>
                      </a:lnTo>
                      <a:lnTo>
                        <a:pt x="1992" y="1301"/>
                      </a:lnTo>
                      <a:lnTo>
                        <a:pt x="1979" y="1318"/>
                      </a:lnTo>
                      <a:lnTo>
                        <a:pt x="1937" y="1340"/>
                      </a:lnTo>
                      <a:lnTo>
                        <a:pt x="1894" y="1357"/>
                      </a:lnTo>
                      <a:lnTo>
                        <a:pt x="1849" y="1371"/>
                      </a:lnTo>
                      <a:lnTo>
                        <a:pt x="1805" y="1384"/>
                      </a:lnTo>
                      <a:lnTo>
                        <a:pt x="1758" y="1394"/>
                      </a:lnTo>
                      <a:lnTo>
                        <a:pt x="1712" y="1403"/>
                      </a:lnTo>
                      <a:lnTo>
                        <a:pt x="1666" y="1413"/>
                      </a:lnTo>
                      <a:lnTo>
                        <a:pt x="1621" y="1424"/>
                      </a:lnTo>
                      <a:lnTo>
                        <a:pt x="1574" y="1431"/>
                      </a:lnTo>
                      <a:lnTo>
                        <a:pt x="1529" y="1439"/>
                      </a:lnTo>
                      <a:lnTo>
                        <a:pt x="1482" y="1442"/>
                      </a:lnTo>
                      <a:lnTo>
                        <a:pt x="1437" y="1444"/>
                      </a:lnTo>
                      <a:lnTo>
                        <a:pt x="1390" y="1441"/>
                      </a:lnTo>
                      <a:lnTo>
                        <a:pt x="1345" y="1435"/>
                      </a:lnTo>
                      <a:lnTo>
                        <a:pt x="1301" y="1424"/>
                      </a:lnTo>
                      <a:lnTo>
                        <a:pt x="1260" y="1408"/>
                      </a:lnTo>
                      <a:lnTo>
                        <a:pt x="1256" y="1402"/>
                      </a:lnTo>
                      <a:lnTo>
                        <a:pt x="1252" y="1402"/>
                      </a:lnTo>
                      <a:lnTo>
                        <a:pt x="1246" y="1402"/>
                      </a:lnTo>
                      <a:lnTo>
                        <a:pt x="1242" y="1401"/>
                      </a:lnTo>
                      <a:lnTo>
                        <a:pt x="1230" y="1395"/>
                      </a:lnTo>
                      <a:lnTo>
                        <a:pt x="1218" y="1388"/>
                      </a:lnTo>
                      <a:lnTo>
                        <a:pt x="1207" y="1382"/>
                      </a:lnTo>
                      <a:lnTo>
                        <a:pt x="1195" y="1376"/>
                      </a:lnTo>
                      <a:lnTo>
                        <a:pt x="1183" y="1371"/>
                      </a:lnTo>
                      <a:lnTo>
                        <a:pt x="1171" y="1367"/>
                      </a:lnTo>
                      <a:lnTo>
                        <a:pt x="1159" y="1362"/>
                      </a:lnTo>
                      <a:lnTo>
                        <a:pt x="1149" y="1360"/>
                      </a:lnTo>
                      <a:lnTo>
                        <a:pt x="1134" y="1354"/>
                      </a:lnTo>
                      <a:lnTo>
                        <a:pt x="1120" y="1349"/>
                      </a:lnTo>
                      <a:lnTo>
                        <a:pt x="1105" y="1344"/>
                      </a:lnTo>
                      <a:lnTo>
                        <a:pt x="1091" y="1341"/>
                      </a:lnTo>
                      <a:lnTo>
                        <a:pt x="1076" y="1337"/>
                      </a:lnTo>
                      <a:lnTo>
                        <a:pt x="1062" y="1332"/>
                      </a:lnTo>
                      <a:lnTo>
                        <a:pt x="1047" y="1328"/>
                      </a:lnTo>
                      <a:lnTo>
                        <a:pt x="1034" y="1325"/>
                      </a:lnTo>
                      <a:lnTo>
                        <a:pt x="1018" y="1316"/>
                      </a:lnTo>
                      <a:lnTo>
                        <a:pt x="1002" y="1309"/>
                      </a:lnTo>
                      <a:lnTo>
                        <a:pt x="986" y="1302"/>
                      </a:lnTo>
                      <a:lnTo>
                        <a:pt x="970" y="1297"/>
                      </a:lnTo>
                      <a:lnTo>
                        <a:pt x="953" y="1291"/>
                      </a:lnTo>
                      <a:lnTo>
                        <a:pt x="937" y="1284"/>
                      </a:lnTo>
                      <a:lnTo>
                        <a:pt x="922" y="1276"/>
                      </a:lnTo>
                      <a:lnTo>
                        <a:pt x="908" y="1267"/>
                      </a:lnTo>
                      <a:lnTo>
                        <a:pt x="929" y="1230"/>
                      </a:lnTo>
                      <a:lnTo>
                        <a:pt x="944" y="1193"/>
                      </a:lnTo>
                      <a:lnTo>
                        <a:pt x="953" y="1153"/>
                      </a:lnTo>
                      <a:lnTo>
                        <a:pt x="959" y="1113"/>
                      </a:lnTo>
                      <a:lnTo>
                        <a:pt x="959" y="1072"/>
                      </a:lnTo>
                      <a:lnTo>
                        <a:pt x="957" y="1031"/>
                      </a:lnTo>
                      <a:lnTo>
                        <a:pt x="952" y="989"/>
                      </a:lnTo>
                      <a:lnTo>
                        <a:pt x="948" y="947"/>
                      </a:lnTo>
                      <a:lnTo>
                        <a:pt x="944" y="924"/>
                      </a:lnTo>
                      <a:lnTo>
                        <a:pt x="941" y="901"/>
                      </a:lnTo>
                      <a:lnTo>
                        <a:pt x="937" y="878"/>
                      </a:lnTo>
                      <a:lnTo>
                        <a:pt x="935" y="856"/>
                      </a:lnTo>
                      <a:lnTo>
                        <a:pt x="931" y="833"/>
                      </a:lnTo>
                      <a:lnTo>
                        <a:pt x="927" y="811"/>
                      </a:lnTo>
                      <a:lnTo>
                        <a:pt x="920" y="788"/>
                      </a:lnTo>
                      <a:lnTo>
                        <a:pt x="912" y="768"/>
                      </a:lnTo>
                      <a:lnTo>
                        <a:pt x="905" y="755"/>
                      </a:lnTo>
                      <a:lnTo>
                        <a:pt x="900" y="744"/>
                      </a:lnTo>
                      <a:lnTo>
                        <a:pt x="894" y="734"/>
                      </a:lnTo>
                      <a:lnTo>
                        <a:pt x="889" y="723"/>
                      </a:lnTo>
                      <a:lnTo>
                        <a:pt x="883" y="712"/>
                      </a:lnTo>
                      <a:lnTo>
                        <a:pt x="876" y="702"/>
                      </a:lnTo>
                      <a:lnTo>
                        <a:pt x="869" y="692"/>
                      </a:lnTo>
                      <a:lnTo>
                        <a:pt x="862" y="682"/>
                      </a:lnTo>
                      <a:lnTo>
                        <a:pt x="863" y="690"/>
                      </a:lnTo>
                      <a:lnTo>
                        <a:pt x="868" y="697"/>
                      </a:lnTo>
                      <a:lnTo>
                        <a:pt x="884" y="729"/>
                      </a:lnTo>
                      <a:lnTo>
                        <a:pt x="897" y="765"/>
                      </a:lnTo>
                      <a:lnTo>
                        <a:pt x="906" y="800"/>
                      </a:lnTo>
                      <a:lnTo>
                        <a:pt x="914" y="839"/>
                      </a:lnTo>
                      <a:lnTo>
                        <a:pt x="919" y="876"/>
                      </a:lnTo>
                      <a:lnTo>
                        <a:pt x="925" y="914"/>
                      </a:lnTo>
                      <a:lnTo>
                        <a:pt x="931" y="951"/>
                      </a:lnTo>
                      <a:lnTo>
                        <a:pt x="938" y="988"/>
                      </a:lnTo>
                      <a:lnTo>
                        <a:pt x="938" y="1004"/>
                      </a:lnTo>
                      <a:lnTo>
                        <a:pt x="940" y="1022"/>
                      </a:lnTo>
                      <a:lnTo>
                        <a:pt x="940" y="1041"/>
                      </a:lnTo>
                      <a:lnTo>
                        <a:pt x="941" y="1059"/>
                      </a:lnTo>
                      <a:lnTo>
                        <a:pt x="938" y="1076"/>
                      </a:lnTo>
                      <a:lnTo>
                        <a:pt x="936" y="1094"/>
                      </a:lnTo>
                      <a:lnTo>
                        <a:pt x="933" y="1112"/>
                      </a:lnTo>
                      <a:lnTo>
                        <a:pt x="930" y="1131"/>
                      </a:lnTo>
                      <a:lnTo>
                        <a:pt x="926" y="1144"/>
                      </a:lnTo>
                      <a:lnTo>
                        <a:pt x="922" y="1156"/>
                      </a:lnTo>
                      <a:lnTo>
                        <a:pt x="918" y="1169"/>
                      </a:lnTo>
                      <a:lnTo>
                        <a:pt x="915" y="1183"/>
                      </a:lnTo>
                      <a:lnTo>
                        <a:pt x="909" y="1196"/>
                      </a:lnTo>
                      <a:lnTo>
                        <a:pt x="904" y="1209"/>
                      </a:lnTo>
                      <a:lnTo>
                        <a:pt x="899" y="1222"/>
                      </a:lnTo>
                      <a:lnTo>
                        <a:pt x="893" y="1235"/>
                      </a:lnTo>
                      <a:lnTo>
                        <a:pt x="887" y="1244"/>
                      </a:lnTo>
                      <a:lnTo>
                        <a:pt x="881" y="1254"/>
                      </a:lnTo>
                      <a:lnTo>
                        <a:pt x="874" y="1265"/>
                      </a:lnTo>
                      <a:lnTo>
                        <a:pt x="868" y="1276"/>
                      </a:lnTo>
                      <a:lnTo>
                        <a:pt x="860" y="1284"/>
                      </a:lnTo>
                      <a:lnTo>
                        <a:pt x="853" y="1294"/>
                      </a:lnTo>
                      <a:lnTo>
                        <a:pt x="844" y="1303"/>
                      </a:lnTo>
                      <a:lnTo>
                        <a:pt x="835" y="1313"/>
                      </a:lnTo>
                      <a:lnTo>
                        <a:pt x="818" y="1335"/>
                      </a:lnTo>
                      <a:lnTo>
                        <a:pt x="800" y="1357"/>
                      </a:lnTo>
                      <a:lnTo>
                        <a:pt x="780" y="1379"/>
                      </a:lnTo>
                      <a:lnTo>
                        <a:pt x="759" y="1400"/>
                      </a:lnTo>
                      <a:lnTo>
                        <a:pt x="737" y="1419"/>
                      </a:lnTo>
                      <a:lnTo>
                        <a:pt x="714" y="1439"/>
                      </a:lnTo>
                      <a:lnTo>
                        <a:pt x="692" y="1457"/>
                      </a:lnTo>
                      <a:lnTo>
                        <a:pt x="670" y="1475"/>
                      </a:lnTo>
                      <a:lnTo>
                        <a:pt x="663" y="1482"/>
                      </a:lnTo>
                      <a:lnTo>
                        <a:pt x="656" y="1488"/>
                      </a:lnTo>
                      <a:lnTo>
                        <a:pt x="649" y="1493"/>
                      </a:lnTo>
                      <a:lnTo>
                        <a:pt x="642" y="1500"/>
                      </a:lnTo>
                      <a:lnTo>
                        <a:pt x="634" y="1505"/>
                      </a:lnTo>
                      <a:lnTo>
                        <a:pt x="627" y="1511"/>
                      </a:lnTo>
                      <a:lnTo>
                        <a:pt x="619" y="1517"/>
                      </a:lnTo>
                      <a:lnTo>
                        <a:pt x="612" y="1523"/>
                      </a:lnTo>
                      <a:lnTo>
                        <a:pt x="595" y="1531"/>
                      </a:lnTo>
                      <a:lnTo>
                        <a:pt x="579" y="1542"/>
                      </a:lnTo>
                      <a:lnTo>
                        <a:pt x="564" y="1555"/>
                      </a:lnTo>
                      <a:lnTo>
                        <a:pt x="549" y="1567"/>
                      </a:lnTo>
                      <a:lnTo>
                        <a:pt x="533" y="1580"/>
                      </a:lnTo>
                      <a:lnTo>
                        <a:pt x="518" y="1593"/>
                      </a:lnTo>
                      <a:lnTo>
                        <a:pt x="501" y="1604"/>
                      </a:lnTo>
                      <a:lnTo>
                        <a:pt x="485" y="1614"/>
                      </a:lnTo>
                      <a:lnTo>
                        <a:pt x="476" y="1619"/>
                      </a:lnTo>
                      <a:lnTo>
                        <a:pt x="468" y="1624"/>
                      </a:lnTo>
                      <a:lnTo>
                        <a:pt x="459" y="1631"/>
                      </a:lnTo>
                      <a:lnTo>
                        <a:pt x="454" y="1639"/>
                      </a:lnTo>
                      <a:lnTo>
                        <a:pt x="445" y="1641"/>
                      </a:lnTo>
                      <a:lnTo>
                        <a:pt x="437" y="1648"/>
                      </a:lnTo>
                      <a:lnTo>
                        <a:pt x="428" y="1653"/>
                      </a:lnTo>
                      <a:lnTo>
                        <a:pt x="419" y="1660"/>
                      </a:lnTo>
                      <a:lnTo>
                        <a:pt x="412" y="1662"/>
                      </a:lnTo>
                      <a:lnTo>
                        <a:pt x="405" y="1664"/>
                      </a:lnTo>
                      <a:lnTo>
                        <a:pt x="398" y="1665"/>
                      </a:lnTo>
                      <a:lnTo>
                        <a:pt x="391" y="1667"/>
                      </a:lnTo>
                      <a:lnTo>
                        <a:pt x="384" y="1668"/>
                      </a:lnTo>
                      <a:lnTo>
                        <a:pt x="378" y="1673"/>
                      </a:lnTo>
                      <a:lnTo>
                        <a:pt x="372" y="1677"/>
                      </a:lnTo>
                      <a:lnTo>
                        <a:pt x="370" y="1684"/>
                      </a:lnTo>
                      <a:lnTo>
                        <a:pt x="374" y="1689"/>
                      </a:lnTo>
                      <a:lnTo>
                        <a:pt x="384" y="1683"/>
                      </a:lnTo>
                      <a:lnTo>
                        <a:pt x="394" y="1679"/>
                      </a:lnTo>
                      <a:lnTo>
                        <a:pt x="399" y="1676"/>
                      </a:lnTo>
                      <a:lnTo>
                        <a:pt x="404" y="1675"/>
                      </a:lnTo>
                      <a:lnTo>
                        <a:pt x="411" y="1675"/>
                      </a:lnTo>
                      <a:lnTo>
                        <a:pt x="417" y="1675"/>
                      </a:lnTo>
                      <a:lnTo>
                        <a:pt x="418" y="1677"/>
                      </a:lnTo>
                      <a:lnTo>
                        <a:pt x="419" y="1680"/>
                      </a:lnTo>
                      <a:lnTo>
                        <a:pt x="430" y="1676"/>
                      </a:lnTo>
                      <a:lnTo>
                        <a:pt x="442" y="1674"/>
                      </a:lnTo>
                      <a:lnTo>
                        <a:pt x="455" y="1674"/>
                      </a:lnTo>
                      <a:lnTo>
                        <a:pt x="468" y="1674"/>
                      </a:lnTo>
                      <a:lnTo>
                        <a:pt x="479" y="1673"/>
                      </a:lnTo>
                      <a:lnTo>
                        <a:pt x="492" y="1673"/>
                      </a:lnTo>
                      <a:lnTo>
                        <a:pt x="505" y="1670"/>
                      </a:lnTo>
                      <a:lnTo>
                        <a:pt x="518" y="1667"/>
                      </a:lnTo>
                      <a:lnTo>
                        <a:pt x="547" y="1676"/>
                      </a:lnTo>
                      <a:lnTo>
                        <a:pt x="577" y="1687"/>
                      </a:lnTo>
                      <a:lnTo>
                        <a:pt x="606" y="1698"/>
                      </a:lnTo>
                      <a:lnTo>
                        <a:pt x="635" y="1713"/>
                      </a:lnTo>
                      <a:lnTo>
                        <a:pt x="661" y="1731"/>
                      </a:lnTo>
                      <a:lnTo>
                        <a:pt x="686" y="1751"/>
                      </a:lnTo>
                      <a:lnTo>
                        <a:pt x="709" y="1773"/>
                      </a:lnTo>
                      <a:lnTo>
                        <a:pt x="730" y="1802"/>
                      </a:lnTo>
                      <a:lnTo>
                        <a:pt x="737" y="1813"/>
                      </a:lnTo>
                      <a:lnTo>
                        <a:pt x="741" y="1826"/>
                      </a:lnTo>
                      <a:lnTo>
                        <a:pt x="744" y="1839"/>
                      </a:lnTo>
                      <a:lnTo>
                        <a:pt x="746" y="1853"/>
                      </a:lnTo>
                      <a:lnTo>
                        <a:pt x="745" y="1867"/>
                      </a:lnTo>
                      <a:lnTo>
                        <a:pt x="743" y="1881"/>
                      </a:lnTo>
                      <a:lnTo>
                        <a:pt x="740" y="1895"/>
                      </a:lnTo>
                      <a:lnTo>
                        <a:pt x="738" y="1909"/>
                      </a:lnTo>
                      <a:lnTo>
                        <a:pt x="730" y="1921"/>
                      </a:lnTo>
                      <a:lnTo>
                        <a:pt x="722" y="1932"/>
                      </a:lnTo>
                      <a:lnTo>
                        <a:pt x="711" y="1941"/>
                      </a:lnTo>
                      <a:lnTo>
                        <a:pt x="700" y="1949"/>
                      </a:lnTo>
                      <a:lnTo>
                        <a:pt x="687" y="1955"/>
                      </a:lnTo>
                      <a:lnTo>
                        <a:pt x="675" y="1960"/>
                      </a:lnTo>
                      <a:lnTo>
                        <a:pt x="661" y="1963"/>
                      </a:lnTo>
                      <a:lnTo>
                        <a:pt x="648" y="1967"/>
                      </a:lnTo>
                      <a:lnTo>
                        <a:pt x="630" y="1967"/>
                      </a:lnTo>
                      <a:lnTo>
                        <a:pt x="633" y="1955"/>
                      </a:lnTo>
                      <a:lnTo>
                        <a:pt x="637" y="1944"/>
                      </a:lnTo>
                      <a:lnTo>
                        <a:pt x="638" y="1932"/>
                      </a:lnTo>
                      <a:lnTo>
                        <a:pt x="639" y="1922"/>
                      </a:lnTo>
                      <a:lnTo>
                        <a:pt x="638" y="1910"/>
                      </a:lnTo>
                      <a:lnTo>
                        <a:pt x="637" y="1898"/>
                      </a:lnTo>
                      <a:lnTo>
                        <a:pt x="634" y="1886"/>
                      </a:lnTo>
                      <a:lnTo>
                        <a:pt x="632" y="1874"/>
                      </a:lnTo>
                      <a:lnTo>
                        <a:pt x="625" y="1861"/>
                      </a:lnTo>
                      <a:lnTo>
                        <a:pt x="620" y="1850"/>
                      </a:lnTo>
                      <a:lnTo>
                        <a:pt x="612" y="1837"/>
                      </a:lnTo>
                      <a:lnTo>
                        <a:pt x="606" y="1825"/>
                      </a:lnTo>
                      <a:lnTo>
                        <a:pt x="596" y="1812"/>
                      </a:lnTo>
                      <a:lnTo>
                        <a:pt x="588" y="1800"/>
                      </a:lnTo>
                      <a:lnTo>
                        <a:pt x="578" y="1790"/>
                      </a:lnTo>
                      <a:lnTo>
                        <a:pt x="568" y="1780"/>
                      </a:lnTo>
                      <a:lnTo>
                        <a:pt x="562" y="1775"/>
                      </a:lnTo>
                      <a:lnTo>
                        <a:pt x="557" y="1773"/>
                      </a:lnTo>
                      <a:lnTo>
                        <a:pt x="553" y="1780"/>
                      </a:lnTo>
                      <a:lnTo>
                        <a:pt x="557" y="1787"/>
                      </a:lnTo>
                      <a:lnTo>
                        <a:pt x="573" y="1805"/>
                      </a:lnTo>
                      <a:lnTo>
                        <a:pt x="589" y="1824"/>
                      </a:lnTo>
                      <a:lnTo>
                        <a:pt x="602" y="1844"/>
                      </a:lnTo>
                      <a:lnTo>
                        <a:pt x="612" y="1867"/>
                      </a:lnTo>
                      <a:lnTo>
                        <a:pt x="619" y="1888"/>
                      </a:lnTo>
                      <a:lnTo>
                        <a:pt x="622" y="1911"/>
                      </a:lnTo>
                      <a:lnTo>
                        <a:pt x="621" y="1934"/>
                      </a:lnTo>
                      <a:lnTo>
                        <a:pt x="617" y="1959"/>
                      </a:lnTo>
                      <a:lnTo>
                        <a:pt x="605" y="1963"/>
                      </a:lnTo>
                      <a:lnTo>
                        <a:pt x="593" y="1968"/>
                      </a:lnTo>
                      <a:lnTo>
                        <a:pt x="581" y="1972"/>
                      </a:lnTo>
                      <a:lnTo>
                        <a:pt x="571" y="1976"/>
                      </a:lnTo>
                      <a:lnTo>
                        <a:pt x="558" y="1978"/>
                      </a:lnTo>
                      <a:lnTo>
                        <a:pt x="546" y="1982"/>
                      </a:lnTo>
                      <a:lnTo>
                        <a:pt x="534" y="1984"/>
                      </a:lnTo>
                      <a:lnTo>
                        <a:pt x="522" y="1987"/>
                      </a:lnTo>
                      <a:lnTo>
                        <a:pt x="515" y="1983"/>
                      </a:lnTo>
                      <a:lnTo>
                        <a:pt x="508" y="1982"/>
                      </a:lnTo>
                      <a:lnTo>
                        <a:pt x="501" y="1982"/>
                      </a:lnTo>
                      <a:lnTo>
                        <a:pt x="494" y="1983"/>
                      </a:lnTo>
                      <a:lnTo>
                        <a:pt x="487" y="1983"/>
                      </a:lnTo>
                      <a:lnTo>
                        <a:pt x="481" y="1983"/>
                      </a:lnTo>
                      <a:lnTo>
                        <a:pt x="474" y="1982"/>
                      </a:lnTo>
                      <a:lnTo>
                        <a:pt x="468" y="1982"/>
                      </a:lnTo>
                      <a:lnTo>
                        <a:pt x="461" y="1983"/>
                      </a:lnTo>
                      <a:lnTo>
                        <a:pt x="468" y="1969"/>
                      </a:lnTo>
                      <a:lnTo>
                        <a:pt x="473" y="1955"/>
                      </a:lnTo>
                      <a:lnTo>
                        <a:pt x="474" y="1939"/>
                      </a:lnTo>
                      <a:lnTo>
                        <a:pt x="475" y="1924"/>
                      </a:lnTo>
                      <a:lnTo>
                        <a:pt x="473" y="1907"/>
                      </a:lnTo>
                      <a:lnTo>
                        <a:pt x="470" y="1890"/>
                      </a:lnTo>
                      <a:lnTo>
                        <a:pt x="465" y="1874"/>
                      </a:lnTo>
                      <a:lnTo>
                        <a:pt x="462" y="1861"/>
                      </a:lnTo>
                      <a:lnTo>
                        <a:pt x="455" y="1854"/>
                      </a:lnTo>
                      <a:lnTo>
                        <a:pt x="450" y="1848"/>
                      </a:lnTo>
                      <a:lnTo>
                        <a:pt x="445" y="1841"/>
                      </a:lnTo>
                      <a:lnTo>
                        <a:pt x="442" y="1835"/>
                      </a:lnTo>
                      <a:lnTo>
                        <a:pt x="437" y="1827"/>
                      </a:lnTo>
                      <a:lnTo>
                        <a:pt x="432" y="1822"/>
                      </a:lnTo>
                      <a:lnTo>
                        <a:pt x="425" y="1817"/>
                      </a:lnTo>
                      <a:lnTo>
                        <a:pt x="418" y="1815"/>
                      </a:lnTo>
                      <a:lnTo>
                        <a:pt x="414" y="1822"/>
                      </a:lnTo>
                      <a:lnTo>
                        <a:pt x="425" y="1835"/>
                      </a:lnTo>
                      <a:lnTo>
                        <a:pt x="435" y="1851"/>
                      </a:lnTo>
                      <a:lnTo>
                        <a:pt x="444" y="1866"/>
                      </a:lnTo>
                      <a:lnTo>
                        <a:pt x="452" y="1883"/>
                      </a:lnTo>
                      <a:lnTo>
                        <a:pt x="457" y="1899"/>
                      </a:lnTo>
                      <a:lnTo>
                        <a:pt x="460" y="1917"/>
                      </a:lnTo>
                      <a:lnTo>
                        <a:pt x="461" y="1936"/>
                      </a:lnTo>
                      <a:lnTo>
                        <a:pt x="461" y="1955"/>
                      </a:lnTo>
                      <a:lnTo>
                        <a:pt x="456" y="1962"/>
                      </a:lnTo>
                      <a:lnTo>
                        <a:pt x="450" y="1971"/>
                      </a:lnTo>
                      <a:lnTo>
                        <a:pt x="444" y="1978"/>
                      </a:lnTo>
                      <a:lnTo>
                        <a:pt x="438" y="1986"/>
                      </a:lnTo>
                      <a:lnTo>
                        <a:pt x="429" y="1991"/>
                      </a:lnTo>
                      <a:lnTo>
                        <a:pt x="422" y="1996"/>
                      </a:lnTo>
                      <a:lnTo>
                        <a:pt x="413" y="1999"/>
                      </a:lnTo>
                      <a:lnTo>
                        <a:pt x="404" y="2003"/>
                      </a:lnTo>
                      <a:lnTo>
                        <a:pt x="379" y="2006"/>
                      </a:lnTo>
                      <a:lnTo>
                        <a:pt x="353" y="2009"/>
                      </a:lnTo>
                      <a:lnTo>
                        <a:pt x="328" y="2007"/>
                      </a:lnTo>
                      <a:lnTo>
                        <a:pt x="305" y="2005"/>
                      </a:lnTo>
                      <a:lnTo>
                        <a:pt x="279" y="2001"/>
                      </a:lnTo>
                      <a:lnTo>
                        <a:pt x="255" y="1996"/>
                      </a:lnTo>
                      <a:lnTo>
                        <a:pt x="230" y="1990"/>
                      </a:lnTo>
                      <a:lnTo>
                        <a:pt x="206" y="1987"/>
                      </a:lnTo>
                      <a:lnTo>
                        <a:pt x="189" y="1983"/>
                      </a:lnTo>
                      <a:lnTo>
                        <a:pt x="174" y="1977"/>
                      </a:lnTo>
                      <a:lnTo>
                        <a:pt x="160" y="1969"/>
                      </a:lnTo>
                      <a:lnTo>
                        <a:pt x="146" y="1961"/>
                      </a:lnTo>
                      <a:lnTo>
                        <a:pt x="131" y="1953"/>
                      </a:lnTo>
                      <a:lnTo>
                        <a:pt x="117" y="1946"/>
                      </a:lnTo>
                      <a:lnTo>
                        <a:pt x="101" y="1941"/>
                      </a:lnTo>
                      <a:lnTo>
                        <a:pt x="86" y="1940"/>
                      </a:lnTo>
                      <a:lnTo>
                        <a:pt x="75" y="1928"/>
                      </a:lnTo>
                      <a:lnTo>
                        <a:pt x="64" y="1918"/>
                      </a:lnTo>
                      <a:lnTo>
                        <a:pt x="54" y="1908"/>
                      </a:lnTo>
                      <a:lnTo>
                        <a:pt x="44" y="1897"/>
                      </a:lnTo>
                      <a:lnTo>
                        <a:pt x="33" y="1885"/>
                      </a:lnTo>
                      <a:lnTo>
                        <a:pt x="26" y="1873"/>
                      </a:lnTo>
                      <a:lnTo>
                        <a:pt x="18" y="1860"/>
                      </a:lnTo>
                      <a:lnTo>
                        <a:pt x="14" y="1848"/>
                      </a:lnTo>
                      <a:lnTo>
                        <a:pt x="8" y="1837"/>
                      </a:lnTo>
                      <a:lnTo>
                        <a:pt x="4" y="1826"/>
                      </a:lnTo>
                      <a:lnTo>
                        <a:pt x="1" y="1814"/>
                      </a:lnTo>
                      <a:lnTo>
                        <a:pt x="1" y="1804"/>
                      </a:lnTo>
                      <a:lnTo>
                        <a:pt x="0" y="1792"/>
                      </a:lnTo>
                      <a:lnTo>
                        <a:pt x="2" y="1780"/>
                      </a:lnTo>
                      <a:lnTo>
                        <a:pt x="3" y="1769"/>
                      </a:lnTo>
                      <a:lnTo>
                        <a:pt x="6" y="1760"/>
                      </a:lnTo>
                      <a:lnTo>
                        <a:pt x="9" y="1738"/>
                      </a:lnTo>
                      <a:lnTo>
                        <a:pt x="13" y="1718"/>
                      </a:lnTo>
                      <a:lnTo>
                        <a:pt x="19" y="1697"/>
                      </a:lnTo>
                      <a:lnTo>
                        <a:pt x="26" y="1677"/>
                      </a:lnTo>
                      <a:lnTo>
                        <a:pt x="32" y="1657"/>
                      </a:lnTo>
                      <a:lnTo>
                        <a:pt x="40" y="1636"/>
                      </a:lnTo>
                      <a:lnTo>
                        <a:pt x="46" y="1617"/>
                      </a:lnTo>
                      <a:lnTo>
                        <a:pt x="53" y="15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763720" y="5046480"/>
                  <a:ext cx="34200" cy="61560"/>
                </a:xfrm>
                <a:custGeom>
                  <a:avLst/>
                  <a:gdLst/>
                  <a:ahLst/>
                  <a:rect l="l" t="t" r="r" b="b"/>
                  <a:pathLst>
                    <a:path w="132" h="234">
                      <a:moveTo>
                        <a:pt x="80" y="18"/>
                      </a:moveTo>
                      <a:lnTo>
                        <a:pt x="84" y="12"/>
                      </a:lnTo>
                      <a:lnTo>
                        <a:pt x="90" y="8"/>
                      </a:lnTo>
                      <a:lnTo>
                        <a:pt x="95" y="5"/>
                      </a:lnTo>
                      <a:lnTo>
                        <a:pt x="103" y="3"/>
                      </a:lnTo>
                      <a:lnTo>
                        <a:pt x="109" y="1"/>
                      </a:lnTo>
                      <a:lnTo>
                        <a:pt x="117" y="1"/>
                      </a:lnTo>
                      <a:lnTo>
                        <a:pt x="123" y="0"/>
                      </a:lnTo>
                      <a:lnTo>
                        <a:pt x="132" y="0"/>
                      </a:lnTo>
                      <a:lnTo>
                        <a:pt x="117" y="27"/>
                      </a:lnTo>
                      <a:lnTo>
                        <a:pt x="105" y="56"/>
                      </a:lnTo>
                      <a:lnTo>
                        <a:pt x="93" y="85"/>
                      </a:lnTo>
                      <a:lnTo>
                        <a:pt x="85" y="115"/>
                      </a:lnTo>
                      <a:lnTo>
                        <a:pt x="75" y="144"/>
                      </a:lnTo>
                      <a:lnTo>
                        <a:pt x="68" y="174"/>
                      </a:lnTo>
                      <a:lnTo>
                        <a:pt x="60" y="204"/>
                      </a:lnTo>
                      <a:lnTo>
                        <a:pt x="54" y="234"/>
                      </a:lnTo>
                      <a:lnTo>
                        <a:pt x="41" y="230"/>
                      </a:lnTo>
                      <a:lnTo>
                        <a:pt x="31" y="223"/>
                      </a:lnTo>
                      <a:lnTo>
                        <a:pt x="23" y="215"/>
                      </a:lnTo>
                      <a:lnTo>
                        <a:pt x="17" y="205"/>
                      </a:lnTo>
                      <a:lnTo>
                        <a:pt x="11" y="193"/>
                      </a:lnTo>
                      <a:lnTo>
                        <a:pt x="8" y="183"/>
                      </a:lnTo>
                      <a:lnTo>
                        <a:pt x="4" y="170"/>
                      </a:lnTo>
                      <a:lnTo>
                        <a:pt x="1" y="160"/>
                      </a:lnTo>
                      <a:lnTo>
                        <a:pt x="0" y="145"/>
                      </a:lnTo>
                      <a:lnTo>
                        <a:pt x="1" y="131"/>
                      </a:lnTo>
                      <a:lnTo>
                        <a:pt x="2" y="117"/>
                      </a:lnTo>
                      <a:lnTo>
                        <a:pt x="6" y="104"/>
                      </a:lnTo>
                      <a:lnTo>
                        <a:pt x="10" y="91"/>
                      </a:lnTo>
                      <a:lnTo>
                        <a:pt x="15" y="79"/>
                      </a:lnTo>
                      <a:lnTo>
                        <a:pt x="20" y="67"/>
                      </a:lnTo>
                      <a:lnTo>
                        <a:pt x="29" y="56"/>
                      </a:lnTo>
                      <a:lnTo>
                        <a:pt x="33" y="50"/>
                      </a:lnTo>
                      <a:lnTo>
                        <a:pt x="39" y="44"/>
                      </a:lnTo>
                      <a:lnTo>
                        <a:pt x="45" y="39"/>
                      </a:lnTo>
                      <a:lnTo>
                        <a:pt x="53" y="35"/>
                      </a:lnTo>
                      <a:lnTo>
                        <a:pt x="59" y="30"/>
                      </a:lnTo>
                      <a:lnTo>
                        <a:pt x="65" y="26"/>
                      </a:lnTo>
                      <a:lnTo>
                        <a:pt x="73" y="22"/>
                      </a:lnTo>
                      <a:lnTo>
                        <a:pt x="80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858400" y="4973040"/>
                  <a:ext cx="137520" cy="106200"/>
                </a:xfrm>
                <a:custGeom>
                  <a:avLst/>
                  <a:gdLst/>
                  <a:ahLst/>
                  <a:rect l="l" t="t" r="r" b="b"/>
                  <a:pathLst>
                    <a:path w="528" h="405">
                      <a:moveTo>
                        <a:pt x="200" y="74"/>
                      </a:moveTo>
                      <a:lnTo>
                        <a:pt x="236" y="32"/>
                      </a:lnTo>
                      <a:lnTo>
                        <a:pt x="246" y="28"/>
                      </a:lnTo>
                      <a:lnTo>
                        <a:pt x="259" y="26"/>
                      </a:lnTo>
                      <a:lnTo>
                        <a:pt x="272" y="25"/>
                      </a:lnTo>
                      <a:lnTo>
                        <a:pt x="285" y="26"/>
                      </a:lnTo>
                      <a:lnTo>
                        <a:pt x="296" y="27"/>
                      </a:lnTo>
                      <a:lnTo>
                        <a:pt x="308" y="31"/>
                      </a:lnTo>
                      <a:lnTo>
                        <a:pt x="319" y="37"/>
                      </a:lnTo>
                      <a:lnTo>
                        <a:pt x="330" y="45"/>
                      </a:lnTo>
                      <a:lnTo>
                        <a:pt x="335" y="45"/>
                      </a:lnTo>
                      <a:lnTo>
                        <a:pt x="326" y="49"/>
                      </a:lnTo>
                      <a:lnTo>
                        <a:pt x="321" y="56"/>
                      </a:lnTo>
                      <a:lnTo>
                        <a:pt x="318" y="65"/>
                      </a:lnTo>
                      <a:lnTo>
                        <a:pt x="321" y="74"/>
                      </a:lnTo>
                      <a:lnTo>
                        <a:pt x="324" y="76"/>
                      </a:lnTo>
                      <a:lnTo>
                        <a:pt x="330" y="74"/>
                      </a:lnTo>
                      <a:lnTo>
                        <a:pt x="335" y="63"/>
                      </a:lnTo>
                      <a:lnTo>
                        <a:pt x="344" y="56"/>
                      </a:lnTo>
                      <a:lnTo>
                        <a:pt x="352" y="49"/>
                      </a:lnTo>
                      <a:lnTo>
                        <a:pt x="362" y="45"/>
                      </a:lnTo>
                      <a:lnTo>
                        <a:pt x="361" y="40"/>
                      </a:lnTo>
                      <a:lnTo>
                        <a:pt x="370" y="31"/>
                      </a:lnTo>
                      <a:lnTo>
                        <a:pt x="381" y="25"/>
                      </a:lnTo>
                      <a:lnTo>
                        <a:pt x="391" y="17"/>
                      </a:lnTo>
                      <a:lnTo>
                        <a:pt x="403" y="11"/>
                      </a:lnTo>
                      <a:lnTo>
                        <a:pt x="413" y="4"/>
                      </a:lnTo>
                      <a:lnTo>
                        <a:pt x="425" y="2"/>
                      </a:lnTo>
                      <a:lnTo>
                        <a:pt x="437" y="0"/>
                      </a:lnTo>
                      <a:lnTo>
                        <a:pt x="451" y="1"/>
                      </a:lnTo>
                      <a:lnTo>
                        <a:pt x="453" y="11"/>
                      </a:lnTo>
                      <a:lnTo>
                        <a:pt x="452" y="22"/>
                      </a:lnTo>
                      <a:lnTo>
                        <a:pt x="450" y="27"/>
                      </a:lnTo>
                      <a:lnTo>
                        <a:pt x="449" y="32"/>
                      </a:lnTo>
                      <a:lnTo>
                        <a:pt x="448" y="39"/>
                      </a:lnTo>
                      <a:lnTo>
                        <a:pt x="449" y="45"/>
                      </a:lnTo>
                      <a:lnTo>
                        <a:pt x="448" y="61"/>
                      </a:lnTo>
                      <a:lnTo>
                        <a:pt x="454" y="77"/>
                      </a:lnTo>
                      <a:lnTo>
                        <a:pt x="463" y="90"/>
                      </a:lnTo>
                      <a:lnTo>
                        <a:pt x="475" y="104"/>
                      </a:lnTo>
                      <a:lnTo>
                        <a:pt x="488" y="116"/>
                      </a:lnTo>
                      <a:lnTo>
                        <a:pt x="502" y="129"/>
                      </a:lnTo>
                      <a:lnTo>
                        <a:pt x="515" y="143"/>
                      </a:lnTo>
                      <a:lnTo>
                        <a:pt x="528" y="158"/>
                      </a:lnTo>
                      <a:lnTo>
                        <a:pt x="527" y="165"/>
                      </a:lnTo>
                      <a:lnTo>
                        <a:pt x="525" y="173"/>
                      </a:lnTo>
                      <a:lnTo>
                        <a:pt x="521" y="179"/>
                      </a:lnTo>
                      <a:lnTo>
                        <a:pt x="517" y="187"/>
                      </a:lnTo>
                      <a:lnTo>
                        <a:pt x="512" y="193"/>
                      </a:lnTo>
                      <a:lnTo>
                        <a:pt x="507" y="200"/>
                      </a:lnTo>
                      <a:lnTo>
                        <a:pt x="501" y="206"/>
                      </a:lnTo>
                      <a:lnTo>
                        <a:pt x="497" y="214"/>
                      </a:lnTo>
                      <a:lnTo>
                        <a:pt x="481" y="220"/>
                      </a:lnTo>
                      <a:lnTo>
                        <a:pt x="465" y="229"/>
                      </a:lnTo>
                      <a:lnTo>
                        <a:pt x="448" y="236"/>
                      </a:lnTo>
                      <a:lnTo>
                        <a:pt x="431" y="243"/>
                      </a:lnTo>
                      <a:lnTo>
                        <a:pt x="413" y="246"/>
                      </a:lnTo>
                      <a:lnTo>
                        <a:pt x="396" y="247"/>
                      </a:lnTo>
                      <a:lnTo>
                        <a:pt x="379" y="244"/>
                      </a:lnTo>
                      <a:lnTo>
                        <a:pt x="362" y="238"/>
                      </a:lnTo>
                      <a:lnTo>
                        <a:pt x="349" y="248"/>
                      </a:lnTo>
                      <a:lnTo>
                        <a:pt x="337" y="254"/>
                      </a:lnTo>
                      <a:lnTo>
                        <a:pt x="322" y="259"/>
                      </a:lnTo>
                      <a:lnTo>
                        <a:pt x="308" y="262"/>
                      </a:lnTo>
                      <a:lnTo>
                        <a:pt x="292" y="263"/>
                      </a:lnTo>
                      <a:lnTo>
                        <a:pt x="277" y="264"/>
                      </a:lnTo>
                      <a:lnTo>
                        <a:pt x="262" y="265"/>
                      </a:lnTo>
                      <a:lnTo>
                        <a:pt x="249" y="266"/>
                      </a:lnTo>
                      <a:lnTo>
                        <a:pt x="226" y="286"/>
                      </a:lnTo>
                      <a:lnTo>
                        <a:pt x="204" y="307"/>
                      </a:lnTo>
                      <a:lnTo>
                        <a:pt x="182" y="329"/>
                      </a:lnTo>
                      <a:lnTo>
                        <a:pt x="159" y="349"/>
                      </a:lnTo>
                      <a:lnTo>
                        <a:pt x="135" y="366"/>
                      </a:lnTo>
                      <a:lnTo>
                        <a:pt x="111" y="382"/>
                      </a:lnTo>
                      <a:lnTo>
                        <a:pt x="84" y="395"/>
                      </a:lnTo>
                      <a:lnTo>
                        <a:pt x="56" y="405"/>
                      </a:lnTo>
                      <a:lnTo>
                        <a:pt x="49" y="403"/>
                      </a:lnTo>
                      <a:lnTo>
                        <a:pt x="43" y="400"/>
                      </a:lnTo>
                      <a:lnTo>
                        <a:pt x="38" y="395"/>
                      </a:lnTo>
                      <a:lnTo>
                        <a:pt x="35" y="391"/>
                      </a:lnTo>
                      <a:lnTo>
                        <a:pt x="30" y="385"/>
                      </a:lnTo>
                      <a:lnTo>
                        <a:pt x="27" y="380"/>
                      </a:lnTo>
                      <a:lnTo>
                        <a:pt x="23" y="374"/>
                      </a:lnTo>
                      <a:lnTo>
                        <a:pt x="20" y="370"/>
                      </a:lnTo>
                      <a:lnTo>
                        <a:pt x="11" y="354"/>
                      </a:lnTo>
                      <a:lnTo>
                        <a:pt x="6" y="338"/>
                      </a:lnTo>
                      <a:lnTo>
                        <a:pt x="1" y="321"/>
                      </a:lnTo>
                      <a:lnTo>
                        <a:pt x="0" y="304"/>
                      </a:lnTo>
                      <a:lnTo>
                        <a:pt x="0" y="286"/>
                      </a:lnTo>
                      <a:lnTo>
                        <a:pt x="5" y="268"/>
                      </a:lnTo>
                      <a:lnTo>
                        <a:pt x="11" y="252"/>
                      </a:lnTo>
                      <a:lnTo>
                        <a:pt x="22" y="238"/>
                      </a:lnTo>
                      <a:lnTo>
                        <a:pt x="39" y="216"/>
                      </a:lnTo>
                      <a:lnTo>
                        <a:pt x="60" y="197"/>
                      </a:lnTo>
                      <a:lnTo>
                        <a:pt x="82" y="177"/>
                      </a:lnTo>
                      <a:lnTo>
                        <a:pt x="105" y="161"/>
                      </a:lnTo>
                      <a:lnTo>
                        <a:pt x="128" y="143"/>
                      </a:lnTo>
                      <a:lnTo>
                        <a:pt x="151" y="126"/>
                      </a:lnTo>
                      <a:lnTo>
                        <a:pt x="172" y="107"/>
                      </a:lnTo>
                      <a:lnTo>
                        <a:pt x="192" y="88"/>
                      </a:lnTo>
                      <a:lnTo>
                        <a:pt x="200" y="74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921400" y="4902120"/>
                  <a:ext cx="75960" cy="60120"/>
                </a:xfrm>
                <a:custGeom>
                  <a:avLst/>
                  <a:gdLst/>
                  <a:ahLst/>
                  <a:rect l="l" t="t" r="r" b="b"/>
                  <a:pathLst>
                    <a:path w="294" h="229">
                      <a:moveTo>
                        <a:pt x="126" y="54"/>
                      </a:moveTo>
                      <a:lnTo>
                        <a:pt x="140" y="45"/>
                      </a:lnTo>
                      <a:lnTo>
                        <a:pt x="154" y="34"/>
                      </a:lnTo>
                      <a:lnTo>
                        <a:pt x="168" y="23"/>
                      </a:lnTo>
                      <a:lnTo>
                        <a:pt x="184" y="15"/>
                      </a:lnTo>
                      <a:lnTo>
                        <a:pt x="199" y="6"/>
                      </a:lnTo>
                      <a:lnTo>
                        <a:pt x="215" y="2"/>
                      </a:lnTo>
                      <a:lnTo>
                        <a:pt x="232" y="0"/>
                      </a:lnTo>
                      <a:lnTo>
                        <a:pt x="253" y="5"/>
                      </a:lnTo>
                      <a:lnTo>
                        <a:pt x="260" y="8"/>
                      </a:lnTo>
                      <a:lnTo>
                        <a:pt x="268" y="14"/>
                      </a:lnTo>
                      <a:lnTo>
                        <a:pt x="273" y="20"/>
                      </a:lnTo>
                      <a:lnTo>
                        <a:pt x="279" y="28"/>
                      </a:lnTo>
                      <a:lnTo>
                        <a:pt x="284" y="34"/>
                      </a:lnTo>
                      <a:lnTo>
                        <a:pt x="288" y="43"/>
                      </a:lnTo>
                      <a:lnTo>
                        <a:pt x="291" y="51"/>
                      </a:lnTo>
                      <a:lnTo>
                        <a:pt x="294" y="61"/>
                      </a:lnTo>
                      <a:lnTo>
                        <a:pt x="275" y="94"/>
                      </a:lnTo>
                      <a:lnTo>
                        <a:pt x="252" y="124"/>
                      </a:lnTo>
                      <a:lnTo>
                        <a:pt x="224" y="150"/>
                      </a:lnTo>
                      <a:lnTo>
                        <a:pt x="193" y="173"/>
                      </a:lnTo>
                      <a:lnTo>
                        <a:pt x="157" y="192"/>
                      </a:lnTo>
                      <a:lnTo>
                        <a:pt x="123" y="207"/>
                      </a:lnTo>
                      <a:lnTo>
                        <a:pt x="86" y="220"/>
                      </a:lnTo>
                      <a:lnTo>
                        <a:pt x="51" y="229"/>
                      </a:lnTo>
                      <a:lnTo>
                        <a:pt x="45" y="229"/>
                      </a:lnTo>
                      <a:lnTo>
                        <a:pt x="39" y="229"/>
                      </a:lnTo>
                      <a:lnTo>
                        <a:pt x="33" y="228"/>
                      </a:lnTo>
                      <a:lnTo>
                        <a:pt x="28" y="227"/>
                      </a:lnTo>
                      <a:lnTo>
                        <a:pt x="19" y="224"/>
                      </a:lnTo>
                      <a:lnTo>
                        <a:pt x="9" y="222"/>
                      </a:lnTo>
                      <a:lnTo>
                        <a:pt x="4" y="216"/>
                      </a:lnTo>
                      <a:lnTo>
                        <a:pt x="2" y="211"/>
                      </a:lnTo>
                      <a:lnTo>
                        <a:pt x="0" y="206"/>
                      </a:lnTo>
                      <a:lnTo>
                        <a:pt x="0" y="200"/>
                      </a:lnTo>
                      <a:lnTo>
                        <a:pt x="0" y="194"/>
                      </a:lnTo>
                      <a:lnTo>
                        <a:pt x="1" y="187"/>
                      </a:lnTo>
                      <a:lnTo>
                        <a:pt x="3" y="181"/>
                      </a:lnTo>
                      <a:lnTo>
                        <a:pt x="6" y="176"/>
                      </a:lnTo>
                      <a:lnTo>
                        <a:pt x="16" y="156"/>
                      </a:lnTo>
                      <a:lnTo>
                        <a:pt x="30" y="140"/>
                      </a:lnTo>
                      <a:lnTo>
                        <a:pt x="45" y="124"/>
                      </a:lnTo>
                      <a:lnTo>
                        <a:pt x="61" y="111"/>
                      </a:lnTo>
                      <a:lnTo>
                        <a:pt x="77" y="96"/>
                      </a:lnTo>
                      <a:lnTo>
                        <a:pt x="94" y="82"/>
                      </a:lnTo>
                      <a:lnTo>
                        <a:pt x="110" y="68"/>
                      </a:lnTo>
                      <a:lnTo>
                        <a:pt x="126" y="5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942280" y="4920480"/>
                  <a:ext cx="64080" cy="46800"/>
                </a:xfrm>
                <a:custGeom>
                  <a:avLst/>
                  <a:gdLst/>
                  <a:ahLst/>
                  <a:rect l="l" t="t" r="r" b="b"/>
                  <a:pathLst>
                    <a:path w="244" h="180">
                      <a:moveTo>
                        <a:pt x="39" y="166"/>
                      </a:moveTo>
                      <a:lnTo>
                        <a:pt x="66" y="152"/>
                      </a:lnTo>
                      <a:lnTo>
                        <a:pt x="95" y="137"/>
                      </a:lnTo>
                      <a:lnTo>
                        <a:pt x="121" y="119"/>
                      </a:lnTo>
                      <a:lnTo>
                        <a:pt x="149" y="101"/>
                      </a:lnTo>
                      <a:lnTo>
                        <a:pt x="173" y="79"/>
                      </a:lnTo>
                      <a:lnTo>
                        <a:pt x="195" y="56"/>
                      </a:lnTo>
                      <a:lnTo>
                        <a:pt x="213" y="29"/>
                      </a:lnTo>
                      <a:lnTo>
                        <a:pt x="226" y="0"/>
                      </a:lnTo>
                      <a:lnTo>
                        <a:pt x="231" y="5"/>
                      </a:lnTo>
                      <a:lnTo>
                        <a:pt x="236" y="11"/>
                      </a:lnTo>
                      <a:lnTo>
                        <a:pt x="239" y="17"/>
                      </a:lnTo>
                      <a:lnTo>
                        <a:pt x="244" y="25"/>
                      </a:lnTo>
                      <a:lnTo>
                        <a:pt x="241" y="38"/>
                      </a:lnTo>
                      <a:lnTo>
                        <a:pt x="240" y="52"/>
                      </a:lnTo>
                      <a:lnTo>
                        <a:pt x="239" y="65"/>
                      </a:lnTo>
                      <a:lnTo>
                        <a:pt x="239" y="79"/>
                      </a:lnTo>
                      <a:lnTo>
                        <a:pt x="237" y="92"/>
                      </a:lnTo>
                      <a:lnTo>
                        <a:pt x="235" y="104"/>
                      </a:lnTo>
                      <a:lnTo>
                        <a:pt x="232" y="117"/>
                      </a:lnTo>
                      <a:lnTo>
                        <a:pt x="230" y="131"/>
                      </a:lnTo>
                      <a:lnTo>
                        <a:pt x="218" y="127"/>
                      </a:lnTo>
                      <a:lnTo>
                        <a:pt x="207" y="123"/>
                      </a:lnTo>
                      <a:lnTo>
                        <a:pt x="195" y="117"/>
                      </a:lnTo>
                      <a:lnTo>
                        <a:pt x="184" y="114"/>
                      </a:lnTo>
                      <a:lnTo>
                        <a:pt x="172" y="112"/>
                      </a:lnTo>
                      <a:lnTo>
                        <a:pt x="161" y="113"/>
                      </a:lnTo>
                      <a:lnTo>
                        <a:pt x="151" y="117"/>
                      </a:lnTo>
                      <a:lnTo>
                        <a:pt x="143" y="129"/>
                      </a:lnTo>
                      <a:lnTo>
                        <a:pt x="126" y="139"/>
                      </a:lnTo>
                      <a:lnTo>
                        <a:pt x="110" y="148"/>
                      </a:lnTo>
                      <a:lnTo>
                        <a:pt x="91" y="157"/>
                      </a:lnTo>
                      <a:lnTo>
                        <a:pt x="74" y="164"/>
                      </a:lnTo>
                      <a:lnTo>
                        <a:pt x="56" y="170"/>
                      </a:lnTo>
                      <a:lnTo>
                        <a:pt x="38" y="175"/>
                      </a:lnTo>
                      <a:lnTo>
                        <a:pt x="18" y="177"/>
                      </a:lnTo>
                      <a:lnTo>
                        <a:pt x="0" y="180"/>
                      </a:lnTo>
                      <a:lnTo>
                        <a:pt x="8" y="172"/>
                      </a:lnTo>
                      <a:lnTo>
                        <a:pt x="18" y="170"/>
                      </a:lnTo>
                      <a:lnTo>
                        <a:pt x="29" y="168"/>
                      </a:lnTo>
                      <a:lnTo>
                        <a:pt x="39" y="166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58120" y="5297040"/>
                  <a:ext cx="217800" cy="174600"/>
                </a:xfrm>
                <a:custGeom>
                  <a:avLst/>
                  <a:gdLst/>
                  <a:ahLst/>
                  <a:rect l="l" t="t" r="r" b="b"/>
                  <a:pathLst>
                    <a:path w="831" h="663">
                      <a:moveTo>
                        <a:pt x="27" y="7"/>
                      </a:moveTo>
                      <a:lnTo>
                        <a:pt x="40" y="2"/>
                      </a:lnTo>
                      <a:lnTo>
                        <a:pt x="53" y="1"/>
                      </a:lnTo>
                      <a:lnTo>
                        <a:pt x="67" y="0"/>
                      </a:lnTo>
                      <a:lnTo>
                        <a:pt x="82" y="2"/>
                      </a:lnTo>
                      <a:lnTo>
                        <a:pt x="96" y="5"/>
                      </a:lnTo>
                      <a:lnTo>
                        <a:pt x="109" y="8"/>
                      </a:lnTo>
                      <a:lnTo>
                        <a:pt x="122" y="13"/>
                      </a:lnTo>
                      <a:lnTo>
                        <a:pt x="136" y="21"/>
                      </a:lnTo>
                      <a:lnTo>
                        <a:pt x="147" y="22"/>
                      </a:lnTo>
                      <a:lnTo>
                        <a:pt x="159" y="25"/>
                      </a:lnTo>
                      <a:lnTo>
                        <a:pt x="170" y="28"/>
                      </a:lnTo>
                      <a:lnTo>
                        <a:pt x="181" y="32"/>
                      </a:lnTo>
                      <a:lnTo>
                        <a:pt x="192" y="36"/>
                      </a:lnTo>
                      <a:lnTo>
                        <a:pt x="204" y="40"/>
                      </a:lnTo>
                      <a:lnTo>
                        <a:pt x="216" y="42"/>
                      </a:lnTo>
                      <a:lnTo>
                        <a:pt x="227" y="45"/>
                      </a:lnTo>
                      <a:lnTo>
                        <a:pt x="233" y="47"/>
                      </a:lnTo>
                      <a:lnTo>
                        <a:pt x="239" y="50"/>
                      </a:lnTo>
                      <a:lnTo>
                        <a:pt x="247" y="52"/>
                      </a:lnTo>
                      <a:lnTo>
                        <a:pt x="254" y="54"/>
                      </a:lnTo>
                      <a:lnTo>
                        <a:pt x="261" y="55"/>
                      </a:lnTo>
                      <a:lnTo>
                        <a:pt x="267" y="57"/>
                      </a:lnTo>
                      <a:lnTo>
                        <a:pt x="273" y="59"/>
                      </a:lnTo>
                      <a:lnTo>
                        <a:pt x="279" y="64"/>
                      </a:lnTo>
                      <a:lnTo>
                        <a:pt x="288" y="64"/>
                      </a:lnTo>
                      <a:lnTo>
                        <a:pt x="296" y="67"/>
                      </a:lnTo>
                      <a:lnTo>
                        <a:pt x="305" y="70"/>
                      </a:lnTo>
                      <a:lnTo>
                        <a:pt x="313" y="74"/>
                      </a:lnTo>
                      <a:lnTo>
                        <a:pt x="321" y="78"/>
                      </a:lnTo>
                      <a:lnTo>
                        <a:pt x="330" y="82"/>
                      </a:lnTo>
                      <a:lnTo>
                        <a:pt x="339" y="85"/>
                      </a:lnTo>
                      <a:lnTo>
                        <a:pt x="349" y="89"/>
                      </a:lnTo>
                      <a:lnTo>
                        <a:pt x="355" y="97"/>
                      </a:lnTo>
                      <a:lnTo>
                        <a:pt x="365" y="101"/>
                      </a:lnTo>
                      <a:lnTo>
                        <a:pt x="368" y="102"/>
                      </a:lnTo>
                      <a:lnTo>
                        <a:pt x="372" y="105"/>
                      </a:lnTo>
                      <a:lnTo>
                        <a:pt x="374" y="109"/>
                      </a:lnTo>
                      <a:lnTo>
                        <a:pt x="374" y="116"/>
                      </a:lnTo>
                      <a:lnTo>
                        <a:pt x="383" y="132"/>
                      </a:lnTo>
                      <a:lnTo>
                        <a:pt x="392" y="150"/>
                      </a:lnTo>
                      <a:lnTo>
                        <a:pt x="399" y="168"/>
                      </a:lnTo>
                      <a:lnTo>
                        <a:pt x="408" y="186"/>
                      </a:lnTo>
                      <a:lnTo>
                        <a:pt x="415" y="203"/>
                      </a:lnTo>
                      <a:lnTo>
                        <a:pt x="425" y="221"/>
                      </a:lnTo>
                      <a:lnTo>
                        <a:pt x="434" y="238"/>
                      </a:lnTo>
                      <a:lnTo>
                        <a:pt x="446" y="257"/>
                      </a:lnTo>
                      <a:lnTo>
                        <a:pt x="449" y="265"/>
                      </a:lnTo>
                      <a:lnTo>
                        <a:pt x="454" y="275"/>
                      </a:lnTo>
                      <a:lnTo>
                        <a:pt x="458" y="284"/>
                      </a:lnTo>
                      <a:lnTo>
                        <a:pt x="463" y="293"/>
                      </a:lnTo>
                      <a:lnTo>
                        <a:pt x="468" y="302"/>
                      </a:lnTo>
                      <a:lnTo>
                        <a:pt x="473" y="310"/>
                      </a:lnTo>
                      <a:lnTo>
                        <a:pt x="478" y="320"/>
                      </a:lnTo>
                      <a:lnTo>
                        <a:pt x="485" y="330"/>
                      </a:lnTo>
                      <a:lnTo>
                        <a:pt x="418" y="355"/>
                      </a:lnTo>
                      <a:lnTo>
                        <a:pt x="418" y="359"/>
                      </a:lnTo>
                      <a:lnTo>
                        <a:pt x="416" y="359"/>
                      </a:lnTo>
                      <a:lnTo>
                        <a:pt x="415" y="360"/>
                      </a:lnTo>
                      <a:lnTo>
                        <a:pt x="427" y="357"/>
                      </a:lnTo>
                      <a:lnTo>
                        <a:pt x="439" y="353"/>
                      </a:lnTo>
                      <a:lnTo>
                        <a:pt x="452" y="350"/>
                      </a:lnTo>
                      <a:lnTo>
                        <a:pt x="464" y="348"/>
                      </a:lnTo>
                      <a:lnTo>
                        <a:pt x="477" y="345"/>
                      </a:lnTo>
                      <a:lnTo>
                        <a:pt x="490" y="343"/>
                      </a:lnTo>
                      <a:lnTo>
                        <a:pt x="503" y="343"/>
                      </a:lnTo>
                      <a:lnTo>
                        <a:pt x="517" y="344"/>
                      </a:lnTo>
                      <a:lnTo>
                        <a:pt x="522" y="339"/>
                      </a:lnTo>
                      <a:lnTo>
                        <a:pt x="529" y="338"/>
                      </a:lnTo>
                      <a:lnTo>
                        <a:pt x="535" y="338"/>
                      </a:lnTo>
                      <a:lnTo>
                        <a:pt x="543" y="339"/>
                      </a:lnTo>
                      <a:lnTo>
                        <a:pt x="549" y="339"/>
                      </a:lnTo>
                      <a:lnTo>
                        <a:pt x="556" y="340"/>
                      </a:lnTo>
                      <a:lnTo>
                        <a:pt x="562" y="340"/>
                      </a:lnTo>
                      <a:lnTo>
                        <a:pt x="570" y="342"/>
                      </a:lnTo>
                      <a:lnTo>
                        <a:pt x="594" y="347"/>
                      </a:lnTo>
                      <a:lnTo>
                        <a:pt x="619" y="354"/>
                      </a:lnTo>
                      <a:lnTo>
                        <a:pt x="643" y="362"/>
                      </a:lnTo>
                      <a:lnTo>
                        <a:pt x="667" y="373"/>
                      </a:lnTo>
                      <a:lnTo>
                        <a:pt x="690" y="383"/>
                      </a:lnTo>
                      <a:lnTo>
                        <a:pt x="712" y="396"/>
                      </a:lnTo>
                      <a:lnTo>
                        <a:pt x="734" y="410"/>
                      </a:lnTo>
                      <a:lnTo>
                        <a:pt x="754" y="427"/>
                      </a:lnTo>
                      <a:lnTo>
                        <a:pt x="769" y="443"/>
                      </a:lnTo>
                      <a:lnTo>
                        <a:pt x="785" y="462"/>
                      </a:lnTo>
                      <a:lnTo>
                        <a:pt x="801" y="480"/>
                      </a:lnTo>
                      <a:lnTo>
                        <a:pt x="816" y="499"/>
                      </a:lnTo>
                      <a:lnTo>
                        <a:pt x="826" y="519"/>
                      </a:lnTo>
                      <a:lnTo>
                        <a:pt x="831" y="540"/>
                      </a:lnTo>
                      <a:lnTo>
                        <a:pt x="830" y="563"/>
                      </a:lnTo>
                      <a:lnTo>
                        <a:pt x="823" y="587"/>
                      </a:lnTo>
                      <a:lnTo>
                        <a:pt x="815" y="593"/>
                      </a:lnTo>
                      <a:lnTo>
                        <a:pt x="808" y="599"/>
                      </a:lnTo>
                      <a:lnTo>
                        <a:pt x="799" y="602"/>
                      </a:lnTo>
                      <a:lnTo>
                        <a:pt x="792" y="606"/>
                      </a:lnTo>
                      <a:lnTo>
                        <a:pt x="789" y="588"/>
                      </a:lnTo>
                      <a:lnTo>
                        <a:pt x="789" y="572"/>
                      </a:lnTo>
                      <a:lnTo>
                        <a:pt x="788" y="555"/>
                      </a:lnTo>
                      <a:lnTo>
                        <a:pt x="788" y="539"/>
                      </a:lnTo>
                      <a:lnTo>
                        <a:pt x="785" y="523"/>
                      </a:lnTo>
                      <a:lnTo>
                        <a:pt x="779" y="509"/>
                      </a:lnTo>
                      <a:lnTo>
                        <a:pt x="768" y="497"/>
                      </a:lnTo>
                      <a:lnTo>
                        <a:pt x="753" y="490"/>
                      </a:lnTo>
                      <a:lnTo>
                        <a:pt x="744" y="480"/>
                      </a:lnTo>
                      <a:lnTo>
                        <a:pt x="736" y="474"/>
                      </a:lnTo>
                      <a:lnTo>
                        <a:pt x="725" y="469"/>
                      </a:lnTo>
                      <a:lnTo>
                        <a:pt x="715" y="468"/>
                      </a:lnTo>
                      <a:lnTo>
                        <a:pt x="719" y="478"/>
                      </a:lnTo>
                      <a:lnTo>
                        <a:pt x="727" y="487"/>
                      </a:lnTo>
                      <a:lnTo>
                        <a:pt x="732" y="491"/>
                      </a:lnTo>
                      <a:lnTo>
                        <a:pt x="737" y="495"/>
                      </a:lnTo>
                      <a:lnTo>
                        <a:pt x="742" y="498"/>
                      </a:lnTo>
                      <a:lnTo>
                        <a:pt x="747" y="504"/>
                      </a:lnTo>
                      <a:lnTo>
                        <a:pt x="750" y="508"/>
                      </a:lnTo>
                      <a:lnTo>
                        <a:pt x="750" y="513"/>
                      </a:lnTo>
                      <a:lnTo>
                        <a:pt x="751" y="519"/>
                      </a:lnTo>
                      <a:lnTo>
                        <a:pt x="757" y="522"/>
                      </a:lnTo>
                      <a:lnTo>
                        <a:pt x="760" y="531"/>
                      </a:lnTo>
                      <a:lnTo>
                        <a:pt x="765" y="543"/>
                      </a:lnTo>
                      <a:lnTo>
                        <a:pt x="766" y="554"/>
                      </a:lnTo>
                      <a:lnTo>
                        <a:pt x="767" y="566"/>
                      </a:lnTo>
                      <a:lnTo>
                        <a:pt x="766" y="577"/>
                      </a:lnTo>
                      <a:lnTo>
                        <a:pt x="766" y="588"/>
                      </a:lnTo>
                      <a:lnTo>
                        <a:pt x="765" y="600"/>
                      </a:lnTo>
                      <a:lnTo>
                        <a:pt x="765" y="612"/>
                      </a:lnTo>
                      <a:lnTo>
                        <a:pt x="758" y="621"/>
                      </a:lnTo>
                      <a:lnTo>
                        <a:pt x="750" y="631"/>
                      </a:lnTo>
                      <a:lnTo>
                        <a:pt x="740" y="640"/>
                      </a:lnTo>
                      <a:lnTo>
                        <a:pt x="729" y="647"/>
                      </a:lnTo>
                      <a:lnTo>
                        <a:pt x="710" y="653"/>
                      </a:lnTo>
                      <a:lnTo>
                        <a:pt x="691" y="656"/>
                      </a:lnTo>
                      <a:lnTo>
                        <a:pt x="670" y="657"/>
                      </a:lnTo>
                      <a:lnTo>
                        <a:pt x="650" y="657"/>
                      </a:lnTo>
                      <a:lnTo>
                        <a:pt x="629" y="654"/>
                      </a:lnTo>
                      <a:lnTo>
                        <a:pt x="608" y="651"/>
                      </a:lnTo>
                      <a:lnTo>
                        <a:pt x="588" y="647"/>
                      </a:lnTo>
                      <a:lnTo>
                        <a:pt x="569" y="644"/>
                      </a:lnTo>
                      <a:lnTo>
                        <a:pt x="578" y="629"/>
                      </a:lnTo>
                      <a:lnTo>
                        <a:pt x="584" y="614"/>
                      </a:lnTo>
                      <a:lnTo>
                        <a:pt x="585" y="598"/>
                      </a:lnTo>
                      <a:lnTo>
                        <a:pt x="584" y="582"/>
                      </a:lnTo>
                      <a:lnTo>
                        <a:pt x="578" y="564"/>
                      </a:lnTo>
                      <a:lnTo>
                        <a:pt x="574" y="548"/>
                      </a:lnTo>
                      <a:lnTo>
                        <a:pt x="569" y="530"/>
                      </a:lnTo>
                      <a:lnTo>
                        <a:pt x="564" y="515"/>
                      </a:lnTo>
                      <a:lnTo>
                        <a:pt x="557" y="505"/>
                      </a:lnTo>
                      <a:lnTo>
                        <a:pt x="549" y="498"/>
                      </a:lnTo>
                      <a:lnTo>
                        <a:pt x="540" y="492"/>
                      </a:lnTo>
                      <a:lnTo>
                        <a:pt x="531" y="489"/>
                      </a:lnTo>
                      <a:lnTo>
                        <a:pt x="520" y="484"/>
                      </a:lnTo>
                      <a:lnTo>
                        <a:pt x="511" y="482"/>
                      </a:lnTo>
                      <a:lnTo>
                        <a:pt x="501" y="479"/>
                      </a:lnTo>
                      <a:lnTo>
                        <a:pt x="491" y="477"/>
                      </a:lnTo>
                      <a:lnTo>
                        <a:pt x="488" y="480"/>
                      </a:lnTo>
                      <a:lnTo>
                        <a:pt x="495" y="486"/>
                      </a:lnTo>
                      <a:lnTo>
                        <a:pt x="504" y="493"/>
                      </a:lnTo>
                      <a:lnTo>
                        <a:pt x="514" y="498"/>
                      </a:lnTo>
                      <a:lnTo>
                        <a:pt x="523" y="504"/>
                      </a:lnTo>
                      <a:lnTo>
                        <a:pt x="521" y="507"/>
                      </a:lnTo>
                      <a:lnTo>
                        <a:pt x="527" y="512"/>
                      </a:lnTo>
                      <a:lnTo>
                        <a:pt x="535" y="511"/>
                      </a:lnTo>
                      <a:lnTo>
                        <a:pt x="543" y="518"/>
                      </a:lnTo>
                      <a:lnTo>
                        <a:pt x="548" y="525"/>
                      </a:lnTo>
                      <a:lnTo>
                        <a:pt x="555" y="534"/>
                      </a:lnTo>
                      <a:lnTo>
                        <a:pt x="559" y="545"/>
                      </a:lnTo>
                      <a:lnTo>
                        <a:pt x="561" y="558"/>
                      </a:lnTo>
                      <a:lnTo>
                        <a:pt x="561" y="572"/>
                      </a:lnTo>
                      <a:lnTo>
                        <a:pt x="560" y="586"/>
                      </a:lnTo>
                      <a:lnTo>
                        <a:pt x="557" y="599"/>
                      </a:lnTo>
                      <a:lnTo>
                        <a:pt x="555" y="612"/>
                      </a:lnTo>
                      <a:lnTo>
                        <a:pt x="551" y="624"/>
                      </a:lnTo>
                      <a:lnTo>
                        <a:pt x="550" y="637"/>
                      </a:lnTo>
                      <a:lnTo>
                        <a:pt x="544" y="640"/>
                      </a:lnTo>
                      <a:lnTo>
                        <a:pt x="537" y="644"/>
                      </a:lnTo>
                      <a:lnTo>
                        <a:pt x="531" y="647"/>
                      </a:lnTo>
                      <a:lnTo>
                        <a:pt x="525" y="652"/>
                      </a:lnTo>
                      <a:lnTo>
                        <a:pt x="517" y="654"/>
                      </a:lnTo>
                      <a:lnTo>
                        <a:pt x="510" y="656"/>
                      </a:lnTo>
                      <a:lnTo>
                        <a:pt x="502" y="656"/>
                      </a:lnTo>
                      <a:lnTo>
                        <a:pt x="496" y="657"/>
                      </a:lnTo>
                      <a:lnTo>
                        <a:pt x="474" y="659"/>
                      </a:lnTo>
                      <a:lnTo>
                        <a:pt x="453" y="661"/>
                      </a:lnTo>
                      <a:lnTo>
                        <a:pt x="430" y="662"/>
                      </a:lnTo>
                      <a:lnTo>
                        <a:pt x="409" y="663"/>
                      </a:lnTo>
                      <a:lnTo>
                        <a:pt x="386" y="662"/>
                      </a:lnTo>
                      <a:lnTo>
                        <a:pt x="365" y="662"/>
                      </a:lnTo>
                      <a:lnTo>
                        <a:pt x="342" y="661"/>
                      </a:lnTo>
                      <a:lnTo>
                        <a:pt x="321" y="660"/>
                      </a:lnTo>
                      <a:lnTo>
                        <a:pt x="298" y="651"/>
                      </a:lnTo>
                      <a:lnTo>
                        <a:pt x="283" y="639"/>
                      </a:lnTo>
                      <a:lnTo>
                        <a:pt x="269" y="627"/>
                      </a:lnTo>
                      <a:lnTo>
                        <a:pt x="256" y="614"/>
                      </a:lnTo>
                      <a:lnTo>
                        <a:pt x="245" y="602"/>
                      </a:lnTo>
                      <a:lnTo>
                        <a:pt x="232" y="588"/>
                      </a:lnTo>
                      <a:lnTo>
                        <a:pt x="221" y="574"/>
                      </a:lnTo>
                      <a:lnTo>
                        <a:pt x="211" y="559"/>
                      </a:lnTo>
                      <a:lnTo>
                        <a:pt x="203" y="545"/>
                      </a:lnTo>
                      <a:lnTo>
                        <a:pt x="186" y="529"/>
                      </a:lnTo>
                      <a:lnTo>
                        <a:pt x="173" y="513"/>
                      </a:lnTo>
                      <a:lnTo>
                        <a:pt x="161" y="496"/>
                      </a:lnTo>
                      <a:lnTo>
                        <a:pt x="151" y="479"/>
                      </a:lnTo>
                      <a:lnTo>
                        <a:pt x="142" y="461"/>
                      </a:lnTo>
                      <a:lnTo>
                        <a:pt x="133" y="442"/>
                      </a:lnTo>
                      <a:lnTo>
                        <a:pt x="125" y="424"/>
                      </a:lnTo>
                      <a:lnTo>
                        <a:pt x="118" y="406"/>
                      </a:lnTo>
                      <a:lnTo>
                        <a:pt x="108" y="369"/>
                      </a:lnTo>
                      <a:lnTo>
                        <a:pt x="97" y="334"/>
                      </a:lnTo>
                      <a:lnTo>
                        <a:pt x="84" y="300"/>
                      </a:lnTo>
                      <a:lnTo>
                        <a:pt x="72" y="265"/>
                      </a:lnTo>
                      <a:lnTo>
                        <a:pt x="59" y="229"/>
                      </a:lnTo>
                      <a:lnTo>
                        <a:pt x="47" y="193"/>
                      </a:lnTo>
                      <a:lnTo>
                        <a:pt x="37" y="157"/>
                      </a:lnTo>
                      <a:lnTo>
                        <a:pt x="29" y="122"/>
                      </a:lnTo>
                      <a:lnTo>
                        <a:pt x="24" y="110"/>
                      </a:lnTo>
                      <a:lnTo>
                        <a:pt x="19" y="99"/>
                      </a:lnTo>
                      <a:lnTo>
                        <a:pt x="16" y="87"/>
                      </a:lnTo>
                      <a:lnTo>
                        <a:pt x="14" y="76"/>
                      </a:lnTo>
                      <a:lnTo>
                        <a:pt x="11" y="64"/>
                      </a:lnTo>
                      <a:lnTo>
                        <a:pt x="9" y="53"/>
                      </a:lnTo>
                      <a:lnTo>
                        <a:pt x="4" y="41"/>
                      </a:lnTo>
                      <a:lnTo>
                        <a:pt x="0" y="31"/>
                      </a:lnTo>
                      <a:lnTo>
                        <a:pt x="3" y="23"/>
                      </a:lnTo>
                      <a:lnTo>
                        <a:pt x="10" y="16"/>
                      </a:lnTo>
                      <a:lnTo>
                        <a:pt x="18" y="10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79000" y="4892760"/>
                  <a:ext cx="84240" cy="122040"/>
                </a:xfrm>
                <a:custGeom>
                  <a:avLst/>
                  <a:gdLst/>
                  <a:ahLst/>
                  <a:rect l="l" t="t" r="r" b="b"/>
                  <a:pathLst>
                    <a:path w="319" h="464">
                      <a:moveTo>
                        <a:pt x="9" y="321"/>
                      </a:moveTo>
                      <a:lnTo>
                        <a:pt x="7" y="320"/>
                      </a:lnTo>
                      <a:lnTo>
                        <a:pt x="16" y="313"/>
                      </a:lnTo>
                      <a:lnTo>
                        <a:pt x="25" y="307"/>
                      </a:lnTo>
                      <a:lnTo>
                        <a:pt x="35" y="302"/>
                      </a:lnTo>
                      <a:lnTo>
                        <a:pt x="46" y="299"/>
                      </a:lnTo>
                      <a:lnTo>
                        <a:pt x="56" y="294"/>
                      </a:lnTo>
                      <a:lnTo>
                        <a:pt x="67" y="291"/>
                      </a:lnTo>
                      <a:lnTo>
                        <a:pt x="78" y="288"/>
                      </a:lnTo>
                      <a:lnTo>
                        <a:pt x="89" y="285"/>
                      </a:lnTo>
                      <a:lnTo>
                        <a:pt x="92" y="277"/>
                      </a:lnTo>
                      <a:lnTo>
                        <a:pt x="95" y="271"/>
                      </a:lnTo>
                      <a:lnTo>
                        <a:pt x="97" y="264"/>
                      </a:lnTo>
                      <a:lnTo>
                        <a:pt x="100" y="258"/>
                      </a:lnTo>
                      <a:lnTo>
                        <a:pt x="101" y="250"/>
                      </a:lnTo>
                      <a:lnTo>
                        <a:pt x="105" y="244"/>
                      </a:lnTo>
                      <a:lnTo>
                        <a:pt x="107" y="238"/>
                      </a:lnTo>
                      <a:lnTo>
                        <a:pt x="111" y="231"/>
                      </a:lnTo>
                      <a:lnTo>
                        <a:pt x="109" y="226"/>
                      </a:lnTo>
                      <a:lnTo>
                        <a:pt x="109" y="220"/>
                      </a:lnTo>
                      <a:lnTo>
                        <a:pt x="109" y="214"/>
                      </a:lnTo>
                      <a:lnTo>
                        <a:pt x="111" y="209"/>
                      </a:lnTo>
                      <a:lnTo>
                        <a:pt x="111" y="202"/>
                      </a:lnTo>
                      <a:lnTo>
                        <a:pt x="113" y="197"/>
                      </a:lnTo>
                      <a:lnTo>
                        <a:pt x="114" y="190"/>
                      </a:lnTo>
                      <a:lnTo>
                        <a:pt x="115" y="186"/>
                      </a:lnTo>
                      <a:lnTo>
                        <a:pt x="113" y="174"/>
                      </a:lnTo>
                      <a:lnTo>
                        <a:pt x="114" y="165"/>
                      </a:lnTo>
                      <a:lnTo>
                        <a:pt x="115" y="155"/>
                      </a:lnTo>
                      <a:lnTo>
                        <a:pt x="119" y="146"/>
                      </a:lnTo>
                      <a:lnTo>
                        <a:pt x="122" y="138"/>
                      </a:lnTo>
                      <a:lnTo>
                        <a:pt x="125" y="129"/>
                      </a:lnTo>
                      <a:lnTo>
                        <a:pt x="128" y="119"/>
                      </a:lnTo>
                      <a:lnTo>
                        <a:pt x="132" y="111"/>
                      </a:lnTo>
                      <a:lnTo>
                        <a:pt x="144" y="88"/>
                      </a:lnTo>
                      <a:lnTo>
                        <a:pt x="162" y="67"/>
                      </a:lnTo>
                      <a:lnTo>
                        <a:pt x="181" y="48"/>
                      </a:lnTo>
                      <a:lnTo>
                        <a:pt x="202" y="30"/>
                      </a:lnTo>
                      <a:lnTo>
                        <a:pt x="224" y="15"/>
                      </a:lnTo>
                      <a:lnTo>
                        <a:pt x="249" y="6"/>
                      </a:lnTo>
                      <a:lnTo>
                        <a:pt x="274" y="0"/>
                      </a:lnTo>
                      <a:lnTo>
                        <a:pt x="303" y="1"/>
                      </a:lnTo>
                      <a:lnTo>
                        <a:pt x="319" y="8"/>
                      </a:lnTo>
                      <a:lnTo>
                        <a:pt x="312" y="19"/>
                      </a:lnTo>
                      <a:lnTo>
                        <a:pt x="304" y="29"/>
                      </a:lnTo>
                      <a:lnTo>
                        <a:pt x="301" y="34"/>
                      </a:lnTo>
                      <a:lnTo>
                        <a:pt x="300" y="39"/>
                      </a:lnTo>
                      <a:lnTo>
                        <a:pt x="300" y="45"/>
                      </a:lnTo>
                      <a:lnTo>
                        <a:pt x="303" y="53"/>
                      </a:lnTo>
                      <a:lnTo>
                        <a:pt x="297" y="67"/>
                      </a:lnTo>
                      <a:lnTo>
                        <a:pt x="290" y="81"/>
                      </a:lnTo>
                      <a:lnTo>
                        <a:pt x="283" y="95"/>
                      </a:lnTo>
                      <a:lnTo>
                        <a:pt x="276" y="109"/>
                      </a:lnTo>
                      <a:lnTo>
                        <a:pt x="269" y="123"/>
                      </a:lnTo>
                      <a:lnTo>
                        <a:pt x="261" y="138"/>
                      </a:lnTo>
                      <a:lnTo>
                        <a:pt x="255" y="152"/>
                      </a:lnTo>
                      <a:lnTo>
                        <a:pt x="251" y="168"/>
                      </a:lnTo>
                      <a:lnTo>
                        <a:pt x="252" y="173"/>
                      </a:lnTo>
                      <a:lnTo>
                        <a:pt x="252" y="178"/>
                      </a:lnTo>
                      <a:lnTo>
                        <a:pt x="251" y="185"/>
                      </a:lnTo>
                      <a:lnTo>
                        <a:pt x="251" y="191"/>
                      </a:lnTo>
                      <a:lnTo>
                        <a:pt x="248" y="197"/>
                      </a:lnTo>
                      <a:lnTo>
                        <a:pt x="246" y="203"/>
                      </a:lnTo>
                      <a:lnTo>
                        <a:pt x="245" y="210"/>
                      </a:lnTo>
                      <a:lnTo>
                        <a:pt x="245" y="216"/>
                      </a:lnTo>
                      <a:lnTo>
                        <a:pt x="245" y="229"/>
                      </a:lnTo>
                      <a:lnTo>
                        <a:pt x="246" y="242"/>
                      </a:lnTo>
                      <a:lnTo>
                        <a:pt x="245" y="255"/>
                      </a:lnTo>
                      <a:lnTo>
                        <a:pt x="245" y="269"/>
                      </a:lnTo>
                      <a:lnTo>
                        <a:pt x="244" y="282"/>
                      </a:lnTo>
                      <a:lnTo>
                        <a:pt x="244" y="294"/>
                      </a:lnTo>
                      <a:lnTo>
                        <a:pt x="244" y="307"/>
                      </a:lnTo>
                      <a:lnTo>
                        <a:pt x="246" y="321"/>
                      </a:lnTo>
                      <a:lnTo>
                        <a:pt x="247" y="324"/>
                      </a:lnTo>
                      <a:lnTo>
                        <a:pt x="248" y="331"/>
                      </a:lnTo>
                      <a:lnTo>
                        <a:pt x="248" y="337"/>
                      </a:lnTo>
                      <a:lnTo>
                        <a:pt x="249" y="344"/>
                      </a:lnTo>
                      <a:lnTo>
                        <a:pt x="248" y="349"/>
                      </a:lnTo>
                      <a:lnTo>
                        <a:pt x="248" y="356"/>
                      </a:lnTo>
                      <a:lnTo>
                        <a:pt x="249" y="362"/>
                      </a:lnTo>
                      <a:lnTo>
                        <a:pt x="253" y="368"/>
                      </a:lnTo>
                      <a:lnTo>
                        <a:pt x="233" y="383"/>
                      </a:lnTo>
                      <a:lnTo>
                        <a:pt x="214" y="400"/>
                      </a:lnTo>
                      <a:lnTo>
                        <a:pt x="194" y="415"/>
                      </a:lnTo>
                      <a:lnTo>
                        <a:pt x="174" y="429"/>
                      </a:lnTo>
                      <a:lnTo>
                        <a:pt x="152" y="440"/>
                      </a:lnTo>
                      <a:lnTo>
                        <a:pt x="130" y="450"/>
                      </a:lnTo>
                      <a:lnTo>
                        <a:pt x="107" y="458"/>
                      </a:lnTo>
                      <a:lnTo>
                        <a:pt x="83" y="464"/>
                      </a:lnTo>
                      <a:lnTo>
                        <a:pt x="75" y="452"/>
                      </a:lnTo>
                      <a:lnTo>
                        <a:pt x="66" y="441"/>
                      </a:lnTo>
                      <a:lnTo>
                        <a:pt x="56" y="431"/>
                      </a:lnTo>
                      <a:lnTo>
                        <a:pt x="47" y="421"/>
                      </a:lnTo>
                      <a:lnTo>
                        <a:pt x="36" y="410"/>
                      </a:lnTo>
                      <a:lnTo>
                        <a:pt x="25" y="400"/>
                      </a:lnTo>
                      <a:lnTo>
                        <a:pt x="16" y="389"/>
                      </a:lnTo>
                      <a:lnTo>
                        <a:pt x="7" y="379"/>
                      </a:lnTo>
                      <a:lnTo>
                        <a:pt x="5" y="372"/>
                      </a:lnTo>
                      <a:lnTo>
                        <a:pt x="3" y="364"/>
                      </a:lnTo>
                      <a:lnTo>
                        <a:pt x="1" y="356"/>
                      </a:lnTo>
                      <a:lnTo>
                        <a:pt x="1" y="348"/>
                      </a:lnTo>
                      <a:lnTo>
                        <a:pt x="0" y="339"/>
                      </a:lnTo>
                      <a:lnTo>
                        <a:pt x="2" y="333"/>
                      </a:lnTo>
                      <a:lnTo>
                        <a:pt x="4" y="327"/>
                      </a:lnTo>
                      <a:lnTo>
                        <a:pt x="9" y="321"/>
                      </a:lnTo>
                      <a:close/>
                    </a:path>
                  </a:pathLst>
                </a:custGeom>
                <a:solidFill>
                  <a:srgbClr val="bf8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47400" y="4883400"/>
                  <a:ext cx="64080" cy="118080"/>
                </a:xfrm>
                <a:custGeom>
                  <a:avLst/>
                  <a:gdLst/>
                  <a:ahLst/>
                  <a:rect l="l" t="t" r="r" b="b"/>
                  <a:pathLst>
                    <a:path w="246" h="452">
                      <a:moveTo>
                        <a:pt x="6" y="272"/>
                      </a:moveTo>
                      <a:lnTo>
                        <a:pt x="2" y="260"/>
                      </a:lnTo>
                      <a:lnTo>
                        <a:pt x="2" y="247"/>
                      </a:lnTo>
                      <a:lnTo>
                        <a:pt x="3" y="234"/>
                      </a:lnTo>
                      <a:lnTo>
                        <a:pt x="7" y="221"/>
                      </a:lnTo>
                      <a:lnTo>
                        <a:pt x="10" y="207"/>
                      </a:lnTo>
                      <a:lnTo>
                        <a:pt x="14" y="194"/>
                      </a:lnTo>
                      <a:lnTo>
                        <a:pt x="17" y="181"/>
                      </a:lnTo>
                      <a:lnTo>
                        <a:pt x="22" y="169"/>
                      </a:lnTo>
                      <a:lnTo>
                        <a:pt x="32" y="149"/>
                      </a:lnTo>
                      <a:lnTo>
                        <a:pt x="43" y="129"/>
                      </a:lnTo>
                      <a:lnTo>
                        <a:pt x="52" y="107"/>
                      </a:lnTo>
                      <a:lnTo>
                        <a:pt x="61" y="86"/>
                      </a:lnTo>
                      <a:lnTo>
                        <a:pt x="71" y="64"/>
                      </a:lnTo>
                      <a:lnTo>
                        <a:pt x="82" y="45"/>
                      </a:lnTo>
                      <a:lnTo>
                        <a:pt x="95" y="26"/>
                      </a:lnTo>
                      <a:lnTo>
                        <a:pt x="112" y="10"/>
                      </a:lnTo>
                      <a:lnTo>
                        <a:pt x="118" y="6"/>
                      </a:lnTo>
                      <a:lnTo>
                        <a:pt x="126" y="4"/>
                      </a:lnTo>
                      <a:lnTo>
                        <a:pt x="133" y="2"/>
                      </a:lnTo>
                      <a:lnTo>
                        <a:pt x="142" y="1"/>
                      </a:lnTo>
                      <a:lnTo>
                        <a:pt x="149" y="0"/>
                      </a:lnTo>
                      <a:lnTo>
                        <a:pt x="158" y="0"/>
                      </a:lnTo>
                      <a:lnTo>
                        <a:pt x="166" y="0"/>
                      </a:lnTo>
                      <a:lnTo>
                        <a:pt x="175" y="1"/>
                      </a:lnTo>
                      <a:lnTo>
                        <a:pt x="182" y="0"/>
                      </a:lnTo>
                      <a:lnTo>
                        <a:pt x="189" y="2"/>
                      </a:lnTo>
                      <a:lnTo>
                        <a:pt x="195" y="4"/>
                      </a:lnTo>
                      <a:lnTo>
                        <a:pt x="204" y="5"/>
                      </a:lnTo>
                      <a:lnTo>
                        <a:pt x="210" y="8"/>
                      </a:lnTo>
                      <a:lnTo>
                        <a:pt x="215" y="14"/>
                      </a:lnTo>
                      <a:lnTo>
                        <a:pt x="217" y="19"/>
                      </a:lnTo>
                      <a:lnTo>
                        <a:pt x="223" y="26"/>
                      </a:lnTo>
                      <a:lnTo>
                        <a:pt x="246" y="27"/>
                      </a:lnTo>
                      <a:lnTo>
                        <a:pt x="237" y="35"/>
                      </a:lnTo>
                      <a:lnTo>
                        <a:pt x="229" y="44"/>
                      </a:lnTo>
                      <a:lnTo>
                        <a:pt x="219" y="54"/>
                      </a:lnTo>
                      <a:lnTo>
                        <a:pt x="210" y="63"/>
                      </a:lnTo>
                      <a:lnTo>
                        <a:pt x="201" y="73"/>
                      </a:lnTo>
                      <a:lnTo>
                        <a:pt x="194" y="84"/>
                      </a:lnTo>
                      <a:lnTo>
                        <a:pt x="190" y="95"/>
                      </a:lnTo>
                      <a:lnTo>
                        <a:pt x="189" y="108"/>
                      </a:lnTo>
                      <a:lnTo>
                        <a:pt x="185" y="115"/>
                      </a:lnTo>
                      <a:lnTo>
                        <a:pt x="181" y="123"/>
                      </a:lnTo>
                      <a:lnTo>
                        <a:pt x="178" y="131"/>
                      </a:lnTo>
                      <a:lnTo>
                        <a:pt x="175" y="140"/>
                      </a:lnTo>
                      <a:lnTo>
                        <a:pt x="172" y="149"/>
                      </a:lnTo>
                      <a:lnTo>
                        <a:pt x="169" y="158"/>
                      </a:lnTo>
                      <a:lnTo>
                        <a:pt x="165" y="166"/>
                      </a:lnTo>
                      <a:lnTo>
                        <a:pt x="162" y="176"/>
                      </a:lnTo>
                      <a:lnTo>
                        <a:pt x="156" y="195"/>
                      </a:lnTo>
                      <a:lnTo>
                        <a:pt x="155" y="216"/>
                      </a:lnTo>
                      <a:lnTo>
                        <a:pt x="155" y="235"/>
                      </a:lnTo>
                      <a:lnTo>
                        <a:pt x="158" y="255"/>
                      </a:lnTo>
                      <a:lnTo>
                        <a:pt x="160" y="275"/>
                      </a:lnTo>
                      <a:lnTo>
                        <a:pt x="162" y="295"/>
                      </a:lnTo>
                      <a:lnTo>
                        <a:pt x="162" y="313"/>
                      </a:lnTo>
                      <a:lnTo>
                        <a:pt x="161" y="333"/>
                      </a:lnTo>
                      <a:lnTo>
                        <a:pt x="163" y="342"/>
                      </a:lnTo>
                      <a:lnTo>
                        <a:pt x="165" y="352"/>
                      </a:lnTo>
                      <a:lnTo>
                        <a:pt x="166" y="363"/>
                      </a:lnTo>
                      <a:lnTo>
                        <a:pt x="167" y="374"/>
                      </a:lnTo>
                      <a:lnTo>
                        <a:pt x="167" y="385"/>
                      </a:lnTo>
                      <a:lnTo>
                        <a:pt x="169" y="396"/>
                      </a:lnTo>
                      <a:lnTo>
                        <a:pt x="171" y="406"/>
                      </a:lnTo>
                      <a:lnTo>
                        <a:pt x="175" y="416"/>
                      </a:lnTo>
                      <a:lnTo>
                        <a:pt x="170" y="419"/>
                      </a:lnTo>
                      <a:lnTo>
                        <a:pt x="170" y="425"/>
                      </a:lnTo>
                      <a:lnTo>
                        <a:pt x="170" y="430"/>
                      </a:lnTo>
                      <a:lnTo>
                        <a:pt x="169" y="437"/>
                      </a:lnTo>
                      <a:lnTo>
                        <a:pt x="160" y="439"/>
                      </a:lnTo>
                      <a:lnTo>
                        <a:pt x="152" y="442"/>
                      </a:lnTo>
                      <a:lnTo>
                        <a:pt x="144" y="445"/>
                      </a:lnTo>
                      <a:lnTo>
                        <a:pt x="136" y="448"/>
                      </a:lnTo>
                      <a:lnTo>
                        <a:pt x="128" y="451"/>
                      </a:lnTo>
                      <a:lnTo>
                        <a:pt x="120" y="451"/>
                      </a:lnTo>
                      <a:lnTo>
                        <a:pt x="112" y="448"/>
                      </a:lnTo>
                      <a:lnTo>
                        <a:pt x="105" y="444"/>
                      </a:lnTo>
                      <a:lnTo>
                        <a:pt x="96" y="444"/>
                      </a:lnTo>
                      <a:lnTo>
                        <a:pt x="87" y="445"/>
                      </a:lnTo>
                      <a:lnTo>
                        <a:pt x="78" y="445"/>
                      </a:lnTo>
                      <a:lnTo>
                        <a:pt x="70" y="446"/>
                      </a:lnTo>
                      <a:lnTo>
                        <a:pt x="60" y="446"/>
                      </a:lnTo>
                      <a:lnTo>
                        <a:pt x="53" y="447"/>
                      </a:lnTo>
                      <a:lnTo>
                        <a:pt x="44" y="448"/>
                      </a:lnTo>
                      <a:lnTo>
                        <a:pt x="37" y="452"/>
                      </a:lnTo>
                      <a:lnTo>
                        <a:pt x="25" y="443"/>
                      </a:lnTo>
                      <a:lnTo>
                        <a:pt x="18" y="433"/>
                      </a:lnTo>
                      <a:lnTo>
                        <a:pt x="15" y="423"/>
                      </a:lnTo>
                      <a:lnTo>
                        <a:pt x="15" y="412"/>
                      </a:lnTo>
                      <a:lnTo>
                        <a:pt x="14" y="400"/>
                      </a:lnTo>
                      <a:lnTo>
                        <a:pt x="14" y="388"/>
                      </a:lnTo>
                      <a:lnTo>
                        <a:pt x="11" y="375"/>
                      </a:lnTo>
                      <a:lnTo>
                        <a:pt x="6" y="365"/>
                      </a:lnTo>
                      <a:lnTo>
                        <a:pt x="2" y="353"/>
                      </a:lnTo>
                      <a:lnTo>
                        <a:pt x="1" y="341"/>
                      </a:lnTo>
                      <a:lnTo>
                        <a:pt x="0" y="329"/>
                      </a:lnTo>
                      <a:lnTo>
                        <a:pt x="1" y="319"/>
                      </a:lnTo>
                      <a:lnTo>
                        <a:pt x="1" y="306"/>
                      </a:lnTo>
                      <a:lnTo>
                        <a:pt x="3" y="295"/>
                      </a:lnTo>
                      <a:lnTo>
                        <a:pt x="3" y="283"/>
                      </a:lnTo>
                      <a:lnTo>
                        <a:pt x="6" y="272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092040" y="4884840"/>
                  <a:ext cx="180720" cy="139320"/>
                </a:xfrm>
                <a:custGeom>
                  <a:avLst/>
                  <a:gdLst/>
                  <a:ahLst/>
                  <a:rect l="l" t="t" r="r" b="b"/>
                  <a:pathLst>
                    <a:path w="690" h="527">
                      <a:moveTo>
                        <a:pt x="31" y="117"/>
                      </a:moveTo>
                      <a:lnTo>
                        <a:pt x="33" y="103"/>
                      </a:lnTo>
                      <a:lnTo>
                        <a:pt x="37" y="92"/>
                      </a:lnTo>
                      <a:lnTo>
                        <a:pt x="42" y="79"/>
                      </a:lnTo>
                      <a:lnTo>
                        <a:pt x="50" y="69"/>
                      </a:lnTo>
                      <a:lnTo>
                        <a:pt x="57" y="58"/>
                      </a:lnTo>
                      <a:lnTo>
                        <a:pt x="68" y="50"/>
                      </a:lnTo>
                      <a:lnTo>
                        <a:pt x="78" y="41"/>
                      </a:lnTo>
                      <a:lnTo>
                        <a:pt x="90" y="35"/>
                      </a:lnTo>
                      <a:lnTo>
                        <a:pt x="139" y="46"/>
                      </a:lnTo>
                      <a:lnTo>
                        <a:pt x="128" y="54"/>
                      </a:lnTo>
                      <a:lnTo>
                        <a:pt x="119" y="63"/>
                      </a:lnTo>
                      <a:lnTo>
                        <a:pt x="113" y="66"/>
                      </a:lnTo>
                      <a:lnTo>
                        <a:pt x="109" y="70"/>
                      </a:lnTo>
                      <a:lnTo>
                        <a:pt x="106" y="74"/>
                      </a:lnTo>
                      <a:lnTo>
                        <a:pt x="104" y="81"/>
                      </a:lnTo>
                      <a:lnTo>
                        <a:pt x="114" y="76"/>
                      </a:lnTo>
                      <a:lnTo>
                        <a:pt x="125" y="71"/>
                      </a:lnTo>
                      <a:lnTo>
                        <a:pt x="130" y="68"/>
                      </a:lnTo>
                      <a:lnTo>
                        <a:pt x="137" y="67"/>
                      </a:lnTo>
                      <a:lnTo>
                        <a:pt x="143" y="65"/>
                      </a:lnTo>
                      <a:lnTo>
                        <a:pt x="151" y="66"/>
                      </a:lnTo>
                      <a:lnTo>
                        <a:pt x="170" y="52"/>
                      </a:lnTo>
                      <a:lnTo>
                        <a:pt x="193" y="41"/>
                      </a:lnTo>
                      <a:lnTo>
                        <a:pt x="215" y="34"/>
                      </a:lnTo>
                      <a:lnTo>
                        <a:pt x="240" y="28"/>
                      </a:lnTo>
                      <a:lnTo>
                        <a:pt x="264" y="23"/>
                      </a:lnTo>
                      <a:lnTo>
                        <a:pt x="290" y="20"/>
                      </a:lnTo>
                      <a:lnTo>
                        <a:pt x="315" y="17"/>
                      </a:lnTo>
                      <a:lnTo>
                        <a:pt x="341" y="15"/>
                      </a:lnTo>
                      <a:lnTo>
                        <a:pt x="346" y="12"/>
                      </a:lnTo>
                      <a:lnTo>
                        <a:pt x="351" y="9"/>
                      </a:lnTo>
                      <a:lnTo>
                        <a:pt x="357" y="5"/>
                      </a:lnTo>
                      <a:lnTo>
                        <a:pt x="363" y="0"/>
                      </a:lnTo>
                      <a:lnTo>
                        <a:pt x="375" y="10"/>
                      </a:lnTo>
                      <a:lnTo>
                        <a:pt x="371" y="20"/>
                      </a:lnTo>
                      <a:lnTo>
                        <a:pt x="368" y="30"/>
                      </a:lnTo>
                      <a:lnTo>
                        <a:pt x="367" y="40"/>
                      </a:lnTo>
                      <a:lnTo>
                        <a:pt x="370" y="50"/>
                      </a:lnTo>
                      <a:lnTo>
                        <a:pt x="372" y="58"/>
                      </a:lnTo>
                      <a:lnTo>
                        <a:pt x="376" y="68"/>
                      </a:lnTo>
                      <a:lnTo>
                        <a:pt x="382" y="76"/>
                      </a:lnTo>
                      <a:lnTo>
                        <a:pt x="390" y="86"/>
                      </a:lnTo>
                      <a:lnTo>
                        <a:pt x="392" y="95"/>
                      </a:lnTo>
                      <a:lnTo>
                        <a:pt x="398" y="102"/>
                      </a:lnTo>
                      <a:lnTo>
                        <a:pt x="405" y="109"/>
                      </a:lnTo>
                      <a:lnTo>
                        <a:pt x="414" y="115"/>
                      </a:lnTo>
                      <a:lnTo>
                        <a:pt x="422" y="120"/>
                      </a:lnTo>
                      <a:lnTo>
                        <a:pt x="431" y="127"/>
                      </a:lnTo>
                      <a:lnTo>
                        <a:pt x="439" y="133"/>
                      </a:lnTo>
                      <a:lnTo>
                        <a:pt x="448" y="141"/>
                      </a:lnTo>
                      <a:lnTo>
                        <a:pt x="459" y="145"/>
                      </a:lnTo>
                      <a:lnTo>
                        <a:pt x="471" y="149"/>
                      </a:lnTo>
                      <a:lnTo>
                        <a:pt x="485" y="151"/>
                      </a:lnTo>
                      <a:lnTo>
                        <a:pt x="499" y="152"/>
                      </a:lnTo>
                      <a:lnTo>
                        <a:pt x="512" y="152"/>
                      </a:lnTo>
                      <a:lnTo>
                        <a:pt x="526" y="154"/>
                      </a:lnTo>
                      <a:lnTo>
                        <a:pt x="538" y="158"/>
                      </a:lnTo>
                      <a:lnTo>
                        <a:pt x="551" y="167"/>
                      </a:lnTo>
                      <a:lnTo>
                        <a:pt x="557" y="162"/>
                      </a:lnTo>
                      <a:lnTo>
                        <a:pt x="565" y="162"/>
                      </a:lnTo>
                      <a:lnTo>
                        <a:pt x="571" y="163"/>
                      </a:lnTo>
                      <a:lnTo>
                        <a:pt x="579" y="167"/>
                      </a:lnTo>
                      <a:lnTo>
                        <a:pt x="585" y="168"/>
                      </a:lnTo>
                      <a:lnTo>
                        <a:pt x="592" y="170"/>
                      </a:lnTo>
                      <a:lnTo>
                        <a:pt x="599" y="169"/>
                      </a:lnTo>
                      <a:lnTo>
                        <a:pt x="607" y="166"/>
                      </a:lnTo>
                      <a:lnTo>
                        <a:pt x="614" y="167"/>
                      </a:lnTo>
                      <a:lnTo>
                        <a:pt x="624" y="168"/>
                      </a:lnTo>
                      <a:lnTo>
                        <a:pt x="631" y="167"/>
                      </a:lnTo>
                      <a:lnTo>
                        <a:pt x="641" y="167"/>
                      </a:lnTo>
                      <a:lnTo>
                        <a:pt x="648" y="164"/>
                      </a:lnTo>
                      <a:lnTo>
                        <a:pt x="658" y="163"/>
                      </a:lnTo>
                      <a:lnTo>
                        <a:pt x="666" y="162"/>
                      </a:lnTo>
                      <a:lnTo>
                        <a:pt x="675" y="163"/>
                      </a:lnTo>
                      <a:lnTo>
                        <a:pt x="689" y="156"/>
                      </a:lnTo>
                      <a:lnTo>
                        <a:pt x="689" y="162"/>
                      </a:lnTo>
                      <a:lnTo>
                        <a:pt x="690" y="171"/>
                      </a:lnTo>
                      <a:lnTo>
                        <a:pt x="689" y="178"/>
                      </a:lnTo>
                      <a:lnTo>
                        <a:pt x="688" y="187"/>
                      </a:lnTo>
                      <a:lnTo>
                        <a:pt x="685" y="193"/>
                      </a:lnTo>
                      <a:lnTo>
                        <a:pt x="683" y="201"/>
                      </a:lnTo>
                      <a:lnTo>
                        <a:pt x="678" y="207"/>
                      </a:lnTo>
                      <a:lnTo>
                        <a:pt x="675" y="215"/>
                      </a:lnTo>
                      <a:lnTo>
                        <a:pt x="668" y="221"/>
                      </a:lnTo>
                      <a:lnTo>
                        <a:pt x="661" y="228"/>
                      </a:lnTo>
                      <a:lnTo>
                        <a:pt x="654" y="232"/>
                      </a:lnTo>
                      <a:lnTo>
                        <a:pt x="647" y="237"/>
                      </a:lnTo>
                      <a:lnTo>
                        <a:pt x="639" y="241"/>
                      </a:lnTo>
                      <a:lnTo>
                        <a:pt x="631" y="244"/>
                      </a:lnTo>
                      <a:lnTo>
                        <a:pt x="624" y="247"/>
                      </a:lnTo>
                      <a:lnTo>
                        <a:pt x="616" y="250"/>
                      </a:lnTo>
                      <a:lnTo>
                        <a:pt x="618" y="244"/>
                      </a:lnTo>
                      <a:lnTo>
                        <a:pt x="623" y="237"/>
                      </a:lnTo>
                      <a:lnTo>
                        <a:pt x="624" y="231"/>
                      </a:lnTo>
                      <a:lnTo>
                        <a:pt x="623" y="226"/>
                      </a:lnTo>
                      <a:lnTo>
                        <a:pt x="612" y="232"/>
                      </a:lnTo>
                      <a:lnTo>
                        <a:pt x="605" y="241"/>
                      </a:lnTo>
                      <a:lnTo>
                        <a:pt x="599" y="250"/>
                      </a:lnTo>
                      <a:lnTo>
                        <a:pt x="596" y="261"/>
                      </a:lnTo>
                      <a:lnTo>
                        <a:pt x="592" y="272"/>
                      </a:lnTo>
                      <a:lnTo>
                        <a:pt x="589" y="284"/>
                      </a:lnTo>
                      <a:lnTo>
                        <a:pt x="586" y="295"/>
                      </a:lnTo>
                      <a:lnTo>
                        <a:pt x="585" y="307"/>
                      </a:lnTo>
                      <a:lnTo>
                        <a:pt x="588" y="321"/>
                      </a:lnTo>
                      <a:lnTo>
                        <a:pt x="595" y="335"/>
                      </a:lnTo>
                      <a:lnTo>
                        <a:pt x="602" y="348"/>
                      </a:lnTo>
                      <a:lnTo>
                        <a:pt x="612" y="362"/>
                      </a:lnTo>
                      <a:lnTo>
                        <a:pt x="622" y="374"/>
                      </a:lnTo>
                      <a:lnTo>
                        <a:pt x="632" y="387"/>
                      </a:lnTo>
                      <a:lnTo>
                        <a:pt x="644" y="398"/>
                      </a:lnTo>
                      <a:lnTo>
                        <a:pt x="657" y="410"/>
                      </a:lnTo>
                      <a:lnTo>
                        <a:pt x="642" y="422"/>
                      </a:lnTo>
                      <a:lnTo>
                        <a:pt x="628" y="435"/>
                      </a:lnTo>
                      <a:lnTo>
                        <a:pt x="615" y="449"/>
                      </a:lnTo>
                      <a:lnTo>
                        <a:pt x="602" y="464"/>
                      </a:lnTo>
                      <a:lnTo>
                        <a:pt x="589" y="478"/>
                      </a:lnTo>
                      <a:lnTo>
                        <a:pt x="578" y="494"/>
                      </a:lnTo>
                      <a:lnTo>
                        <a:pt x="567" y="510"/>
                      </a:lnTo>
                      <a:lnTo>
                        <a:pt x="557" y="527"/>
                      </a:lnTo>
                      <a:lnTo>
                        <a:pt x="530" y="511"/>
                      </a:lnTo>
                      <a:lnTo>
                        <a:pt x="506" y="493"/>
                      </a:lnTo>
                      <a:lnTo>
                        <a:pt x="483" y="470"/>
                      </a:lnTo>
                      <a:lnTo>
                        <a:pt x="464" y="447"/>
                      </a:lnTo>
                      <a:lnTo>
                        <a:pt x="448" y="419"/>
                      </a:lnTo>
                      <a:lnTo>
                        <a:pt x="436" y="391"/>
                      </a:lnTo>
                      <a:lnTo>
                        <a:pt x="429" y="362"/>
                      </a:lnTo>
                      <a:lnTo>
                        <a:pt x="427" y="333"/>
                      </a:lnTo>
                      <a:lnTo>
                        <a:pt x="429" y="321"/>
                      </a:lnTo>
                      <a:lnTo>
                        <a:pt x="431" y="310"/>
                      </a:lnTo>
                      <a:lnTo>
                        <a:pt x="433" y="299"/>
                      </a:lnTo>
                      <a:lnTo>
                        <a:pt x="435" y="288"/>
                      </a:lnTo>
                      <a:lnTo>
                        <a:pt x="435" y="276"/>
                      </a:lnTo>
                      <a:lnTo>
                        <a:pt x="435" y="265"/>
                      </a:lnTo>
                      <a:lnTo>
                        <a:pt x="435" y="254"/>
                      </a:lnTo>
                      <a:lnTo>
                        <a:pt x="436" y="243"/>
                      </a:lnTo>
                      <a:lnTo>
                        <a:pt x="432" y="241"/>
                      </a:lnTo>
                      <a:lnTo>
                        <a:pt x="429" y="241"/>
                      </a:lnTo>
                      <a:lnTo>
                        <a:pt x="427" y="246"/>
                      </a:lnTo>
                      <a:lnTo>
                        <a:pt x="426" y="251"/>
                      </a:lnTo>
                      <a:lnTo>
                        <a:pt x="425" y="258"/>
                      </a:lnTo>
                      <a:lnTo>
                        <a:pt x="425" y="264"/>
                      </a:lnTo>
                      <a:lnTo>
                        <a:pt x="424" y="271"/>
                      </a:lnTo>
                      <a:lnTo>
                        <a:pt x="424" y="277"/>
                      </a:lnTo>
                      <a:lnTo>
                        <a:pt x="423" y="284"/>
                      </a:lnTo>
                      <a:lnTo>
                        <a:pt x="422" y="291"/>
                      </a:lnTo>
                      <a:lnTo>
                        <a:pt x="411" y="351"/>
                      </a:lnTo>
                      <a:lnTo>
                        <a:pt x="385" y="368"/>
                      </a:lnTo>
                      <a:lnTo>
                        <a:pt x="357" y="383"/>
                      </a:lnTo>
                      <a:lnTo>
                        <a:pt x="328" y="395"/>
                      </a:lnTo>
                      <a:lnTo>
                        <a:pt x="299" y="406"/>
                      </a:lnTo>
                      <a:lnTo>
                        <a:pt x="268" y="415"/>
                      </a:lnTo>
                      <a:lnTo>
                        <a:pt x="239" y="423"/>
                      </a:lnTo>
                      <a:lnTo>
                        <a:pt x="209" y="432"/>
                      </a:lnTo>
                      <a:lnTo>
                        <a:pt x="180" y="441"/>
                      </a:lnTo>
                      <a:lnTo>
                        <a:pt x="160" y="441"/>
                      </a:lnTo>
                      <a:lnTo>
                        <a:pt x="141" y="442"/>
                      </a:lnTo>
                      <a:lnTo>
                        <a:pt x="122" y="442"/>
                      </a:lnTo>
                      <a:lnTo>
                        <a:pt x="104" y="442"/>
                      </a:lnTo>
                      <a:lnTo>
                        <a:pt x="84" y="440"/>
                      </a:lnTo>
                      <a:lnTo>
                        <a:pt x="67" y="437"/>
                      </a:lnTo>
                      <a:lnTo>
                        <a:pt x="50" y="433"/>
                      </a:lnTo>
                      <a:lnTo>
                        <a:pt x="34" y="426"/>
                      </a:lnTo>
                      <a:lnTo>
                        <a:pt x="25" y="416"/>
                      </a:lnTo>
                      <a:lnTo>
                        <a:pt x="20" y="405"/>
                      </a:lnTo>
                      <a:lnTo>
                        <a:pt x="16" y="393"/>
                      </a:lnTo>
                      <a:lnTo>
                        <a:pt x="15" y="381"/>
                      </a:lnTo>
                      <a:lnTo>
                        <a:pt x="12" y="368"/>
                      </a:lnTo>
                      <a:lnTo>
                        <a:pt x="11" y="356"/>
                      </a:lnTo>
                      <a:lnTo>
                        <a:pt x="10" y="343"/>
                      </a:lnTo>
                      <a:lnTo>
                        <a:pt x="9" y="332"/>
                      </a:lnTo>
                      <a:lnTo>
                        <a:pt x="6" y="318"/>
                      </a:lnTo>
                      <a:lnTo>
                        <a:pt x="5" y="305"/>
                      </a:lnTo>
                      <a:lnTo>
                        <a:pt x="4" y="292"/>
                      </a:lnTo>
                      <a:lnTo>
                        <a:pt x="4" y="279"/>
                      </a:lnTo>
                      <a:lnTo>
                        <a:pt x="3" y="265"/>
                      </a:lnTo>
                      <a:lnTo>
                        <a:pt x="3" y="252"/>
                      </a:lnTo>
                      <a:lnTo>
                        <a:pt x="2" y="240"/>
                      </a:lnTo>
                      <a:lnTo>
                        <a:pt x="0" y="228"/>
                      </a:lnTo>
                      <a:lnTo>
                        <a:pt x="0" y="212"/>
                      </a:lnTo>
                      <a:lnTo>
                        <a:pt x="2" y="197"/>
                      </a:lnTo>
                      <a:lnTo>
                        <a:pt x="4" y="182"/>
                      </a:lnTo>
                      <a:lnTo>
                        <a:pt x="8" y="169"/>
                      </a:lnTo>
                      <a:lnTo>
                        <a:pt x="11" y="156"/>
                      </a:lnTo>
                      <a:lnTo>
                        <a:pt x="18" y="143"/>
                      </a:lnTo>
                      <a:lnTo>
                        <a:pt x="23" y="130"/>
                      </a:lnTo>
                      <a:lnTo>
                        <a:pt x="31" y="117"/>
                      </a:lnTo>
                      <a:close/>
                    </a:path>
                  </a:pathLst>
                </a:custGeom>
                <a:solidFill>
                  <a:srgbClr val="bf8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45680" y="4782240"/>
                  <a:ext cx="24840" cy="59040"/>
                </a:xfrm>
                <a:custGeom>
                  <a:avLst/>
                  <a:gdLst/>
                  <a:ahLst/>
                  <a:rect l="l" t="t" r="r" b="b"/>
                  <a:pathLst>
                    <a:path w="99" h="226">
                      <a:moveTo>
                        <a:pt x="80" y="8"/>
                      </a:moveTo>
                      <a:lnTo>
                        <a:pt x="99" y="0"/>
                      </a:lnTo>
                      <a:lnTo>
                        <a:pt x="90" y="9"/>
                      </a:lnTo>
                      <a:lnTo>
                        <a:pt x="83" y="20"/>
                      </a:lnTo>
                      <a:lnTo>
                        <a:pt x="80" y="25"/>
                      </a:lnTo>
                      <a:lnTo>
                        <a:pt x="79" y="32"/>
                      </a:lnTo>
                      <a:lnTo>
                        <a:pt x="79" y="37"/>
                      </a:lnTo>
                      <a:lnTo>
                        <a:pt x="82" y="44"/>
                      </a:lnTo>
                      <a:lnTo>
                        <a:pt x="84" y="44"/>
                      </a:lnTo>
                      <a:lnTo>
                        <a:pt x="80" y="50"/>
                      </a:lnTo>
                      <a:lnTo>
                        <a:pt x="75" y="58"/>
                      </a:lnTo>
                      <a:lnTo>
                        <a:pt x="71" y="65"/>
                      </a:lnTo>
                      <a:lnTo>
                        <a:pt x="68" y="73"/>
                      </a:lnTo>
                      <a:lnTo>
                        <a:pt x="64" y="79"/>
                      </a:lnTo>
                      <a:lnTo>
                        <a:pt x="62" y="88"/>
                      </a:lnTo>
                      <a:lnTo>
                        <a:pt x="59" y="96"/>
                      </a:lnTo>
                      <a:lnTo>
                        <a:pt x="60" y="106"/>
                      </a:lnTo>
                      <a:lnTo>
                        <a:pt x="65" y="107"/>
                      </a:lnTo>
                      <a:lnTo>
                        <a:pt x="67" y="110"/>
                      </a:lnTo>
                      <a:lnTo>
                        <a:pt x="67" y="113"/>
                      </a:lnTo>
                      <a:lnTo>
                        <a:pt x="67" y="119"/>
                      </a:lnTo>
                      <a:lnTo>
                        <a:pt x="63" y="127"/>
                      </a:lnTo>
                      <a:lnTo>
                        <a:pt x="62" y="136"/>
                      </a:lnTo>
                      <a:lnTo>
                        <a:pt x="59" y="147"/>
                      </a:lnTo>
                      <a:lnTo>
                        <a:pt x="60" y="158"/>
                      </a:lnTo>
                      <a:lnTo>
                        <a:pt x="62" y="168"/>
                      </a:lnTo>
                      <a:lnTo>
                        <a:pt x="66" y="179"/>
                      </a:lnTo>
                      <a:lnTo>
                        <a:pt x="64" y="190"/>
                      </a:lnTo>
                      <a:lnTo>
                        <a:pt x="62" y="201"/>
                      </a:lnTo>
                      <a:lnTo>
                        <a:pt x="60" y="207"/>
                      </a:lnTo>
                      <a:lnTo>
                        <a:pt x="59" y="213"/>
                      </a:lnTo>
                      <a:lnTo>
                        <a:pt x="59" y="220"/>
                      </a:lnTo>
                      <a:lnTo>
                        <a:pt x="60" y="226"/>
                      </a:lnTo>
                      <a:lnTo>
                        <a:pt x="46" y="214"/>
                      </a:lnTo>
                      <a:lnTo>
                        <a:pt x="34" y="201"/>
                      </a:lnTo>
                      <a:lnTo>
                        <a:pt x="22" y="187"/>
                      </a:lnTo>
                      <a:lnTo>
                        <a:pt x="13" y="172"/>
                      </a:lnTo>
                      <a:lnTo>
                        <a:pt x="6" y="155"/>
                      </a:lnTo>
                      <a:lnTo>
                        <a:pt x="1" y="138"/>
                      </a:lnTo>
                      <a:lnTo>
                        <a:pt x="0" y="119"/>
                      </a:lnTo>
                      <a:lnTo>
                        <a:pt x="5" y="100"/>
                      </a:lnTo>
                      <a:lnTo>
                        <a:pt x="10" y="85"/>
                      </a:lnTo>
                      <a:lnTo>
                        <a:pt x="18" y="73"/>
                      </a:lnTo>
                      <a:lnTo>
                        <a:pt x="26" y="60"/>
                      </a:lnTo>
                      <a:lnTo>
                        <a:pt x="36" y="49"/>
                      </a:lnTo>
                      <a:lnTo>
                        <a:pt x="45" y="36"/>
                      </a:lnTo>
                      <a:lnTo>
                        <a:pt x="56" y="26"/>
                      </a:lnTo>
                      <a:lnTo>
                        <a:pt x="68" y="17"/>
                      </a:lnTo>
                      <a:lnTo>
                        <a:pt x="80" y="8"/>
                      </a:lnTo>
                      <a:close/>
                    </a:path>
                  </a:pathLst>
                </a:custGeom>
                <a:solidFill>
                  <a:srgbClr val="bf8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164040" y="4739040"/>
                  <a:ext cx="157320" cy="157320"/>
                </a:xfrm>
                <a:custGeom>
                  <a:avLst/>
                  <a:gdLst/>
                  <a:ahLst/>
                  <a:rect l="l" t="t" r="r" b="b"/>
                  <a:pathLst>
                    <a:path w="600" h="600">
                      <a:moveTo>
                        <a:pt x="6" y="326"/>
                      </a:moveTo>
                      <a:lnTo>
                        <a:pt x="3" y="316"/>
                      </a:lnTo>
                      <a:lnTo>
                        <a:pt x="3" y="307"/>
                      </a:lnTo>
                      <a:lnTo>
                        <a:pt x="4" y="299"/>
                      </a:lnTo>
                      <a:lnTo>
                        <a:pt x="7" y="291"/>
                      </a:lnTo>
                      <a:lnTo>
                        <a:pt x="9" y="283"/>
                      </a:lnTo>
                      <a:lnTo>
                        <a:pt x="12" y="275"/>
                      </a:lnTo>
                      <a:lnTo>
                        <a:pt x="15" y="267"/>
                      </a:lnTo>
                      <a:lnTo>
                        <a:pt x="19" y="259"/>
                      </a:lnTo>
                      <a:lnTo>
                        <a:pt x="12" y="255"/>
                      </a:lnTo>
                      <a:lnTo>
                        <a:pt x="7" y="255"/>
                      </a:lnTo>
                      <a:lnTo>
                        <a:pt x="6" y="257"/>
                      </a:lnTo>
                      <a:lnTo>
                        <a:pt x="7" y="247"/>
                      </a:lnTo>
                      <a:lnTo>
                        <a:pt x="10" y="239"/>
                      </a:lnTo>
                      <a:lnTo>
                        <a:pt x="13" y="231"/>
                      </a:lnTo>
                      <a:lnTo>
                        <a:pt x="18" y="224"/>
                      </a:lnTo>
                      <a:lnTo>
                        <a:pt x="22" y="216"/>
                      </a:lnTo>
                      <a:lnTo>
                        <a:pt x="27" y="209"/>
                      </a:lnTo>
                      <a:lnTo>
                        <a:pt x="31" y="201"/>
                      </a:lnTo>
                      <a:lnTo>
                        <a:pt x="36" y="194"/>
                      </a:lnTo>
                      <a:lnTo>
                        <a:pt x="31" y="189"/>
                      </a:lnTo>
                      <a:lnTo>
                        <a:pt x="26" y="189"/>
                      </a:lnTo>
                      <a:lnTo>
                        <a:pt x="31" y="179"/>
                      </a:lnTo>
                      <a:lnTo>
                        <a:pt x="41" y="169"/>
                      </a:lnTo>
                      <a:lnTo>
                        <a:pt x="51" y="158"/>
                      </a:lnTo>
                      <a:lnTo>
                        <a:pt x="60" y="149"/>
                      </a:lnTo>
                      <a:lnTo>
                        <a:pt x="57" y="143"/>
                      </a:lnTo>
                      <a:lnTo>
                        <a:pt x="53" y="140"/>
                      </a:lnTo>
                      <a:lnTo>
                        <a:pt x="62" y="132"/>
                      </a:lnTo>
                      <a:lnTo>
                        <a:pt x="72" y="127"/>
                      </a:lnTo>
                      <a:lnTo>
                        <a:pt x="77" y="123"/>
                      </a:lnTo>
                      <a:lnTo>
                        <a:pt x="81" y="120"/>
                      </a:lnTo>
                      <a:lnTo>
                        <a:pt x="83" y="114"/>
                      </a:lnTo>
                      <a:lnTo>
                        <a:pt x="85" y="109"/>
                      </a:lnTo>
                      <a:lnTo>
                        <a:pt x="75" y="101"/>
                      </a:lnTo>
                      <a:lnTo>
                        <a:pt x="87" y="92"/>
                      </a:lnTo>
                      <a:lnTo>
                        <a:pt x="99" y="83"/>
                      </a:lnTo>
                      <a:lnTo>
                        <a:pt x="111" y="73"/>
                      </a:lnTo>
                      <a:lnTo>
                        <a:pt x="123" y="65"/>
                      </a:lnTo>
                      <a:lnTo>
                        <a:pt x="133" y="55"/>
                      </a:lnTo>
                      <a:lnTo>
                        <a:pt x="146" y="46"/>
                      </a:lnTo>
                      <a:lnTo>
                        <a:pt x="158" y="36"/>
                      </a:lnTo>
                      <a:lnTo>
                        <a:pt x="171" y="29"/>
                      </a:lnTo>
                      <a:lnTo>
                        <a:pt x="173" y="34"/>
                      </a:lnTo>
                      <a:lnTo>
                        <a:pt x="177" y="38"/>
                      </a:lnTo>
                      <a:lnTo>
                        <a:pt x="223" y="19"/>
                      </a:lnTo>
                      <a:lnTo>
                        <a:pt x="227" y="24"/>
                      </a:lnTo>
                      <a:lnTo>
                        <a:pt x="232" y="26"/>
                      </a:lnTo>
                      <a:lnTo>
                        <a:pt x="237" y="24"/>
                      </a:lnTo>
                      <a:lnTo>
                        <a:pt x="244" y="22"/>
                      </a:lnTo>
                      <a:lnTo>
                        <a:pt x="250" y="17"/>
                      </a:lnTo>
                      <a:lnTo>
                        <a:pt x="258" y="13"/>
                      </a:lnTo>
                      <a:lnTo>
                        <a:pt x="264" y="9"/>
                      </a:lnTo>
                      <a:lnTo>
                        <a:pt x="272" y="9"/>
                      </a:lnTo>
                      <a:lnTo>
                        <a:pt x="281" y="6"/>
                      </a:lnTo>
                      <a:lnTo>
                        <a:pt x="293" y="7"/>
                      </a:lnTo>
                      <a:lnTo>
                        <a:pt x="303" y="11"/>
                      </a:lnTo>
                      <a:lnTo>
                        <a:pt x="314" y="8"/>
                      </a:lnTo>
                      <a:lnTo>
                        <a:pt x="319" y="5"/>
                      </a:lnTo>
                      <a:lnTo>
                        <a:pt x="324" y="3"/>
                      </a:lnTo>
                      <a:lnTo>
                        <a:pt x="331" y="0"/>
                      </a:lnTo>
                      <a:lnTo>
                        <a:pt x="338" y="3"/>
                      </a:lnTo>
                      <a:lnTo>
                        <a:pt x="338" y="8"/>
                      </a:lnTo>
                      <a:lnTo>
                        <a:pt x="345" y="12"/>
                      </a:lnTo>
                      <a:lnTo>
                        <a:pt x="351" y="8"/>
                      </a:lnTo>
                      <a:lnTo>
                        <a:pt x="358" y="6"/>
                      </a:lnTo>
                      <a:lnTo>
                        <a:pt x="365" y="5"/>
                      </a:lnTo>
                      <a:lnTo>
                        <a:pt x="373" y="6"/>
                      </a:lnTo>
                      <a:lnTo>
                        <a:pt x="380" y="6"/>
                      </a:lnTo>
                      <a:lnTo>
                        <a:pt x="388" y="9"/>
                      </a:lnTo>
                      <a:lnTo>
                        <a:pt x="394" y="12"/>
                      </a:lnTo>
                      <a:lnTo>
                        <a:pt x="401" y="15"/>
                      </a:lnTo>
                      <a:lnTo>
                        <a:pt x="409" y="13"/>
                      </a:lnTo>
                      <a:lnTo>
                        <a:pt x="419" y="13"/>
                      </a:lnTo>
                      <a:lnTo>
                        <a:pt x="427" y="14"/>
                      </a:lnTo>
                      <a:lnTo>
                        <a:pt x="435" y="19"/>
                      </a:lnTo>
                      <a:lnTo>
                        <a:pt x="438" y="21"/>
                      </a:lnTo>
                      <a:lnTo>
                        <a:pt x="443" y="23"/>
                      </a:lnTo>
                      <a:lnTo>
                        <a:pt x="449" y="24"/>
                      </a:lnTo>
                      <a:lnTo>
                        <a:pt x="455" y="25"/>
                      </a:lnTo>
                      <a:lnTo>
                        <a:pt x="460" y="25"/>
                      </a:lnTo>
                      <a:lnTo>
                        <a:pt x="467" y="26"/>
                      </a:lnTo>
                      <a:lnTo>
                        <a:pt x="472" y="27"/>
                      </a:lnTo>
                      <a:lnTo>
                        <a:pt x="479" y="31"/>
                      </a:lnTo>
                      <a:lnTo>
                        <a:pt x="490" y="36"/>
                      </a:lnTo>
                      <a:lnTo>
                        <a:pt x="502" y="42"/>
                      </a:lnTo>
                      <a:lnTo>
                        <a:pt x="513" y="50"/>
                      </a:lnTo>
                      <a:lnTo>
                        <a:pt x="524" y="59"/>
                      </a:lnTo>
                      <a:lnTo>
                        <a:pt x="533" y="69"/>
                      </a:lnTo>
                      <a:lnTo>
                        <a:pt x="543" y="80"/>
                      </a:lnTo>
                      <a:lnTo>
                        <a:pt x="552" y="91"/>
                      </a:lnTo>
                      <a:lnTo>
                        <a:pt x="560" y="102"/>
                      </a:lnTo>
                      <a:lnTo>
                        <a:pt x="562" y="112"/>
                      </a:lnTo>
                      <a:lnTo>
                        <a:pt x="569" y="123"/>
                      </a:lnTo>
                      <a:lnTo>
                        <a:pt x="575" y="131"/>
                      </a:lnTo>
                      <a:lnTo>
                        <a:pt x="575" y="141"/>
                      </a:lnTo>
                      <a:lnTo>
                        <a:pt x="592" y="179"/>
                      </a:lnTo>
                      <a:lnTo>
                        <a:pt x="589" y="183"/>
                      </a:lnTo>
                      <a:lnTo>
                        <a:pt x="589" y="189"/>
                      </a:lnTo>
                      <a:lnTo>
                        <a:pt x="590" y="196"/>
                      </a:lnTo>
                      <a:lnTo>
                        <a:pt x="593" y="202"/>
                      </a:lnTo>
                      <a:lnTo>
                        <a:pt x="595" y="209"/>
                      </a:lnTo>
                      <a:lnTo>
                        <a:pt x="596" y="215"/>
                      </a:lnTo>
                      <a:lnTo>
                        <a:pt x="595" y="222"/>
                      </a:lnTo>
                      <a:lnTo>
                        <a:pt x="592" y="228"/>
                      </a:lnTo>
                      <a:lnTo>
                        <a:pt x="596" y="234"/>
                      </a:lnTo>
                      <a:lnTo>
                        <a:pt x="596" y="242"/>
                      </a:lnTo>
                      <a:lnTo>
                        <a:pt x="593" y="249"/>
                      </a:lnTo>
                      <a:lnTo>
                        <a:pt x="591" y="257"/>
                      </a:lnTo>
                      <a:lnTo>
                        <a:pt x="588" y="263"/>
                      </a:lnTo>
                      <a:lnTo>
                        <a:pt x="589" y="270"/>
                      </a:lnTo>
                      <a:lnTo>
                        <a:pt x="591" y="276"/>
                      </a:lnTo>
                      <a:lnTo>
                        <a:pt x="600" y="284"/>
                      </a:lnTo>
                      <a:lnTo>
                        <a:pt x="597" y="287"/>
                      </a:lnTo>
                      <a:lnTo>
                        <a:pt x="595" y="293"/>
                      </a:lnTo>
                      <a:lnTo>
                        <a:pt x="592" y="300"/>
                      </a:lnTo>
                      <a:lnTo>
                        <a:pt x="590" y="306"/>
                      </a:lnTo>
                      <a:lnTo>
                        <a:pt x="588" y="312"/>
                      </a:lnTo>
                      <a:lnTo>
                        <a:pt x="587" y="318"/>
                      </a:lnTo>
                      <a:lnTo>
                        <a:pt x="587" y="325"/>
                      </a:lnTo>
                      <a:lnTo>
                        <a:pt x="587" y="331"/>
                      </a:lnTo>
                      <a:lnTo>
                        <a:pt x="582" y="334"/>
                      </a:lnTo>
                      <a:lnTo>
                        <a:pt x="580" y="341"/>
                      </a:lnTo>
                      <a:lnTo>
                        <a:pt x="577" y="347"/>
                      </a:lnTo>
                      <a:lnTo>
                        <a:pt x="576" y="354"/>
                      </a:lnTo>
                      <a:lnTo>
                        <a:pt x="573" y="359"/>
                      </a:lnTo>
                      <a:lnTo>
                        <a:pt x="571" y="364"/>
                      </a:lnTo>
                      <a:lnTo>
                        <a:pt x="567" y="370"/>
                      </a:lnTo>
                      <a:lnTo>
                        <a:pt x="562" y="376"/>
                      </a:lnTo>
                      <a:lnTo>
                        <a:pt x="564" y="387"/>
                      </a:lnTo>
                      <a:lnTo>
                        <a:pt x="557" y="395"/>
                      </a:lnTo>
                      <a:lnTo>
                        <a:pt x="551" y="405"/>
                      </a:lnTo>
                      <a:lnTo>
                        <a:pt x="544" y="415"/>
                      </a:lnTo>
                      <a:lnTo>
                        <a:pt x="539" y="424"/>
                      </a:lnTo>
                      <a:lnTo>
                        <a:pt x="536" y="415"/>
                      </a:lnTo>
                      <a:lnTo>
                        <a:pt x="534" y="406"/>
                      </a:lnTo>
                      <a:lnTo>
                        <a:pt x="532" y="395"/>
                      </a:lnTo>
                      <a:lnTo>
                        <a:pt x="527" y="388"/>
                      </a:lnTo>
                      <a:lnTo>
                        <a:pt x="523" y="378"/>
                      </a:lnTo>
                      <a:lnTo>
                        <a:pt x="519" y="370"/>
                      </a:lnTo>
                      <a:lnTo>
                        <a:pt x="515" y="360"/>
                      </a:lnTo>
                      <a:lnTo>
                        <a:pt x="512" y="351"/>
                      </a:lnTo>
                      <a:lnTo>
                        <a:pt x="509" y="341"/>
                      </a:lnTo>
                      <a:lnTo>
                        <a:pt x="507" y="331"/>
                      </a:lnTo>
                      <a:lnTo>
                        <a:pt x="504" y="320"/>
                      </a:lnTo>
                      <a:lnTo>
                        <a:pt x="506" y="311"/>
                      </a:lnTo>
                      <a:lnTo>
                        <a:pt x="508" y="312"/>
                      </a:lnTo>
                      <a:lnTo>
                        <a:pt x="510" y="312"/>
                      </a:lnTo>
                      <a:lnTo>
                        <a:pt x="513" y="301"/>
                      </a:lnTo>
                      <a:lnTo>
                        <a:pt x="514" y="291"/>
                      </a:lnTo>
                      <a:lnTo>
                        <a:pt x="513" y="281"/>
                      </a:lnTo>
                      <a:lnTo>
                        <a:pt x="512" y="270"/>
                      </a:lnTo>
                      <a:lnTo>
                        <a:pt x="506" y="256"/>
                      </a:lnTo>
                      <a:lnTo>
                        <a:pt x="497" y="245"/>
                      </a:lnTo>
                      <a:lnTo>
                        <a:pt x="486" y="235"/>
                      </a:lnTo>
                      <a:lnTo>
                        <a:pt x="475" y="229"/>
                      </a:lnTo>
                      <a:lnTo>
                        <a:pt x="463" y="222"/>
                      </a:lnTo>
                      <a:lnTo>
                        <a:pt x="451" y="214"/>
                      </a:lnTo>
                      <a:lnTo>
                        <a:pt x="439" y="207"/>
                      </a:lnTo>
                      <a:lnTo>
                        <a:pt x="429" y="198"/>
                      </a:lnTo>
                      <a:lnTo>
                        <a:pt x="430" y="198"/>
                      </a:lnTo>
                      <a:lnTo>
                        <a:pt x="433" y="197"/>
                      </a:lnTo>
                      <a:lnTo>
                        <a:pt x="415" y="188"/>
                      </a:lnTo>
                      <a:lnTo>
                        <a:pt x="399" y="184"/>
                      </a:lnTo>
                      <a:lnTo>
                        <a:pt x="381" y="180"/>
                      </a:lnTo>
                      <a:lnTo>
                        <a:pt x="364" y="178"/>
                      </a:lnTo>
                      <a:lnTo>
                        <a:pt x="345" y="175"/>
                      </a:lnTo>
                      <a:lnTo>
                        <a:pt x="327" y="175"/>
                      </a:lnTo>
                      <a:lnTo>
                        <a:pt x="310" y="175"/>
                      </a:lnTo>
                      <a:lnTo>
                        <a:pt x="295" y="175"/>
                      </a:lnTo>
                      <a:lnTo>
                        <a:pt x="303" y="169"/>
                      </a:lnTo>
                      <a:lnTo>
                        <a:pt x="293" y="169"/>
                      </a:lnTo>
                      <a:lnTo>
                        <a:pt x="286" y="173"/>
                      </a:lnTo>
                      <a:lnTo>
                        <a:pt x="279" y="178"/>
                      </a:lnTo>
                      <a:lnTo>
                        <a:pt x="273" y="182"/>
                      </a:lnTo>
                      <a:lnTo>
                        <a:pt x="246" y="187"/>
                      </a:lnTo>
                      <a:lnTo>
                        <a:pt x="223" y="199"/>
                      </a:lnTo>
                      <a:lnTo>
                        <a:pt x="203" y="214"/>
                      </a:lnTo>
                      <a:lnTo>
                        <a:pt x="186" y="233"/>
                      </a:lnTo>
                      <a:lnTo>
                        <a:pt x="170" y="254"/>
                      </a:lnTo>
                      <a:lnTo>
                        <a:pt x="157" y="276"/>
                      </a:lnTo>
                      <a:lnTo>
                        <a:pt x="146" y="300"/>
                      </a:lnTo>
                      <a:lnTo>
                        <a:pt x="140" y="325"/>
                      </a:lnTo>
                      <a:lnTo>
                        <a:pt x="138" y="329"/>
                      </a:lnTo>
                      <a:lnTo>
                        <a:pt x="138" y="335"/>
                      </a:lnTo>
                      <a:lnTo>
                        <a:pt x="137" y="342"/>
                      </a:lnTo>
                      <a:lnTo>
                        <a:pt x="137" y="348"/>
                      </a:lnTo>
                      <a:lnTo>
                        <a:pt x="134" y="354"/>
                      </a:lnTo>
                      <a:lnTo>
                        <a:pt x="132" y="360"/>
                      </a:lnTo>
                      <a:lnTo>
                        <a:pt x="129" y="364"/>
                      </a:lnTo>
                      <a:lnTo>
                        <a:pt x="126" y="369"/>
                      </a:lnTo>
                      <a:lnTo>
                        <a:pt x="129" y="376"/>
                      </a:lnTo>
                      <a:lnTo>
                        <a:pt x="131" y="386"/>
                      </a:lnTo>
                      <a:lnTo>
                        <a:pt x="131" y="395"/>
                      </a:lnTo>
                      <a:lnTo>
                        <a:pt x="131" y="406"/>
                      </a:lnTo>
                      <a:lnTo>
                        <a:pt x="130" y="416"/>
                      </a:lnTo>
                      <a:lnTo>
                        <a:pt x="130" y="428"/>
                      </a:lnTo>
                      <a:lnTo>
                        <a:pt x="131" y="437"/>
                      </a:lnTo>
                      <a:lnTo>
                        <a:pt x="137" y="449"/>
                      </a:lnTo>
                      <a:lnTo>
                        <a:pt x="141" y="460"/>
                      </a:lnTo>
                      <a:lnTo>
                        <a:pt x="145" y="473"/>
                      </a:lnTo>
                      <a:lnTo>
                        <a:pt x="147" y="486"/>
                      </a:lnTo>
                      <a:lnTo>
                        <a:pt x="151" y="499"/>
                      </a:lnTo>
                      <a:lnTo>
                        <a:pt x="153" y="512"/>
                      </a:lnTo>
                      <a:lnTo>
                        <a:pt x="157" y="526"/>
                      </a:lnTo>
                      <a:lnTo>
                        <a:pt x="162" y="538"/>
                      </a:lnTo>
                      <a:lnTo>
                        <a:pt x="171" y="551"/>
                      </a:lnTo>
                      <a:lnTo>
                        <a:pt x="175" y="557"/>
                      </a:lnTo>
                      <a:lnTo>
                        <a:pt x="179" y="564"/>
                      </a:lnTo>
                      <a:lnTo>
                        <a:pt x="184" y="570"/>
                      </a:lnTo>
                      <a:lnTo>
                        <a:pt x="190" y="577"/>
                      </a:lnTo>
                      <a:lnTo>
                        <a:pt x="194" y="582"/>
                      </a:lnTo>
                      <a:lnTo>
                        <a:pt x="200" y="589"/>
                      </a:lnTo>
                      <a:lnTo>
                        <a:pt x="206" y="594"/>
                      </a:lnTo>
                      <a:lnTo>
                        <a:pt x="214" y="599"/>
                      </a:lnTo>
                      <a:lnTo>
                        <a:pt x="203" y="600"/>
                      </a:lnTo>
                      <a:lnTo>
                        <a:pt x="193" y="600"/>
                      </a:lnTo>
                      <a:lnTo>
                        <a:pt x="184" y="599"/>
                      </a:lnTo>
                      <a:lnTo>
                        <a:pt x="175" y="597"/>
                      </a:lnTo>
                      <a:lnTo>
                        <a:pt x="166" y="593"/>
                      </a:lnTo>
                      <a:lnTo>
                        <a:pt x="157" y="590"/>
                      </a:lnTo>
                      <a:lnTo>
                        <a:pt x="148" y="585"/>
                      </a:lnTo>
                      <a:lnTo>
                        <a:pt x="142" y="582"/>
                      </a:lnTo>
                      <a:lnTo>
                        <a:pt x="134" y="570"/>
                      </a:lnTo>
                      <a:lnTo>
                        <a:pt x="127" y="561"/>
                      </a:lnTo>
                      <a:lnTo>
                        <a:pt x="117" y="552"/>
                      </a:lnTo>
                      <a:lnTo>
                        <a:pt x="108" y="550"/>
                      </a:lnTo>
                      <a:lnTo>
                        <a:pt x="104" y="554"/>
                      </a:lnTo>
                      <a:lnTo>
                        <a:pt x="99" y="547"/>
                      </a:lnTo>
                      <a:lnTo>
                        <a:pt x="94" y="541"/>
                      </a:lnTo>
                      <a:lnTo>
                        <a:pt x="87" y="536"/>
                      </a:lnTo>
                      <a:lnTo>
                        <a:pt x="81" y="533"/>
                      </a:lnTo>
                      <a:lnTo>
                        <a:pt x="73" y="528"/>
                      </a:lnTo>
                      <a:lnTo>
                        <a:pt x="67" y="524"/>
                      </a:lnTo>
                      <a:lnTo>
                        <a:pt x="60" y="519"/>
                      </a:lnTo>
                      <a:lnTo>
                        <a:pt x="55" y="513"/>
                      </a:lnTo>
                      <a:lnTo>
                        <a:pt x="49" y="511"/>
                      </a:lnTo>
                      <a:lnTo>
                        <a:pt x="45" y="508"/>
                      </a:lnTo>
                      <a:lnTo>
                        <a:pt x="42" y="504"/>
                      </a:lnTo>
                      <a:lnTo>
                        <a:pt x="40" y="501"/>
                      </a:lnTo>
                      <a:lnTo>
                        <a:pt x="38" y="493"/>
                      </a:lnTo>
                      <a:lnTo>
                        <a:pt x="38" y="487"/>
                      </a:lnTo>
                      <a:lnTo>
                        <a:pt x="36" y="480"/>
                      </a:lnTo>
                      <a:lnTo>
                        <a:pt x="33" y="478"/>
                      </a:lnTo>
                      <a:lnTo>
                        <a:pt x="29" y="472"/>
                      </a:lnTo>
                      <a:lnTo>
                        <a:pt x="28" y="465"/>
                      </a:lnTo>
                      <a:lnTo>
                        <a:pt x="27" y="459"/>
                      </a:lnTo>
                      <a:lnTo>
                        <a:pt x="27" y="452"/>
                      </a:lnTo>
                      <a:lnTo>
                        <a:pt x="25" y="446"/>
                      </a:lnTo>
                      <a:lnTo>
                        <a:pt x="23" y="440"/>
                      </a:lnTo>
                      <a:lnTo>
                        <a:pt x="19" y="436"/>
                      </a:lnTo>
                      <a:lnTo>
                        <a:pt x="13" y="434"/>
                      </a:lnTo>
                      <a:lnTo>
                        <a:pt x="13" y="427"/>
                      </a:lnTo>
                      <a:lnTo>
                        <a:pt x="13" y="420"/>
                      </a:lnTo>
                      <a:lnTo>
                        <a:pt x="13" y="414"/>
                      </a:lnTo>
                      <a:lnTo>
                        <a:pt x="13" y="407"/>
                      </a:lnTo>
                      <a:lnTo>
                        <a:pt x="12" y="401"/>
                      </a:lnTo>
                      <a:lnTo>
                        <a:pt x="10" y="395"/>
                      </a:lnTo>
                      <a:lnTo>
                        <a:pt x="6" y="391"/>
                      </a:lnTo>
                      <a:lnTo>
                        <a:pt x="1" y="388"/>
                      </a:lnTo>
                      <a:lnTo>
                        <a:pt x="0" y="378"/>
                      </a:lnTo>
                      <a:lnTo>
                        <a:pt x="1" y="371"/>
                      </a:lnTo>
                      <a:lnTo>
                        <a:pt x="4" y="362"/>
                      </a:lnTo>
                      <a:lnTo>
                        <a:pt x="7" y="355"/>
                      </a:lnTo>
                      <a:lnTo>
                        <a:pt x="8" y="347"/>
                      </a:lnTo>
                      <a:lnTo>
                        <a:pt x="9" y="340"/>
                      </a:lnTo>
                      <a:lnTo>
                        <a:pt x="9" y="332"/>
                      </a:lnTo>
                      <a:lnTo>
                        <a:pt x="6" y="326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193200" y="4891320"/>
                  <a:ext cx="82440" cy="34200"/>
                </a:xfrm>
                <a:custGeom>
                  <a:avLst/>
                  <a:gdLst/>
                  <a:ahLst/>
                  <a:rect l="l" t="t" r="r" b="b"/>
                  <a:pathLst>
                    <a:path w="316" h="131">
                      <a:moveTo>
                        <a:pt x="4" y="0"/>
                      </a:moveTo>
                      <a:lnTo>
                        <a:pt x="17" y="10"/>
                      </a:lnTo>
                      <a:lnTo>
                        <a:pt x="31" y="19"/>
                      </a:lnTo>
                      <a:lnTo>
                        <a:pt x="46" y="27"/>
                      </a:lnTo>
                      <a:lnTo>
                        <a:pt x="62" y="34"/>
                      </a:lnTo>
                      <a:lnTo>
                        <a:pt x="77" y="39"/>
                      </a:lnTo>
                      <a:lnTo>
                        <a:pt x="94" y="42"/>
                      </a:lnTo>
                      <a:lnTo>
                        <a:pt x="110" y="41"/>
                      </a:lnTo>
                      <a:lnTo>
                        <a:pt x="129" y="36"/>
                      </a:lnTo>
                      <a:lnTo>
                        <a:pt x="138" y="39"/>
                      </a:lnTo>
                      <a:lnTo>
                        <a:pt x="149" y="42"/>
                      </a:lnTo>
                      <a:lnTo>
                        <a:pt x="158" y="44"/>
                      </a:lnTo>
                      <a:lnTo>
                        <a:pt x="170" y="45"/>
                      </a:lnTo>
                      <a:lnTo>
                        <a:pt x="180" y="44"/>
                      </a:lnTo>
                      <a:lnTo>
                        <a:pt x="191" y="44"/>
                      </a:lnTo>
                      <a:lnTo>
                        <a:pt x="200" y="43"/>
                      </a:lnTo>
                      <a:lnTo>
                        <a:pt x="211" y="41"/>
                      </a:lnTo>
                      <a:lnTo>
                        <a:pt x="221" y="44"/>
                      </a:lnTo>
                      <a:lnTo>
                        <a:pt x="232" y="47"/>
                      </a:lnTo>
                      <a:lnTo>
                        <a:pt x="244" y="49"/>
                      </a:lnTo>
                      <a:lnTo>
                        <a:pt x="256" y="50"/>
                      </a:lnTo>
                      <a:lnTo>
                        <a:pt x="267" y="49"/>
                      </a:lnTo>
                      <a:lnTo>
                        <a:pt x="278" y="47"/>
                      </a:lnTo>
                      <a:lnTo>
                        <a:pt x="289" y="44"/>
                      </a:lnTo>
                      <a:lnTo>
                        <a:pt x="301" y="40"/>
                      </a:lnTo>
                      <a:lnTo>
                        <a:pt x="304" y="47"/>
                      </a:lnTo>
                      <a:lnTo>
                        <a:pt x="308" y="55"/>
                      </a:lnTo>
                      <a:lnTo>
                        <a:pt x="311" y="61"/>
                      </a:lnTo>
                      <a:lnTo>
                        <a:pt x="314" y="70"/>
                      </a:lnTo>
                      <a:lnTo>
                        <a:pt x="315" y="76"/>
                      </a:lnTo>
                      <a:lnTo>
                        <a:pt x="316" y="86"/>
                      </a:lnTo>
                      <a:lnTo>
                        <a:pt x="316" y="94"/>
                      </a:lnTo>
                      <a:lnTo>
                        <a:pt x="315" y="105"/>
                      </a:lnTo>
                      <a:lnTo>
                        <a:pt x="311" y="112"/>
                      </a:lnTo>
                      <a:lnTo>
                        <a:pt x="307" y="115"/>
                      </a:lnTo>
                      <a:lnTo>
                        <a:pt x="302" y="115"/>
                      </a:lnTo>
                      <a:lnTo>
                        <a:pt x="298" y="116"/>
                      </a:lnTo>
                      <a:lnTo>
                        <a:pt x="292" y="115"/>
                      </a:lnTo>
                      <a:lnTo>
                        <a:pt x="288" y="116"/>
                      </a:lnTo>
                      <a:lnTo>
                        <a:pt x="284" y="119"/>
                      </a:lnTo>
                      <a:lnTo>
                        <a:pt x="282" y="125"/>
                      </a:lnTo>
                      <a:lnTo>
                        <a:pt x="273" y="122"/>
                      </a:lnTo>
                      <a:lnTo>
                        <a:pt x="266" y="122"/>
                      </a:lnTo>
                      <a:lnTo>
                        <a:pt x="257" y="123"/>
                      </a:lnTo>
                      <a:lnTo>
                        <a:pt x="250" y="127"/>
                      </a:lnTo>
                      <a:lnTo>
                        <a:pt x="241" y="128"/>
                      </a:lnTo>
                      <a:lnTo>
                        <a:pt x="233" y="129"/>
                      </a:lnTo>
                      <a:lnTo>
                        <a:pt x="225" y="128"/>
                      </a:lnTo>
                      <a:lnTo>
                        <a:pt x="217" y="125"/>
                      </a:lnTo>
                      <a:lnTo>
                        <a:pt x="212" y="128"/>
                      </a:lnTo>
                      <a:lnTo>
                        <a:pt x="207" y="130"/>
                      </a:lnTo>
                      <a:lnTo>
                        <a:pt x="201" y="130"/>
                      </a:lnTo>
                      <a:lnTo>
                        <a:pt x="196" y="131"/>
                      </a:lnTo>
                      <a:lnTo>
                        <a:pt x="188" y="125"/>
                      </a:lnTo>
                      <a:lnTo>
                        <a:pt x="181" y="123"/>
                      </a:lnTo>
                      <a:lnTo>
                        <a:pt x="172" y="122"/>
                      </a:lnTo>
                      <a:lnTo>
                        <a:pt x="165" y="122"/>
                      </a:lnTo>
                      <a:lnTo>
                        <a:pt x="156" y="121"/>
                      </a:lnTo>
                      <a:lnTo>
                        <a:pt x="149" y="121"/>
                      </a:lnTo>
                      <a:lnTo>
                        <a:pt x="141" y="119"/>
                      </a:lnTo>
                      <a:lnTo>
                        <a:pt x="135" y="115"/>
                      </a:lnTo>
                      <a:lnTo>
                        <a:pt x="119" y="115"/>
                      </a:lnTo>
                      <a:lnTo>
                        <a:pt x="104" y="113"/>
                      </a:lnTo>
                      <a:lnTo>
                        <a:pt x="89" y="109"/>
                      </a:lnTo>
                      <a:lnTo>
                        <a:pt x="76" y="105"/>
                      </a:lnTo>
                      <a:lnTo>
                        <a:pt x="63" y="98"/>
                      </a:lnTo>
                      <a:lnTo>
                        <a:pt x="50" y="90"/>
                      </a:lnTo>
                      <a:lnTo>
                        <a:pt x="38" y="81"/>
                      </a:lnTo>
                      <a:lnTo>
                        <a:pt x="28" y="73"/>
                      </a:lnTo>
                      <a:lnTo>
                        <a:pt x="0" y="31"/>
                      </a:lnTo>
                      <a:lnTo>
                        <a:pt x="3" y="24"/>
                      </a:lnTo>
                      <a:lnTo>
                        <a:pt x="3" y="16"/>
                      </a:lnTo>
                      <a:lnTo>
                        <a:pt x="2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206160" y="4806000"/>
                  <a:ext cx="89280" cy="91800"/>
                </a:xfrm>
                <a:custGeom>
                  <a:avLst/>
                  <a:gdLst/>
                  <a:ahLst/>
                  <a:rect l="l" t="t" r="r" b="b"/>
                  <a:pathLst>
                    <a:path w="341" h="350">
                      <a:moveTo>
                        <a:pt x="13" y="111"/>
                      </a:moveTo>
                      <a:lnTo>
                        <a:pt x="17" y="102"/>
                      </a:lnTo>
                      <a:lnTo>
                        <a:pt x="19" y="93"/>
                      </a:lnTo>
                      <a:lnTo>
                        <a:pt x="24" y="91"/>
                      </a:lnTo>
                      <a:lnTo>
                        <a:pt x="29" y="88"/>
                      </a:lnTo>
                      <a:lnTo>
                        <a:pt x="29" y="82"/>
                      </a:lnTo>
                      <a:lnTo>
                        <a:pt x="37" y="84"/>
                      </a:lnTo>
                      <a:lnTo>
                        <a:pt x="38" y="77"/>
                      </a:lnTo>
                      <a:lnTo>
                        <a:pt x="39" y="72"/>
                      </a:lnTo>
                      <a:lnTo>
                        <a:pt x="40" y="66"/>
                      </a:lnTo>
                      <a:lnTo>
                        <a:pt x="44" y="63"/>
                      </a:lnTo>
                      <a:lnTo>
                        <a:pt x="52" y="63"/>
                      </a:lnTo>
                      <a:lnTo>
                        <a:pt x="57" y="57"/>
                      </a:lnTo>
                      <a:lnTo>
                        <a:pt x="57" y="51"/>
                      </a:lnTo>
                      <a:lnTo>
                        <a:pt x="60" y="45"/>
                      </a:lnTo>
                      <a:lnTo>
                        <a:pt x="66" y="37"/>
                      </a:lnTo>
                      <a:lnTo>
                        <a:pt x="71" y="34"/>
                      </a:lnTo>
                      <a:lnTo>
                        <a:pt x="72" y="37"/>
                      </a:lnTo>
                      <a:lnTo>
                        <a:pt x="76" y="42"/>
                      </a:lnTo>
                      <a:lnTo>
                        <a:pt x="81" y="36"/>
                      </a:lnTo>
                      <a:lnTo>
                        <a:pt x="82" y="31"/>
                      </a:lnTo>
                      <a:lnTo>
                        <a:pt x="82" y="24"/>
                      </a:lnTo>
                      <a:lnTo>
                        <a:pt x="88" y="22"/>
                      </a:lnTo>
                      <a:lnTo>
                        <a:pt x="90" y="24"/>
                      </a:lnTo>
                      <a:lnTo>
                        <a:pt x="93" y="24"/>
                      </a:lnTo>
                      <a:lnTo>
                        <a:pt x="100" y="17"/>
                      </a:lnTo>
                      <a:lnTo>
                        <a:pt x="101" y="21"/>
                      </a:lnTo>
                      <a:lnTo>
                        <a:pt x="105" y="26"/>
                      </a:lnTo>
                      <a:lnTo>
                        <a:pt x="109" y="22"/>
                      </a:lnTo>
                      <a:lnTo>
                        <a:pt x="116" y="19"/>
                      </a:lnTo>
                      <a:lnTo>
                        <a:pt x="122" y="16"/>
                      </a:lnTo>
                      <a:lnTo>
                        <a:pt x="129" y="14"/>
                      </a:lnTo>
                      <a:lnTo>
                        <a:pt x="134" y="9"/>
                      </a:lnTo>
                      <a:lnTo>
                        <a:pt x="140" y="6"/>
                      </a:lnTo>
                      <a:lnTo>
                        <a:pt x="144" y="3"/>
                      </a:lnTo>
                      <a:lnTo>
                        <a:pt x="148" y="0"/>
                      </a:lnTo>
                      <a:lnTo>
                        <a:pt x="152" y="11"/>
                      </a:lnTo>
                      <a:lnTo>
                        <a:pt x="161" y="8"/>
                      </a:lnTo>
                      <a:lnTo>
                        <a:pt x="171" y="7"/>
                      </a:lnTo>
                      <a:lnTo>
                        <a:pt x="180" y="6"/>
                      </a:lnTo>
                      <a:lnTo>
                        <a:pt x="190" y="6"/>
                      </a:lnTo>
                      <a:lnTo>
                        <a:pt x="200" y="6"/>
                      </a:lnTo>
                      <a:lnTo>
                        <a:pt x="209" y="8"/>
                      </a:lnTo>
                      <a:lnTo>
                        <a:pt x="219" y="12"/>
                      </a:lnTo>
                      <a:lnTo>
                        <a:pt x="229" y="17"/>
                      </a:lnTo>
                      <a:lnTo>
                        <a:pt x="226" y="20"/>
                      </a:lnTo>
                      <a:lnTo>
                        <a:pt x="230" y="23"/>
                      </a:lnTo>
                      <a:lnTo>
                        <a:pt x="234" y="26"/>
                      </a:lnTo>
                      <a:lnTo>
                        <a:pt x="238" y="28"/>
                      </a:lnTo>
                      <a:lnTo>
                        <a:pt x="241" y="27"/>
                      </a:lnTo>
                      <a:lnTo>
                        <a:pt x="247" y="28"/>
                      </a:lnTo>
                      <a:lnTo>
                        <a:pt x="251" y="27"/>
                      </a:lnTo>
                      <a:lnTo>
                        <a:pt x="254" y="24"/>
                      </a:lnTo>
                      <a:lnTo>
                        <a:pt x="260" y="30"/>
                      </a:lnTo>
                      <a:lnTo>
                        <a:pt x="265" y="36"/>
                      </a:lnTo>
                      <a:lnTo>
                        <a:pt x="269" y="43"/>
                      </a:lnTo>
                      <a:lnTo>
                        <a:pt x="278" y="48"/>
                      </a:lnTo>
                      <a:lnTo>
                        <a:pt x="289" y="49"/>
                      </a:lnTo>
                      <a:lnTo>
                        <a:pt x="300" y="48"/>
                      </a:lnTo>
                      <a:lnTo>
                        <a:pt x="305" y="52"/>
                      </a:lnTo>
                      <a:lnTo>
                        <a:pt x="311" y="56"/>
                      </a:lnTo>
                      <a:lnTo>
                        <a:pt x="318" y="57"/>
                      </a:lnTo>
                      <a:lnTo>
                        <a:pt x="326" y="59"/>
                      </a:lnTo>
                      <a:lnTo>
                        <a:pt x="335" y="82"/>
                      </a:lnTo>
                      <a:lnTo>
                        <a:pt x="340" y="108"/>
                      </a:lnTo>
                      <a:lnTo>
                        <a:pt x="341" y="133"/>
                      </a:lnTo>
                      <a:lnTo>
                        <a:pt x="340" y="159"/>
                      </a:lnTo>
                      <a:lnTo>
                        <a:pt x="336" y="183"/>
                      </a:lnTo>
                      <a:lnTo>
                        <a:pt x="331" y="209"/>
                      </a:lnTo>
                      <a:lnTo>
                        <a:pt x="326" y="233"/>
                      </a:lnTo>
                      <a:lnTo>
                        <a:pt x="323" y="257"/>
                      </a:lnTo>
                      <a:lnTo>
                        <a:pt x="320" y="264"/>
                      </a:lnTo>
                      <a:lnTo>
                        <a:pt x="314" y="272"/>
                      </a:lnTo>
                      <a:lnTo>
                        <a:pt x="308" y="280"/>
                      </a:lnTo>
                      <a:lnTo>
                        <a:pt x="303" y="287"/>
                      </a:lnTo>
                      <a:lnTo>
                        <a:pt x="295" y="293"/>
                      </a:lnTo>
                      <a:lnTo>
                        <a:pt x="286" y="298"/>
                      </a:lnTo>
                      <a:lnTo>
                        <a:pt x="278" y="302"/>
                      </a:lnTo>
                      <a:lnTo>
                        <a:pt x="270" y="308"/>
                      </a:lnTo>
                      <a:lnTo>
                        <a:pt x="261" y="311"/>
                      </a:lnTo>
                      <a:lnTo>
                        <a:pt x="254" y="317"/>
                      </a:lnTo>
                      <a:lnTo>
                        <a:pt x="249" y="325"/>
                      </a:lnTo>
                      <a:lnTo>
                        <a:pt x="247" y="337"/>
                      </a:lnTo>
                      <a:lnTo>
                        <a:pt x="232" y="344"/>
                      </a:lnTo>
                      <a:lnTo>
                        <a:pt x="217" y="349"/>
                      </a:lnTo>
                      <a:lnTo>
                        <a:pt x="201" y="350"/>
                      </a:lnTo>
                      <a:lnTo>
                        <a:pt x="186" y="349"/>
                      </a:lnTo>
                      <a:lnTo>
                        <a:pt x="168" y="345"/>
                      </a:lnTo>
                      <a:lnTo>
                        <a:pt x="152" y="343"/>
                      </a:lnTo>
                      <a:lnTo>
                        <a:pt x="135" y="343"/>
                      </a:lnTo>
                      <a:lnTo>
                        <a:pt x="118" y="346"/>
                      </a:lnTo>
                      <a:lnTo>
                        <a:pt x="108" y="345"/>
                      </a:lnTo>
                      <a:lnTo>
                        <a:pt x="100" y="344"/>
                      </a:lnTo>
                      <a:lnTo>
                        <a:pt x="91" y="342"/>
                      </a:lnTo>
                      <a:lnTo>
                        <a:pt x="84" y="340"/>
                      </a:lnTo>
                      <a:lnTo>
                        <a:pt x="75" y="336"/>
                      </a:lnTo>
                      <a:lnTo>
                        <a:pt x="68" y="332"/>
                      </a:lnTo>
                      <a:lnTo>
                        <a:pt x="60" y="329"/>
                      </a:lnTo>
                      <a:lnTo>
                        <a:pt x="54" y="326"/>
                      </a:lnTo>
                      <a:lnTo>
                        <a:pt x="45" y="314"/>
                      </a:lnTo>
                      <a:lnTo>
                        <a:pt x="37" y="304"/>
                      </a:lnTo>
                      <a:lnTo>
                        <a:pt x="28" y="292"/>
                      </a:lnTo>
                      <a:lnTo>
                        <a:pt x="20" y="281"/>
                      </a:lnTo>
                      <a:lnTo>
                        <a:pt x="12" y="268"/>
                      </a:lnTo>
                      <a:lnTo>
                        <a:pt x="7" y="256"/>
                      </a:lnTo>
                      <a:lnTo>
                        <a:pt x="3" y="243"/>
                      </a:lnTo>
                      <a:lnTo>
                        <a:pt x="3" y="231"/>
                      </a:lnTo>
                      <a:lnTo>
                        <a:pt x="12" y="227"/>
                      </a:lnTo>
                      <a:lnTo>
                        <a:pt x="23" y="228"/>
                      </a:lnTo>
                      <a:lnTo>
                        <a:pt x="23" y="221"/>
                      </a:lnTo>
                      <a:lnTo>
                        <a:pt x="19" y="214"/>
                      </a:lnTo>
                      <a:lnTo>
                        <a:pt x="14" y="208"/>
                      </a:lnTo>
                      <a:lnTo>
                        <a:pt x="13" y="202"/>
                      </a:lnTo>
                      <a:lnTo>
                        <a:pt x="10" y="193"/>
                      </a:lnTo>
                      <a:lnTo>
                        <a:pt x="7" y="185"/>
                      </a:lnTo>
                      <a:lnTo>
                        <a:pt x="3" y="177"/>
                      </a:lnTo>
                      <a:lnTo>
                        <a:pt x="2" y="168"/>
                      </a:lnTo>
                      <a:lnTo>
                        <a:pt x="0" y="160"/>
                      </a:lnTo>
                      <a:lnTo>
                        <a:pt x="0" y="152"/>
                      </a:lnTo>
                      <a:lnTo>
                        <a:pt x="0" y="145"/>
                      </a:lnTo>
                      <a:lnTo>
                        <a:pt x="3" y="139"/>
                      </a:lnTo>
                      <a:lnTo>
                        <a:pt x="3" y="132"/>
                      </a:lnTo>
                      <a:lnTo>
                        <a:pt x="7" y="125"/>
                      </a:lnTo>
                      <a:lnTo>
                        <a:pt x="9" y="118"/>
                      </a:lnTo>
                      <a:lnTo>
                        <a:pt x="13" y="111"/>
                      </a:lnTo>
                      <a:close/>
                    </a:path>
                  </a:pathLst>
                </a:custGeom>
                <a:solidFill>
                  <a:srgbClr val="ffe3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23440" y="48258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45" h="42">
                      <a:moveTo>
                        <a:pt x="32" y="0"/>
                      </a:moveTo>
                      <a:lnTo>
                        <a:pt x="45" y="3"/>
                      </a:lnTo>
                      <a:lnTo>
                        <a:pt x="42" y="6"/>
                      </a:lnTo>
                      <a:lnTo>
                        <a:pt x="38" y="9"/>
                      </a:lnTo>
                      <a:lnTo>
                        <a:pt x="33" y="10"/>
                      </a:lnTo>
                      <a:lnTo>
                        <a:pt x="29" y="14"/>
                      </a:lnTo>
                      <a:lnTo>
                        <a:pt x="22" y="21"/>
                      </a:lnTo>
                      <a:lnTo>
                        <a:pt x="18" y="29"/>
                      </a:lnTo>
                      <a:lnTo>
                        <a:pt x="11" y="35"/>
                      </a:lnTo>
                      <a:lnTo>
                        <a:pt x="4" y="42"/>
                      </a:lnTo>
                      <a:lnTo>
                        <a:pt x="0" y="35"/>
                      </a:lnTo>
                      <a:lnTo>
                        <a:pt x="7" y="25"/>
                      </a:lnTo>
                      <a:lnTo>
                        <a:pt x="14" y="16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24520" y="4837680"/>
                  <a:ext cx="24840" cy="16920"/>
                </a:xfrm>
                <a:custGeom>
                  <a:avLst/>
                  <a:gdLst/>
                  <a:ahLst/>
                  <a:rect l="l" t="t" r="r" b="b"/>
                  <a:pathLst>
                    <a:path w="95" h="67">
                      <a:moveTo>
                        <a:pt x="61" y="3"/>
                      </a:moveTo>
                      <a:lnTo>
                        <a:pt x="67" y="0"/>
                      </a:lnTo>
                      <a:lnTo>
                        <a:pt x="74" y="2"/>
                      </a:lnTo>
                      <a:lnTo>
                        <a:pt x="79" y="4"/>
                      </a:lnTo>
                      <a:lnTo>
                        <a:pt x="84" y="10"/>
                      </a:lnTo>
                      <a:lnTo>
                        <a:pt x="90" y="18"/>
                      </a:lnTo>
                      <a:lnTo>
                        <a:pt x="94" y="30"/>
                      </a:lnTo>
                      <a:lnTo>
                        <a:pt x="95" y="41"/>
                      </a:lnTo>
                      <a:lnTo>
                        <a:pt x="92" y="52"/>
                      </a:lnTo>
                      <a:lnTo>
                        <a:pt x="81" y="59"/>
                      </a:lnTo>
                      <a:lnTo>
                        <a:pt x="70" y="63"/>
                      </a:lnTo>
                      <a:lnTo>
                        <a:pt x="59" y="65"/>
                      </a:lnTo>
                      <a:lnTo>
                        <a:pt x="47" y="67"/>
                      </a:lnTo>
                      <a:lnTo>
                        <a:pt x="34" y="66"/>
                      </a:lnTo>
                      <a:lnTo>
                        <a:pt x="21" y="65"/>
                      </a:lnTo>
                      <a:lnTo>
                        <a:pt x="9" y="63"/>
                      </a:lnTo>
                      <a:lnTo>
                        <a:pt x="0" y="61"/>
                      </a:lnTo>
                      <a:lnTo>
                        <a:pt x="3" y="50"/>
                      </a:lnTo>
                      <a:lnTo>
                        <a:pt x="9" y="42"/>
                      </a:lnTo>
                      <a:lnTo>
                        <a:pt x="16" y="33"/>
                      </a:lnTo>
                      <a:lnTo>
                        <a:pt x="24" y="27"/>
                      </a:lnTo>
                      <a:lnTo>
                        <a:pt x="32" y="20"/>
                      </a:lnTo>
                      <a:lnTo>
                        <a:pt x="41" y="14"/>
                      </a:lnTo>
                      <a:lnTo>
                        <a:pt x="51" y="8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227400" y="48456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25" h="27">
                      <a:moveTo>
                        <a:pt x="25" y="0"/>
                      </a:moveTo>
                      <a:lnTo>
                        <a:pt x="22" y="6"/>
                      </a:lnTo>
                      <a:lnTo>
                        <a:pt x="20" y="13"/>
                      </a:lnTo>
                      <a:lnTo>
                        <a:pt x="19" y="19"/>
                      </a:lnTo>
                      <a:lnTo>
                        <a:pt x="22" y="27"/>
                      </a:lnTo>
                      <a:lnTo>
                        <a:pt x="0" y="25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231000" y="4871520"/>
                  <a:ext cx="53640" cy="12960"/>
                </a:xfrm>
                <a:custGeom>
                  <a:avLst/>
                  <a:gdLst/>
                  <a:ahLst/>
                  <a:rect l="l" t="t" r="r" b="b"/>
                  <a:pathLst>
                    <a:path w="208" h="50">
                      <a:moveTo>
                        <a:pt x="35" y="6"/>
                      </a:moveTo>
                      <a:lnTo>
                        <a:pt x="36" y="10"/>
                      </a:lnTo>
                      <a:lnTo>
                        <a:pt x="35" y="16"/>
                      </a:lnTo>
                      <a:lnTo>
                        <a:pt x="26" y="23"/>
                      </a:lnTo>
                      <a:lnTo>
                        <a:pt x="46" y="32"/>
                      </a:lnTo>
                      <a:lnTo>
                        <a:pt x="69" y="37"/>
                      </a:lnTo>
                      <a:lnTo>
                        <a:pt x="93" y="39"/>
                      </a:lnTo>
                      <a:lnTo>
                        <a:pt x="116" y="38"/>
                      </a:lnTo>
                      <a:lnTo>
                        <a:pt x="138" y="33"/>
                      </a:lnTo>
                      <a:lnTo>
                        <a:pt x="159" y="25"/>
                      </a:lnTo>
                      <a:lnTo>
                        <a:pt x="179" y="14"/>
                      </a:lnTo>
                      <a:lnTo>
                        <a:pt x="200" y="0"/>
                      </a:lnTo>
                      <a:lnTo>
                        <a:pt x="204" y="0"/>
                      </a:lnTo>
                      <a:lnTo>
                        <a:pt x="208" y="2"/>
                      </a:lnTo>
                      <a:lnTo>
                        <a:pt x="197" y="10"/>
                      </a:lnTo>
                      <a:lnTo>
                        <a:pt x="186" y="19"/>
                      </a:lnTo>
                      <a:lnTo>
                        <a:pt x="174" y="27"/>
                      </a:lnTo>
                      <a:lnTo>
                        <a:pt x="163" y="34"/>
                      </a:lnTo>
                      <a:lnTo>
                        <a:pt x="149" y="39"/>
                      </a:lnTo>
                      <a:lnTo>
                        <a:pt x="137" y="44"/>
                      </a:lnTo>
                      <a:lnTo>
                        <a:pt x="123" y="47"/>
                      </a:lnTo>
                      <a:lnTo>
                        <a:pt x="109" y="49"/>
                      </a:lnTo>
                      <a:lnTo>
                        <a:pt x="96" y="49"/>
                      </a:lnTo>
                      <a:lnTo>
                        <a:pt x="83" y="50"/>
                      </a:lnTo>
                      <a:lnTo>
                        <a:pt x="70" y="49"/>
                      </a:lnTo>
                      <a:lnTo>
                        <a:pt x="58" y="48"/>
                      </a:lnTo>
                      <a:lnTo>
                        <a:pt x="45" y="45"/>
                      </a:lnTo>
                      <a:lnTo>
                        <a:pt x="35" y="42"/>
                      </a:lnTo>
                      <a:lnTo>
                        <a:pt x="24" y="36"/>
                      </a:lnTo>
                      <a:lnTo>
                        <a:pt x="14" y="31"/>
                      </a:lnTo>
                      <a:lnTo>
                        <a:pt x="8" y="37"/>
                      </a:lnTo>
                      <a:lnTo>
                        <a:pt x="0" y="37"/>
                      </a:lnTo>
                      <a:lnTo>
                        <a:pt x="1" y="31"/>
                      </a:lnTo>
                      <a:lnTo>
                        <a:pt x="6" y="27"/>
                      </a:lnTo>
                      <a:lnTo>
                        <a:pt x="9" y="22"/>
                      </a:lnTo>
                      <a:lnTo>
                        <a:pt x="14" y="19"/>
                      </a:lnTo>
                      <a:lnTo>
                        <a:pt x="24" y="13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237840" y="484164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26" y="6"/>
                      </a:moveTo>
                      <a:lnTo>
                        <a:pt x="29" y="12"/>
                      </a:lnTo>
                      <a:lnTo>
                        <a:pt x="32" y="18"/>
                      </a:lnTo>
                      <a:lnTo>
                        <a:pt x="33" y="25"/>
                      </a:lnTo>
                      <a:lnTo>
                        <a:pt x="32" y="31"/>
                      </a:lnTo>
                      <a:lnTo>
                        <a:pt x="27" y="35"/>
                      </a:lnTo>
                      <a:lnTo>
                        <a:pt x="23" y="40"/>
                      </a:lnTo>
                      <a:lnTo>
                        <a:pt x="16" y="42"/>
                      </a:lnTo>
                      <a:lnTo>
                        <a:pt x="10" y="42"/>
                      </a:lnTo>
                      <a:lnTo>
                        <a:pt x="13" y="34"/>
                      </a:lnTo>
                      <a:lnTo>
                        <a:pt x="12" y="26"/>
                      </a:lnTo>
                      <a:lnTo>
                        <a:pt x="9" y="17"/>
                      </a:lnTo>
                      <a:lnTo>
                        <a:pt x="5" y="11"/>
                      </a:lnTo>
                      <a:lnTo>
                        <a:pt x="0" y="7"/>
                      </a:lnTo>
                      <a:lnTo>
                        <a:pt x="7" y="3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240360" y="4995360"/>
                  <a:ext cx="41760" cy="45720"/>
                </a:xfrm>
                <a:custGeom>
                  <a:avLst/>
                  <a:gdLst/>
                  <a:ahLst/>
                  <a:rect l="l" t="t" r="r" b="b"/>
                  <a:pathLst>
                    <a:path w="160" h="173">
                      <a:moveTo>
                        <a:pt x="62" y="35"/>
                      </a:moveTo>
                      <a:lnTo>
                        <a:pt x="71" y="27"/>
                      </a:lnTo>
                      <a:lnTo>
                        <a:pt x="80" y="20"/>
                      </a:lnTo>
                      <a:lnTo>
                        <a:pt x="90" y="13"/>
                      </a:lnTo>
                      <a:lnTo>
                        <a:pt x="101" y="6"/>
                      </a:lnTo>
                      <a:lnTo>
                        <a:pt x="107" y="8"/>
                      </a:lnTo>
                      <a:lnTo>
                        <a:pt x="114" y="7"/>
                      </a:lnTo>
                      <a:lnTo>
                        <a:pt x="117" y="1"/>
                      </a:lnTo>
                      <a:lnTo>
                        <a:pt x="122" y="0"/>
                      </a:lnTo>
                      <a:lnTo>
                        <a:pt x="123" y="5"/>
                      </a:lnTo>
                      <a:lnTo>
                        <a:pt x="127" y="8"/>
                      </a:lnTo>
                      <a:lnTo>
                        <a:pt x="133" y="10"/>
                      </a:lnTo>
                      <a:lnTo>
                        <a:pt x="138" y="12"/>
                      </a:lnTo>
                      <a:lnTo>
                        <a:pt x="142" y="13"/>
                      </a:lnTo>
                      <a:lnTo>
                        <a:pt x="147" y="16"/>
                      </a:lnTo>
                      <a:lnTo>
                        <a:pt x="148" y="20"/>
                      </a:lnTo>
                      <a:lnTo>
                        <a:pt x="148" y="28"/>
                      </a:lnTo>
                      <a:lnTo>
                        <a:pt x="160" y="40"/>
                      </a:lnTo>
                      <a:lnTo>
                        <a:pt x="142" y="49"/>
                      </a:lnTo>
                      <a:lnTo>
                        <a:pt x="125" y="62"/>
                      </a:lnTo>
                      <a:lnTo>
                        <a:pt x="109" y="74"/>
                      </a:lnTo>
                      <a:lnTo>
                        <a:pt x="95" y="89"/>
                      </a:lnTo>
                      <a:lnTo>
                        <a:pt x="81" y="104"/>
                      </a:lnTo>
                      <a:lnTo>
                        <a:pt x="71" y="121"/>
                      </a:lnTo>
                      <a:lnTo>
                        <a:pt x="61" y="138"/>
                      </a:lnTo>
                      <a:lnTo>
                        <a:pt x="54" y="159"/>
                      </a:lnTo>
                      <a:lnTo>
                        <a:pt x="49" y="163"/>
                      </a:lnTo>
                      <a:lnTo>
                        <a:pt x="49" y="171"/>
                      </a:lnTo>
                      <a:lnTo>
                        <a:pt x="51" y="173"/>
                      </a:lnTo>
                      <a:lnTo>
                        <a:pt x="42" y="173"/>
                      </a:lnTo>
                      <a:lnTo>
                        <a:pt x="35" y="171"/>
                      </a:lnTo>
                      <a:lnTo>
                        <a:pt x="30" y="165"/>
                      </a:lnTo>
                      <a:lnTo>
                        <a:pt x="27" y="161"/>
                      </a:lnTo>
                      <a:lnTo>
                        <a:pt x="21" y="154"/>
                      </a:lnTo>
                      <a:lnTo>
                        <a:pt x="17" y="150"/>
                      </a:lnTo>
                      <a:lnTo>
                        <a:pt x="10" y="146"/>
                      </a:lnTo>
                      <a:lnTo>
                        <a:pt x="3" y="146"/>
                      </a:lnTo>
                      <a:lnTo>
                        <a:pt x="0" y="137"/>
                      </a:lnTo>
                      <a:lnTo>
                        <a:pt x="0" y="130"/>
                      </a:lnTo>
                      <a:lnTo>
                        <a:pt x="1" y="121"/>
                      </a:lnTo>
                      <a:lnTo>
                        <a:pt x="3" y="115"/>
                      </a:lnTo>
                      <a:lnTo>
                        <a:pt x="8" y="103"/>
                      </a:lnTo>
                      <a:lnTo>
                        <a:pt x="15" y="92"/>
                      </a:lnTo>
                      <a:lnTo>
                        <a:pt x="22" y="83"/>
                      </a:lnTo>
                      <a:lnTo>
                        <a:pt x="30" y="73"/>
                      </a:lnTo>
                      <a:lnTo>
                        <a:pt x="37" y="63"/>
                      </a:lnTo>
                      <a:lnTo>
                        <a:pt x="46" y="54"/>
                      </a:lnTo>
                      <a:lnTo>
                        <a:pt x="53" y="44"/>
                      </a:lnTo>
                      <a:lnTo>
                        <a:pt x="62" y="35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246840" y="4886280"/>
                  <a:ext cx="18360" cy="504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"/>
                      </a:moveTo>
                      <a:lnTo>
                        <a:pt x="6" y="1"/>
                      </a:lnTo>
                      <a:lnTo>
                        <a:pt x="15" y="4"/>
                      </a:lnTo>
                      <a:lnTo>
                        <a:pt x="23" y="6"/>
                      </a:lnTo>
                      <a:lnTo>
                        <a:pt x="33" y="8"/>
                      </a:lnTo>
                      <a:lnTo>
                        <a:pt x="41" y="7"/>
                      </a:lnTo>
                      <a:lnTo>
                        <a:pt x="50" y="7"/>
                      </a:lnTo>
                      <a:lnTo>
                        <a:pt x="58" y="4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64" y="5"/>
                      </a:lnTo>
                      <a:lnTo>
                        <a:pt x="59" y="11"/>
                      </a:lnTo>
                      <a:lnTo>
                        <a:pt x="52" y="16"/>
                      </a:lnTo>
                      <a:lnTo>
                        <a:pt x="45" y="20"/>
                      </a:lnTo>
                      <a:lnTo>
                        <a:pt x="38" y="19"/>
                      </a:lnTo>
                      <a:lnTo>
                        <a:pt x="32" y="18"/>
                      </a:lnTo>
                      <a:lnTo>
                        <a:pt x="25" y="17"/>
                      </a:lnTo>
                      <a:lnTo>
                        <a:pt x="20" y="17"/>
                      </a:lnTo>
                      <a:lnTo>
                        <a:pt x="9" y="13"/>
                      </a:lnTo>
                      <a:lnTo>
                        <a:pt x="0" y="9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249720" y="4951800"/>
                  <a:ext cx="70560" cy="52560"/>
                </a:xfrm>
                <a:custGeom>
                  <a:avLst/>
                  <a:gdLst/>
                  <a:ahLst/>
                  <a:rect l="l" t="t" r="r" b="b"/>
                  <a:pathLst>
                    <a:path w="273" h="203">
                      <a:moveTo>
                        <a:pt x="8" y="21"/>
                      </a:moveTo>
                      <a:lnTo>
                        <a:pt x="13" y="20"/>
                      </a:lnTo>
                      <a:lnTo>
                        <a:pt x="18" y="18"/>
                      </a:lnTo>
                      <a:lnTo>
                        <a:pt x="24" y="16"/>
                      </a:lnTo>
                      <a:lnTo>
                        <a:pt x="30" y="13"/>
                      </a:lnTo>
                      <a:lnTo>
                        <a:pt x="40" y="9"/>
                      </a:lnTo>
                      <a:lnTo>
                        <a:pt x="52" y="9"/>
                      </a:lnTo>
                      <a:lnTo>
                        <a:pt x="58" y="7"/>
                      </a:lnTo>
                      <a:lnTo>
                        <a:pt x="66" y="5"/>
                      </a:lnTo>
                      <a:lnTo>
                        <a:pt x="73" y="3"/>
                      </a:lnTo>
                      <a:lnTo>
                        <a:pt x="81" y="3"/>
                      </a:lnTo>
                      <a:lnTo>
                        <a:pt x="87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11" y="2"/>
                      </a:lnTo>
                      <a:lnTo>
                        <a:pt x="126" y="25"/>
                      </a:lnTo>
                      <a:lnTo>
                        <a:pt x="144" y="50"/>
                      </a:lnTo>
                      <a:lnTo>
                        <a:pt x="162" y="73"/>
                      </a:lnTo>
                      <a:lnTo>
                        <a:pt x="184" y="97"/>
                      </a:lnTo>
                      <a:lnTo>
                        <a:pt x="204" y="119"/>
                      </a:lnTo>
                      <a:lnTo>
                        <a:pt x="226" y="141"/>
                      </a:lnTo>
                      <a:lnTo>
                        <a:pt x="249" y="164"/>
                      </a:lnTo>
                      <a:lnTo>
                        <a:pt x="273" y="186"/>
                      </a:lnTo>
                      <a:lnTo>
                        <a:pt x="255" y="181"/>
                      </a:lnTo>
                      <a:lnTo>
                        <a:pt x="239" y="179"/>
                      </a:lnTo>
                      <a:lnTo>
                        <a:pt x="221" y="178"/>
                      </a:lnTo>
                      <a:lnTo>
                        <a:pt x="204" y="180"/>
                      </a:lnTo>
                      <a:lnTo>
                        <a:pt x="186" y="182"/>
                      </a:lnTo>
                      <a:lnTo>
                        <a:pt x="170" y="187"/>
                      </a:lnTo>
                      <a:lnTo>
                        <a:pt x="153" y="194"/>
                      </a:lnTo>
                      <a:lnTo>
                        <a:pt x="140" y="203"/>
                      </a:lnTo>
                      <a:lnTo>
                        <a:pt x="134" y="196"/>
                      </a:lnTo>
                      <a:lnTo>
                        <a:pt x="129" y="189"/>
                      </a:lnTo>
                      <a:lnTo>
                        <a:pt x="125" y="181"/>
                      </a:lnTo>
                      <a:lnTo>
                        <a:pt x="122" y="172"/>
                      </a:lnTo>
                      <a:lnTo>
                        <a:pt x="117" y="166"/>
                      </a:lnTo>
                      <a:lnTo>
                        <a:pt x="111" y="166"/>
                      </a:lnTo>
                      <a:lnTo>
                        <a:pt x="104" y="165"/>
                      </a:lnTo>
                      <a:lnTo>
                        <a:pt x="103" y="158"/>
                      </a:lnTo>
                      <a:lnTo>
                        <a:pt x="97" y="153"/>
                      </a:lnTo>
                      <a:lnTo>
                        <a:pt x="90" y="152"/>
                      </a:lnTo>
                      <a:lnTo>
                        <a:pt x="84" y="151"/>
                      </a:lnTo>
                      <a:lnTo>
                        <a:pt x="78" y="152"/>
                      </a:lnTo>
                      <a:lnTo>
                        <a:pt x="76" y="154"/>
                      </a:lnTo>
                      <a:lnTo>
                        <a:pt x="60" y="140"/>
                      </a:lnTo>
                      <a:lnTo>
                        <a:pt x="45" y="126"/>
                      </a:lnTo>
                      <a:lnTo>
                        <a:pt x="30" y="110"/>
                      </a:lnTo>
                      <a:lnTo>
                        <a:pt x="17" y="95"/>
                      </a:lnTo>
                      <a:lnTo>
                        <a:pt x="5" y="77"/>
                      </a:lnTo>
                      <a:lnTo>
                        <a:pt x="0" y="60"/>
                      </a:lnTo>
                      <a:lnTo>
                        <a:pt x="0" y="40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252240" y="4860000"/>
                  <a:ext cx="19440" cy="9000"/>
                </a:xfrm>
                <a:custGeom>
                  <a:avLst/>
                  <a:gdLst/>
                  <a:ahLst/>
                  <a:rect l="l" t="t" r="r" b="b"/>
                  <a:pathLst>
                    <a:path w="77" h="31">
                      <a:moveTo>
                        <a:pt x="0" y="25"/>
                      </a:moveTo>
                      <a:lnTo>
                        <a:pt x="8" y="21"/>
                      </a:lnTo>
                      <a:lnTo>
                        <a:pt x="18" y="19"/>
                      </a:lnTo>
                      <a:lnTo>
                        <a:pt x="28" y="16"/>
                      </a:lnTo>
                      <a:lnTo>
                        <a:pt x="37" y="15"/>
                      </a:lnTo>
                      <a:lnTo>
                        <a:pt x="46" y="12"/>
                      </a:lnTo>
                      <a:lnTo>
                        <a:pt x="54" y="8"/>
                      </a:lnTo>
                      <a:lnTo>
                        <a:pt x="63" y="4"/>
                      </a:lnTo>
                      <a:lnTo>
                        <a:pt x="73" y="0"/>
                      </a:lnTo>
                      <a:lnTo>
                        <a:pt x="77" y="2"/>
                      </a:lnTo>
                      <a:lnTo>
                        <a:pt x="74" y="11"/>
                      </a:lnTo>
                      <a:lnTo>
                        <a:pt x="66" y="16"/>
                      </a:lnTo>
                      <a:lnTo>
                        <a:pt x="58" y="19"/>
                      </a:lnTo>
                      <a:lnTo>
                        <a:pt x="50" y="25"/>
                      </a:lnTo>
                      <a:lnTo>
                        <a:pt x="43" y="25"/>
                      </a:lnTo>
                      <a:lnTo>
                        <a:pt x="36" y="27"/>
                      </a:lnTo>
                      <a:lnTo>
                        <a:pt x="30" y="28"/>
                      </a:lnTo>
                      <a:lnTo>
                        <a:pt x="23" y="30"/>
                      </a:lnTo>
                      <a:lnTo>
                        <a:pt x="17" y="30"/>
                      </a:lnTo>
                      <a:lnTo>
                        <a:pt x="10" y="31"/>
                      </a:lnTo>
                      <a:lnTo>
                        <a:pt x="4" y="30"/>
                      </a:lnTo>
                      <a:lnTo>
                        <a:pt x="0" y="29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258720" y="5002920"/>
                  <a:ext cx="70560" cy="65520"/>
                </a:xfrm>
                <a:custGeom>
                  <a:avLst/>
                  <a:gdLst/>
                  <a:ahLst/>
                  <a:rect l="l" t="t" r="r" b="b"/>
                  <a:pathLst>
                    <a:path w="270" h="252">
                      <a:moveTo>
                        <a:pt x="92" y="32"/>
                      </a:moveTo>
                      <a:lnTo>
                        <a:pt x="97" y="34"/>
                      </a:lnTo>
                      <a:lnTo>
                        <a:pt x="103" y="35"/>
                      </a:lnTo>
                      <a:lnTo>
                        <a:pt x="112" y="22"/>
                      </a:lnTo>
                      <a:lnTo>
                        <a:pt x="122" y="14"/>
                      </a:lnTo>
                      <a:lnTo>
                        <a:pt x="133" y="7"/>
                      </a:lnTo>
                      <a:lnTo>
                        <a:pt x="147" y="4"/>
                      </a:lnTo>
                      <a:lnTo>
                        <a:pt x="160" y="1"/>
                      </a:lnTo>
                      <a:lnTo>
                        <a:pt x="175" y="0"/>
                      </a:lnTo>
                      <a:lnTo>
                        <a:pt x="190" y="0"/>
                      </a:lnTo>
                      <a:lnTo>
                        <a:pt x="205" y="0"/>
                      </a:lnTo>
                      <a:lnTo>
                        <a:pt x="211" y="1"/>
                      </a:lnTo>
                      <a:lnTo>
                        <a:pt x="217" y="2"/>
                      </a:lnTo>
                      <a:lnTo>
                        <a:pt x="224" y="3"/>
                      </a:lnTo>
                      <a:lnTo>
                        <a:pt x="231" y="6"/>
                      </a:lnTo>
                      <a:lnTo>
                        <a:pt x="237" y="8"/>
                      </a:lnTo>
                      <a:lnTo>
                        <a:pt x="244" y="12"/>
                      </a:lnTo>
                      <a:lnTo>
                        <a:pt x="248" y="16"/>
                      </a:lnTo>
                      <a:lnTo>
                        <a:pt x="254" y="23"/>
                      </a:lnTo>
                      <a:lnTo>
                        <a:pt x="254" y="30"/>
                      </a:lnTo>
                      <a:lnTo>
                        <a:pt x="250" y="35"/>
                      </a:lnTo>
                      <a:lnTo>
                        <a:pt x="245" y="38"/>
                      </a:lnTo>
                      <a:lnTo>
                        <a:pt x="240" y="43"/>
                      </a:lnTo>
                      <a:lnTo>
                        <a:pt x="187" y="56"/>
                      </a:lnTo>
                      <a:lnTo>
                        <a:pt x="183" y="59"/>
                      </a:lnTo>
                      <a:lnTo>
                        <a:pt x="181" y="64"/>
                      </a:lnTo>
                      <a:lnTo>
                        <a:pt x="181" y="68"/>
                      </a:lnTo>
                      <a:lnTo>
                        <a:pt x="185" y="73"/>
                      </a:lnTo>
                      <a:lnTo>
                        <a:pt x="197" y="79"/>
                      </a:lnTo>
                      <a:lnTo>
                        <a:pt x="210" y="89"/>
                      </a:lnTo>
                      <a:lnTo>
                        <a:pt x="222" y="99"/>
                      </a:lnTo>
                      <a:lnTo>
                        <a:pt x="235" y="109"/>
                      </a:lnTo>
                      <a:lnTo>
                        <a:pt x="246" y="120"/>
                      </a:lnTo>
                      <a:lnTo>
                        <a:pt x="256" y="133"/>
                      </a:lnTo>
                      <a:lnTo>
                        <a:pt x="263" y="146"/>
                      </a:lnTo>
                      <a:lnTo>
                        <a:pt x="270" y="161"/>
                      </a:lnTo>
                      <a:lnTo>
                        <a:pt x="266" y="173"/>
                      </a:lnTo>
                      <a:lnTo>
                        <a:pt x="263" y="185"/>
                      </a:lnTo>
                      <a:lnTo>
                        <a:pt x="258" y="196"/>
                      </a:lnTo>
                      <a:lnTo>
                        <a:pt x="252" y="208"/>
                      </a:lnTo>
                      <a:lnTo>
                        <a:pt x="244" y="217"/>
                      </a:lnTo>
                      <a:lnTo>
                        <a:pt x="234" y="225"/>
                      </a:lnTo>
                      <a:lnTo>
                        <a:pt x="224" y="233"/>
                      </a:lnTo>
                      <a:lnTo>
                        <a:pt x="213" y="240"/>
                      </a:lnTo>
                      <a:lnTo>
                        <a:pt x="188" y="249"/>
                      </a:lnTo>
                      <a:lnTo>
                        <a:pt x="163" y="252"/>
                      </a:lnTo>
                      <a:lnTo>
                        <a:pt x="139" y="249"/>
                      </a:lnTo>
                      <a:lnTo>
                        <a:pt x="116" y="243"/>
                      </a:lnTo>
                      <a:lnTo>
                        <a:pt x="93" y="233"/>
                      </a:lnTo>
                      <a:lnTo>
                        <a:pt x="71" y="220"/>
                      </a:lnTo>
                      <a:lnTo>
                        <a:pt x="50" y="207"/>
                      </a:lnTo>
                      <a:lnTo>
                        <a:pt x="32" y="194"/>
                      </a:lnTo>
                      <a:lnTo>
                        <a:pt x="25" y="188"/>
                      </a:lnTo>
                      <a:lnTo>
                        <a:pt x="21" y="181"/>
                      </a:lnTo>
                      <a:lnTo>
                        <a:pt x="15" y="175"/>
                      </a:lnTo>
                      <a:lnTo>
                        <a:pt x="12" y="169"/>
                      </a:lnTo>
                      <a:lnTo>
                        <a:pt x="9" y="162"/>
                      </a:lnTo>
                      <a:lnTo>
                        <a:pt x="6" y="155"/>
                      </a:lnTo>
                      <a:lnTo>
                        <a:pt x="3" y="149"/>
                      </a:lnTo>
                      <a:lnTo>
                        <a:pt x="0" y="143"/>
                      </a:lnTo>
                      <a:lnTo>
                        <a:pt x="5" y="124"/>
                      </a:lnTo>
                      <a:lnTo>
                        <a:pt x="12" y="108"/>
                      </a:lnTo>
                      <a:lnTo>
                        <a:pt x="21" y="91"/>
                      </a:lnTo>
                      <a:lnTo>
                        <a:pt x="34" y="77"/>
                      </a:lnTo>
                      <a:lnTo>
                        <a:pt x="45" y="62"/>
                      </a:lnTo>
                      <a:lnTo>
                        <a:pt x="60" y="50"/>
                      </a:lnTo>
                      <a:lnTo>
                        <a:pt x="76" y="40"/>
                      </a:lnTo>
                      <a:lnTo>
                        <a:pt x="92" y="32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265560" y="4821840"/>
                  <a:ext cx="12960" cy="36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39" y="5"/>
                      </a:moveTo>
                      <a:lnTo>
                        <a:pt x="43" y="8"/>
                      </a:lnTo>
                      <a:lnTo>
                        <a:pt x="48" y="12"/>
                      </a:lnTo>
                      <a:lnTo>
                        <a:pt x="48" y="16"/>
                      </a:lnTo>
                      <a:lnTo>
                        <a:pt x="36" y="15"/>
                      </a:lnTo>
                      <a:lnTo>
                        <a:pt x="25" y="14"/>
                      </a:lnTo>
                      <a:lnTo>
                        <a:pt x="13" y="11"/>
                      </a:lnTo>
                      <a:lnTo>
                        <a:pt x="2" y="12"/>
                      </a:lnTo>
                      <a:lnTo>
                        <a:pt x="0" y="4"/>
                      </a:lnTo>
                      <a:lnTo>
                        <a:pt x="2" y="1"/>
                      </a:lnTo>
                      <a:lnTo>
                        <a:pt x="7" y="0"/>
                      </a:lnTo>
                      <a:lnTo>
                        <a:pt x="13" y="2"/>
                      </a:lnTo>
                      <a:lnTo>
                        <a:pt x="20" y="2"/>
                      </a:lnTo>
                      <a:lnTo>
                        <a:pt x="26" y="4"/>
                      </a:lnTo>
                      <a:lnTo>
                        <a:pt x="32" y="5"/>
                      </a:lnTo>
                      <a:lnTo>
                        <a:pt x="3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268080" y="4832280"/>
                  <a:ext cx="24480" cy="16920"/>
                </a:xfrm>
                <a:custGeom>
                  <a:avLst/>
                  <a:gdLst/>
                  <a:ahLst/>
                  <a:rect l="l" t="t" r="r" b="b"/>
                  <a:pathLst>
                    <a:path w="93" h="61">
                      <a:moveTo>
                        <a:pt x="10" y="0"/>
                      </a:moveTo>
                      <a:lnTo>
                        <a:pt x="20" y="0"/>
                      </a:lnTo>
                      <a:lnTo>
                        <a:pt x="32" y="1"/>
                      </a:lnTo>
                      <a:lnTo>
                        <a:pt x="43" y="2"/>
                      </a:lnTo>
                      <a:lnTo>
                        <a:pt x="55" y="5"/>
                      </a:lnTo>
                      <a:lnTo>
                        <a:pt x="64" y="7"/>
                      </a:lnTo>
                      <a:lnTo>
                        <a:pt x="75" y="13"/>
                      </a:lnTo>
                      <a:lnTo>
                        <a:pt x="85" y="18"/>
                      </a:lnTo>
                      <a:lnTo>
                        <a:pt x="93" y="27"/>
                      </a:lnTo>
                      <a:lnTo>
                        <a:pt x="85" y="34"/>
                      </a:lnTo>
                      <a:lnTo>
                        <a:pt x="77" y="44"/>
                      </a:lnTo>
                      <a:lnTo>
                        <a:pt x="69" y="51"/>
                      </a:lnTo>
                      <a:lnTo>
                        <a:pt x="60" y="59"/>
                      </a:lnTo>
                      <a:lnTo>
                        <a:pt x="56" y="58"/>
                      </a:lnTo>
                      <a:lnTo>
                        <a:pt x="49" y="59"/>
                      </a:lnTo>
                      <a:lnTo>
                        <a:pt x="41" y="60"/>
                      </a:lnTo>
                      <a:lnTo>
                        <a:pt x="32" y="61"/>
                      </a:lnTo>
                      <a:lnTo>
                        <a:pt x="22" y="60"/>
                      </a:lnTo>
                      <a:lnTo>
                        <a:pt x="14" y="58"/>
                      </a:lnTo>
                      <a:lnTo>
                        <a:pt x="6" y="53"/>
                      </a:lnTo>
                      <a:lnTo>
                        <a:pt x="2" y="46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4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269160" y="47916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69160" y="4903200"/>
                  <a:ext cx="35280" cy="43200"/>
                </a:xfrm>
                <a:custGeom>
                  <a:avLst/>
                  <a:gdLst/>
                  <a:ahLst/>
                  <a:rect l="l" t="t" r="r" b="b"/>
                  <a:pathLst>
                    <a:path w="131" h="162">
                      <a:moveTo>
                        <a:pt x="32" y="78"/>
                      </a:moveTo>
                      <a:lnTo>
                        <a:pt x="38" y="71"/>
                      </a:lnTo>
                      <a:lnTo>
                        <a:pt x="48" y="68"/>
                      </a:lnTo>
                      <a:lnTo>
                        <a:pt x="55" y="60"/>
                      </a:lnTo>
                      <a:lnTo>
                        <a:pt x="64" y="54"/>
                      </a:lnTo>
                      <a:lnTo>
                        <a:pt x="71" y="45"/>
                      </a:lnTo>
                      <a:lnTo>
                        <a:pt x="79" y="38"/>
                      </a:lnTo>
                      <a:lnTo>
                        <a:pt x="84" y="28"/>
                      </a:lnTo>
                      <a:lnTo>
                        <a:pt x="89" y="19"/>
                      </a:lnTo>
                      <a:lnTo>
                        <a:pt x="92" y="10"/>
                      </a:lnTo>
                      <a:lnTo>
                        <a:pt x="95" y="0"/>
                      </a:lnTo>
                      <a:lnTo>
                        <a:pt x="103" y="2"/>
                      </a:lnTo>
                      <a:lnTo>
                        <a:pt x="113" y="8"/>
                      </a:lnTo>
                      <a:lnTo>
                        <a:pt x="122" y="14"/>
                      </a:lnTo>
                      <a:lnTo>
                        <a:pt x="131" y="22"/>
                      </a:lnTo>
                      <a:lnTo>
                        <a:pt x="115" y="34"/>
                      </a:lnTo>
                      <a:lnTo>
                        <a:pt x="99" y="48"/>
                      </a:lnTo>
                      <a:lnTo>
                        <a:pt x="84" y="62"/>
                      </a:lnTo>
                      <a:lnTo>
                        <a:pt x="70" y="78"/>
                      </a:lnTo>
                      <a:lnTo>
                        <a:pt x="56" y="93"/>
                      </a:lnTo>
                      <a:lnTo>
                        <a:pt x="44" y="111"/>
                      </a:lnTo>
                      <a:lnTo>
                        <a:pt x="33" y="128"/>
                      </a:lnTo>
                      <a:lnTo>
                        <a:pt x="23" y="147"/>
                      </a:lnTo>
                      <a:lnTo>
                        <a:pt x="22" y="160"/>
                      </a:lnTo>
                      <a:lnTo>
                        <a:pt x="16" y="157"/>
                      </a:lnTo>
                      <a:lnTo>
                        <a:pt x="11" y="158"/>
                      </a:lnTo>
                      <a:lnTo>
                        <a:pt x="5" y="160"/>
                      </a:lnTo>
                      <a:lnTo>
                        <a:pt x="0" y="162"/>
                      </a:lnTo>
                      <a:lnTo>
                        <a:pt x="7" y="153"/>
                      </a:lnTo>
                      <a:lnTo>
                        <a:pt x="13" y="144"/>
                      </a:lnTo>
                      <a:lnTo>
                        <a:pt x="18" y="133"/>
                      </a:lnTo>
                      <a:lnTo>
                        <a:pt x="23" y="122"/>
                      </a:lnTo>
                      <a:lnTo>
                        <a:pt x="25" y="111"/>
                      </a:lnTo>
                      <a:lnTo>
                        <a:pt x="28" y="100"/>
                      </a:lnTo>
                      <a:lnTo>
                        <a:pt x="30" y="88"/>
                      </a:lnTo>
                      <a:lnTo>
                        <a:pt x="32" y="78"/>
                      </a:lnTo>
                      <a:close/>
                    </a:path>
                  </a:pathLst>
                </a:custGeom>
                <a:solidFill>
                  <a:srgbClr val="bf8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270600" y="4835160"/>
                  <a:ext cx="18360" cy="1188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9" y="7"/>
                      </a:move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1" y="1"/>
                      </a:lnTo>
                      <a:lnTo>
                        <a:pt x="29" y="3"/>
                      </a:lnTo>
                      <a:lnTo>
                        <a:pt x="37" y="6"/>
                      </a:lnTo>
                      <a:lnTo>
                        <a:pt x="45" y="7"/>
                      </a:lnTo>
                      <a:lnTo>
                        <a:pt x="52" y="10"/>
                      </a:lnTo>
                      <a:lnTo>
                        <a:pt x="60" y="13"/>
                      </a:lnTo>
                      <a:lnTo>
                        <a:pt x="67" y="18"/>
                      </a:lnTo>
                      <a:lnTo>
                        <a:pt x="60" y="27"/>
                      </a:lnTo>
                      <a:lnTo>
                        <a:pt x="50" y="34"/>
                      </a:lnTo>
                      <a:lnTo>
                        <a:pt x="38" y="38"/>
                      </a:lnTo>
                      <a:lnTo>
                        <a:pt x="28" y="42"/>
                      </a:lnTo>
                      <a:lnTo>
                        <a:pt x="32" y="36"/>
                      </a:lnTo>
                      <a:lnTo>
                        <a:pt x="34" y="29"/>
                      </a:lnTo>
                      <a:lnTo>
                        <a:pt x="32" y="21"/>
                      </a:lnTo>
                      <a:lnTo>
                        <a:pt x="31" y="13"/>
                      </a:lnTo>
                      <a:lnTo>
                        <a:pt x="24" y="7"/>
                      </a:lnTo>
                      <a:lnTo>
                        <a:pt x="19" y="5"/>
                      </a:lnTo>
                      <a:lnTo>
                        <a:pt x="12" y="5"/>
                      </a:lnTo>
                      <a:lnTo>
                        <a:pt x="7" y="10"/>
                      </a:lnTo>
                      <a:lnTo>
                        <a:pt x="2" y="18"/>
                      </a:lnTo>
                      <a:lnTo>
                        <a:pt x="4" y="26"/>
                      </a:lnTo>
                      <a:lnTo>
                        <a:pt x="1" y="21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75640" y="4890240"/>
                  <a:ext cx="14400" cy="27360"/>
                </a:xfrm>
                <a:custGeom>
                  <a:avLst/>
                  <a:gdLst/>
                  <a:ahLst/>
                  <a:rect l="l" t="t" r="r" b="b"/>
                  <a:pathLst>
                    <a:path w="57" h="104">
                      <a:moveTo>
                        <a:pt x="10" y="8"/>
                      </a:moveTo>
                      <a:lnTo>
                        <a:pt x="16" y="1"/>
                      </a:lnTo>
                      <a:lnTo>
                        <a:pt x="23" y="0"/>
                      </a:lnTo>
                      <a:lnTo>
                        <a:pt x="28" y="2"/>
                      </a:lnTo>
                      <a:lnTo>
                        <a:pt x="33" y="7"/>
                      </a:lnTo>
                      <a:lnTo>
                        <a:pt x="36" y="12"/>
                      </a:lnTo>
                      <a:lnTo>
                        <a:pt x="41" y="19"/>
                      </a:lnTo>
                      <a:lnTo>
                        <a:pt x="46" y="24"/>
                      </a:lnTo>
                      <a:lnTo>
                        <a:pt x="52" y="27"/>
                      </a:lnTo>
                      <a:lnTo>
                        <a:pt x="53" y="33"/>
                      </a:lnTo>
                      <a:lnTo>
                        <a:pt x="55" y="39"/>
                      </a:lnTo>
                      <a:lnTo>
                        <a:pt x="56" y="46"/>
                      </a:lnTo>
                      <a:lnTo>
                        <a:pt x="57" y="52"/>
                      </a:lnTo>
                      <a:lnTo>
                        <a:pt x="56" y="63"/>
                      </a:lnTo>
                      <a:lnTo>
                        <a:pt x="51" y="75"/>
                      </a:lnTo>
                      <a:lnTo>
                        <a:pt x="47" y="79"/>
                      </a:lnTo>
                      <a:lnTo>
                        <a:pt x="43" y="84"/>
                      </a:lnTo>
                      <a:lnTo>
                        <a:pt x="38" y="86"/>
                      </a:lnTo>
                      <a:lnTo>
                        <a:pt x="33" y="89"/>
                      </a:lnTo>
                      <a:lnTo>
                        <a:pt x="29" y="96"/>
                      </a:lnTo>
                      <a:lnTo>
                        <a:pt x="21" y="104"/>
                      </a:lnTo>
                      <a:lnTo>
                        <a:pt x="20" y="94"/>
                      </a:lnTo>
                      <a:lnTo>
                        <a:pt x="20" y="85"/>
                      </a:lnTo>
                      <a:lnTo>
                        <a:pt x="18" y="77"/>
                      </a:lnTo>
                      <a:lnTo>
                        <a:pt x="16" y="69"/>
                      </a:lnTo>
                      <a:lnTo>
                        <a:pt x="13" y="60"/>
                      </a:lnTo>
                      <a:lnTo>
                        <a:pt x="10" y="52"/>
                      </a:lnTo>
                      <a:lnTo>
                        <a:pt x="4" y="44"/>
                      </a:lnTo>
                      <a:lnTo>
                        <a:pt x="0" y="36"/>
                      </a:lnTo>
                      <a:lnTo>
                        <a:pt x="0" y="27"/>
                      </a:lnTo>
                      <a:lnTo>
                        <a:pt x="1" y="21"/>
                      </a:lnTo>
                      <a:lnTo>
                        <a:pt x="4" y="13"/>
                      </a:lnTo>
                      <a:lnTo>
                        <a:pt x="10" y="8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282480" y="4904640"/>
                  <a:ext cx="171720" cy="356760"/>
                </a:xfrm>
                <a:custGeom>
                  <a:avLst/>
                  <a:gdLst/>
                  <a:ahLst/>
                  <a:rect l="l" t="t" r="r" b="b"/>
                  <a:pathLst>
                    <a:path w="658" h="1362">
                      <a:moveTo>
                        <a:pt x="53" y="71"/>
                      </a:moveTo>
                      <a:lnTo>
                        <a:pt x="57" y="65"/>
                      </a:lnTo>
                      <a:lnTo>
                        <a:pt x="64" y="59"/>
                      </a:lnTo>
                      <a:lnTo>
                        <a:pt x="71" y="54"/>
                      </a:lnTo>
                      <a:lnTo>
                        <a:pt x="79" y="50"/>
                      </a:lnTo>
                      <a:lnTo>
                        <a:pt x="85" y="44"/>
                      </a:lnTo>
                      <a:lnTo>
                        <a:pt x="93" y="39"/>
                      </a:lnTo>
                      <a:lnTo>
                        <a:pt x="99" y="34"/>
                      </a:lnTo>
                      <a:lnTo>
                        <a:pt x="107" y="28"/>
                      </a:lnTo>
                      <a:lnTo>
                        <a:pt x="121" y="23"/>
                      </a:lnTo>
                      <a:lnTo>
                        <a:pt x="136" y="18"/>
                      </a:lnTo>
                      <a:lnTo>
                        <a:pt x="152" y="12"/>
                      </a:lnTo>
                      <a:lnTo>
                        <a:pt x="168" y="9"/>
                      </a:lnTo>
                      <a:lnTo>
                        <a:pt x="184" y="5"/>
                      </a:lnTo>
                      <a:lnTo>
                        <a:pt x="200" y="1"/>
                      </a:lnTo>
                      <a:lnTo>
                        <a:pt x="216" y="0"/>
                      </a:lnTo>
                      <a:lnTo>
                        <a:pt x="233" y="1"/>
                      </a:lnTo>
                      <a:lnTo>
                        <a:pt x="250" y="7"/>
                      </a:lnTo>
                      <a:lnTo>
                        <a:pt x="242" y="63"/>
                      </a:lnTo>
                      <a:lnTo>
                        <a:pt x="239" y="121"/>
                      </a:lnTo>
                      <a:lnTo>
                        <a:pt x="239" y="177"/>
                      </a:lnTo>
                      <a:lnTo>
                        <a:pt x="245" y="234"/>
                      </a:lnTo>
                      <a:lnTo>
                        <a:pt x="255" y="289"/>
                      </a:lnTo>
                      <a:lnTo>
                        <a:pt x="271" y="343"/>
                      </a:lnTo>
                      <a:lnTo>
                        <a:pt x="293" y="392"/>
                      </a:lnTo>
                      <a:lnTo>
                        <a:pt x="323" y="439"/>
                      </a:lnTo>
                      <a:lnTo>
                        <a:pt x="347" y="466"/>
                      </a:lnTo>
                      <a:lnTo>
                        <a:pt x="375" y="491"/>
                      </a:lnTo>
                      <a:lnTo>
                        <a:pt x="404" y="511"/>
                      </a:lnTo>
                      <a:lnTo>
                        <a:pt x="437" y="529"/>
                      </a:lnTo>
                      <a:lnTo>
                        <a:pt x="469" y="544"/>
                      </a:lnTo>
                      <a:lnTo>
                        <a:pt x="504" y="557"/>
                      </a:lnTo>
                      <a:lnTo>
                        <a:pt x="539" y="567"/>
                      </a:lnTo>
                      <a:lnTo>
                        <a:pt x="577" y="576"/>
                      </a:lnTo>
                      <a:lnTo>
                        <a:pt x="586" y="576"/>
                      </a:lnTo>
                      <a:lnTo>
                        <a:pt x="597" y="576"/>
                      </a:lnTo>
                      <a:lnTo>
                        <a:pt x="607" y="574"/>
                      </a:lnTo>
                      <a:lnTo>
                        <a:pt x="617" y="573"/>
                      </a:lnTo>
                      <a:lnTo>
                        <a:pt x="627" y="570"/>
                      </a:lnTo>
                      <a:lnTo>
                        <a:pt x="638" y="568"/>
                      </a:lnTo>
                      <a:lnTo>
                        <a:pt x="647" y="566"/>
                      </a:lnTo>
                      <a:lnTo>
                        <a:pt x="658" y="566"/>
                      </a:lnTo>
                      <a:lnTo>
                        <a:pt x="657" y="594"/>
                      </a:lnTo>
                      <a:lnTo>
                        <a:pt x="656" y="624"/>
                      </a:lnTo>
                      <a:lnTo>
                        <a:pt x="653" y="654"/>
                      </a:lnTo>
                      <a:lnTo>
                        <a:pt x="649" y="685"/>
                      </a:lnTo>
                      <a:lnTo>
                        <a:pt x="644" y="714"/>
                      </a:lnTo>
                      <a:lnTo>
                        <a:pt x="638" y="744"/>
                      </a:lnTo>
                      <a:lnTo>
                        <a:pt x="629" y="773"/>
                      </a:lnTo>
                      <a:lnTo>
                        <a:pt x="619" y="801"/>
                      </a:lnTo>
                      <a:lnTo>
                        <a:pt x="614" y="813"/>
                      </a:lnTo>
                      <a:lnTo>
                        <a:pt x="610" y="826"/>
                      </a:lnTo>
                      <a:lnTo>
                        <a:pt x="603" y="837"/>
                      </a:lnTo>
                      <a:lnTo>
                        <a:pt x="598" y="850"/>
                      </a:lnTo>
                      <a:lnTo>
                        <a:pt x="590" y="861"/>
                      </a:lnTo>
                      <a:lnTo>
                        <a:pt x="583" y="873"/>
                      </a:lnTo>
                      <a:lnTo>
                        <a:pt x="574" y="884"/>
                      </a:lnTo>
                      <a:lnTo>
                        <a:pt x="567" y="895"/>
                      </a:lnTo>
                      <a:lnTo>
                        <a:pt x="567" y="903"/>
                      </a:lnTo>
                      <a:lnTo>
                        <a:pt x="565" y="913"/>
                      </a:lnTo>
                      <a:lnTo>
                        <a:pt x="564" y="920"/>
                      </a:lnTo>
                      <a:lnTo>
                        <a:pt x="567" y="930"/>
                      </a:lnTo>
                      <a:lnTo>
                        <a:pt x="564" y="939"/>
                      </a:lnTo>
                      <a:lnTo>
                        <a:pt x="562" y="949"/>
                      </a:lnTo>
                      <a:lnTo>
                        <a:pt x="558" y="960"/>
                      </a:lnTo>
                      <a:lnTo>
                        <a:pt x="555" y="970"/>
                      </a:lnTo>
                      <a:lnTo>
                        <a:pt x="551" y="980"/>
                      </a:lnTo>
                      <a:lnTo>
                        <a:pt x="548" y="991"/>
                      </a:lnTo>
                      <a:lnTo>
                        <a:pt x="545" y="1002"/>
                      </a:lnTo>
                      <a:lnTo>
                        <a:pt x="544" y="1013"/>
                      </a:lnTo>
                      <a:lnTo>
                        <a:pt x="537" y="1024"/>
                      </a:lnTo>
                      <a:lnTo>
                        <a:pt x="531" y="1036"/>
                      </a:lnTo>
                      <a:lnTo>
                        <a:pt x="527" y="1048"/>
                      </a:lnTo>
                      <a:lnTo>
                        <a:pt x="524" y="1061"/>
                      </a:lnTo>
                      <a:lnTo>
                        <a:pt x="521" y="1072"/>
                      </a:lnTo>
                      <a:lnTo>
                        <a:pt x="518" y="1085"/>
                      </a:lnTo>
                      <a:lnTo>
                        <a:pt x="513" y="1098"/>
                      </a:lnTo>
                      <a:lnTo>
                        <a:pt x="509" y="1111"/>
                      </a:lnTo>
                      <a:lnTo>
                        <a:pt x="503" y="1117"/>
                      </a:lnTo>
                      <a:lnTo>
                        <a:pt x="498" y="1125"/>
                      </a:lnTo>
                      <a:lnTo>
                        <a:pt x="495" y="1133"/>
                      </a:lnTo>
                      <a:lnTo>
                        <a:pt x="492" y="1141"/>
                      </a:lnTo>
                      <a:lnTo>
                        <a:pt x="488" y="1149"/>
                      </a:lnTo>
                      <a:lnTo>
                        <a:pt x="484" y="1157"/>
                      </a:lnTo>
                      <a:lnTo>
                        <a:pt x="479" y="1165"/>
                      </a:lnTo>
                      <a:lnTo>
                        <a:pt x="474" y="1172"/>
                      </a:lnTo>
                      <a:lnTo>
                        <a:pt x="472" y="1179"/>
                      </a:lnTo>
                      <a:lnTo>
                        <a:pt x="472" y="1187"/>
                      </a:lnTo>
                      <a:lnTo>
                        <a:pt x="471" y="1195"/>
                      </a:lnTo>
                      <a:lnTo>
                        <a:pt x="470" y="1203"/>
                      </a:lnTo>
                      <a:lnTo>
                        <a:pt x="468" y="1210"/>
                      </a:lnTo>
                      <a:lnTo>
                        <a:pt x="467" y="1218"/>
                      </a:lnTo>
                      <a:lnTo>
                        <a:pt x="465" y="1226"/>
                      </a:lnTo>
                      <a:lnTo>
                        <a:pt x="464" y="1234"/>
                      </a:lnTo>
                      <a:lnTo>
                        <a:pt x="457" y="1240"/>
                      </a:lnTo>
                      <a:lnTo>
                        <a:pt x="454" y="1246"/>
                      </a:lnTo>
                      <a:lnTo>
                        <a:pt x="450" y="1253"/>
                      </a:lnTo>
                      <a:lnTo>
                        <a:pt x="447" y="1259"/>
                      </a:lnTo>
                      <a:lnTo>
                        <a:pt x="442" y="1265"/>
                      </a:lnTo>
                      <a:lnTo>
                        <a:pt x="438" y="1270"/>
                      </a:lnTo>
                      <a:lnTo>
                        <a:pt x="433" y="1275"/>
                      </a:lnTo>
                      <a:lnTo>
                        <a:pt x="427" y="1281"/>
                      </a:lnTo>
                      <a:lnTo>
                        <a:pt x="425" y="1290"/>
                      </a:lnTo>
                      <a:lnTo>
                        <a:pt x="411" y="1300"/>
                      </a:lnTo>
                      <a:lnTo>
                        <a:pt x="401" y="1311"/>
                      </a:lnTo>
                      <a:lnTo>
                        <a:pt x="389" y="1321"/>
                      </a:lnTo>
                      <a:lnTo>
                        <a:pt x="379" y="1333"/>
                      </a:lnTo>
                      <a:lnTo>
                        <a:pt x="366" y="1342"/>
                      </a:lnTo>
                      <a:lnTo>
                        <a:pt x="355" y="1351"/>
                      </a:lnTo>
                      <a:lnTo>
                        <a:pt x="341" y="1358"/>
                      </a:lnTo>
                      <a:lnTo>
                        <a:pt x="327" y="1362"/>
                      </a:lnTo>
                      <a:lnTo>
                        <a:pt x="334" y="1325"/>
                      </a:lnTo>
                      <a:lnTo>
                        <a:pt x="343" y="1288"/>
                      </a:lnTo>
                      <a:lnTo>
                        <a:pt x="352" y="1252"/>
                      </a:lnTo>
                      <a:lnTo>
                        <a:pt x="362" y="1215"/>
                      </a:lnTo>
                      <a:lnTo>
                        <a:pt x="372" y="1178"/>
                      </a:lnTo>
                      <a:lnTo>
                        <a:pt x="382" y="1141"/>
                      </a:lnTo>
                      <a:lnTo>
                        <a:pt x="395" y="1106"/>
                      </a:lnTo>
                      <a:lnTo>
                        <a:pt x="409" y="1071"/>
                      </a:lnTo>
                      <a:lnTo>
                        <a:pt x="415" y="1042"/>
                      </a:lnTo>
                      <a:lnTo>
                        <a:pt x="420" y="1016"/>
                      </a:lnTo>
                      <a:lnTo>
                        <a:pt x="424" y="988"/>
                      </a:lnTo>
                      <a:lnTo>
                        <a:pt x="429" y="961"/>
                      </a:lnTo>
                      <a:lnTo>
                        <a:pt x="431" y="932"/>
                      </a:lnTo>
                      <a:lnTo>
                        <a:pt x="432" y="903"/>
                      </a:lnTo>
                      <a:lnTo>
                        <a:pt x="431" y="873"/>
                      </a:lnTo>
                      <a:lnTo>
                        <a:pt x="430" y="844"/>
                      </a:lnTo>
                      <a:lnTo>
                        <a:pt x="410" y="772"/>
                      </a:lnTo>
                      <a:lnTo>
                        <a:pt x="388" y="703"/>
                      </a:lnTo>
                      <a:lnTo>
                        <a:pt x="359" y="637"/>
                      </a:lnTo>
                      <a:lnTo>
                        <a:pt x="326" y="573"/>
                      </a:lnTo>
                      <a:lnTo>
                        <a:pt x="286" y="511"/>
                      </a:lnTo>
                      <a:lnTo>
                        <a:pt x="243" y="453"/>
                      </a:lnTo>
                      <a:lnTo>
                        <a:pt x="195" y="394"/>
                      </a:lnTo>
                      <a:lnTo>
                        <a:pt x="142" y="339"/>
                      </a:lnTo>
                      <a:lnTo>
                        <a:pt x="123" y="320"/>
                      </a:lnTo>
                      <a:lnTo>
                        <a:pt x="104" y="301"/>
                      </a:lnTo>
                      <a:lnTo>
                        <a:pt x="84" y="282"/>
                      </a:lnTo>
                      <a:lnTo>
                        <a:pt x="66" y="262"/>
                      </a:lnTo>
                      <a:lnTo>
                        <a:pt x="47" y="241"/>
                      </a:lnTo>
                      <a:lnTo>
                        <a:pt x="31" y="220"/>
                      </a:lnTo>
                      <a:lnTo>
                        <a:pt x="17" y="198"/>
                      </a:lnTo>
                      <a:lnTo>
                        <a:pt x="6" y="176"/>
                      </a:lnTo>
                      <a:lnTo>
                        <a:pt x="0" y="168"/>
                      </a:lnTo>
                      <a:lnTo>
                        <a:pt x="0" y="160"/>
                      </a:lnTo>
                      <a:lnTo>
                        <a:pt x="2" y="151"/>
                      </a:lnTo>
                      <a:lnTo>
                        <a:pt x="4" y="142"/>
                      </a:lnTo>
                      <a:lnTo>
                        <a:pt x="8" y="131"/>
                      </a:lnTo>
                      <a:lnTo>
                        <a:pt x="13" y="122"/>
                      </a:lnTo>
                      <a:lnTo>
                        <a:pt x="20" y="113"/>
                      </a:lnTo>
                      <a:lnTo>
                        <a:pt x="26" y="104"/>
                      </a:lnTo>
                      <a:lnTo>
                        <a:pt x="33" y="95"/>
                      </a:lnTo>
                      <a:lnTo>
                        <a:pt x="39" y="87"/>
                      </a:lnTo>
                      <a:lnTo>
                        <a:pt x="46" y="79"/>
                      </a:lnTo>
                      <a:lnTo>
                        <a:pt x="53" y="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308400" y="4766760"/>
                  <a:ext cx="262440" cy="283320"/>
                </a:xfrm>
                <a:custGeom>
                  <a:avLst/>
                  <a:gdLst/>
                  <a:ahLst/>
                  <a:rect l="l" t="t" r="r" b="b"/>
                  <a:pathLst>
                    <a:path w="999" h="1079">
                      <a:moveTo>
                        <a:pt x="54" y="287"/>
                      </a:moveTo>
                      <a:lnTo>
                        <a:pt x="63" y="279"/>
                      </a:lnTo>
                      <a:lnTo>
                        <a:pt x="72" y="273"/>
                      </a:lnTo>
                      <a:lnTo>
                        <a:pt x="83" y="270"/>
                      </a:lnTo>
                      <a:lnTo>
                        <a:pt x="95" y="269"/>
                      </a:lnTo>
                      <a:lnTo>
                        <a:pt x="107" y="268"/>
                      </a:lnTo>
                      <a:lnTo>
                        <a:pt x="118" y="269"/>
                      </a:lnTo>
                      <a:lnTo>
                        <a:pt x="129" y="271"/>
                      </a:lnTo>
                      <a:lnTo>
                        <a:pt x="141" y="274"/>
                      </a:lnTo>
                      <a:lnTo>
                        <a:pt x="147" y="279"/>
                      </a:lnTo>
                      <a:lnTo>
                        <a:pt x="155" y="284"/>
                      </a:lnTo>
                      <a:lnTo>
                        <a:pt x="160" y="290"/>
                      </a:lnTo>
                      <a:lnTo>
                        <a:pt x="167" y="298"/>
                      </a:lnTo>
                      <a:lnTo>
                        <a:pt x="172" y="304"/>
                      </a:lnTo>
                      <a:lnTo>
                        <a:pt x="179" y="312"/>
                      </a:lnTo>
                      <a:lnTo>
                        <a:pt x="184" y="319"/>
                      </a:lnTo>
                      <a:lnTo>
                        <a:pt x="190" y="328"/>
                      </a:lnTo>
                      <a:lnTo>
                        <a:pt x="189" y="333"/>
                      </a:lnTo>
                      <a:lnTo>
                        <a:pt x="195" y="337"/>
                      </a:lnTo>
                      <a:lnTo>
                        <a:pt x="199" y="333"/>
                      </a:lnTo>
                      <a:lnTo>
                        <a:pt x="203" y="330"/>
                      </a:lnTo>
                      <a:lnTo>
                        <a:pt x="206" y="325"/>
                      </a:lnTo>
                      <a:lnTo>
                        <a:pt x="211" y="319"/>
                      </a:lnTo>
                      <a:lnTo>
                        <a:pt x="214" y="313"/>
                      </a:lnTo>
                      <a:lnTo>
                        <a:pt x="217" y="308"/>
                      </a:lnTo>
                      <a:lnTo>
                        <a:pt x="220" y="301"/>
                      </a:lnTo>
                      <a:lnTo>
                        <a:pt x="225" y="297"/>
                      </a:lnTo>
                      <a:lnTo>
                        <a:pt x="245" y="273"/>
                      </a:lnTo>
                      <a:lnTo>
                        <a:pt x="269" y="252"/>
                      </a:lnTo>
                      <a:lnTo>
                        <a:pt x="293" y="231"/>
                      </a:lnTo>
                      <a:lnTo>
                        <a:pt x="320" y="213"/>
                      </a:lnTo>
                      <a:lnTo>
                        <a:pt x="347" y="196"/>
                      </a:lnTo>
                      <a:lnTo>
                        <a:pt x="376" y="181"/>
                      </a:lnTo>
                      <a:lnTo>
                        <a:pt x="405" y="167"/>
                      </a:lnTo>
                      <a:lnTo>
                        <a:pt x="434" y="156"/>
                      </a:lnTo>
                      <a:lnTo>
                        <a:pt x="458" y="147"/>
                      </a:lnTo>
                      <a:lnTo>
                        <a:pt x="484" y="137"/>
                      </a:lnTo>
                      <a:lnTo>
                        <a:pt x="511" y="127"/>
                      </a:lnTo>
                      <a:lnTo>
                        <a:pt x="538" y="120"/>
                      </a:lnTo>
                      <a:lnTo>
                        <a:pt x="565" y="113"/>
                      </a:lnTo>
                      <a:lnTo>
                        <a:pt x="592" y="110"/>
                      </a:lnTo>
                      <a:lnTo>
                        <a:pt x="620" y="110"/>
                      </a:lnTo>
                      <a:lnTo>
                        <a:pt x="649" y="114"/>
                      </a:lnTo>
                      <a:lnTo>
                        <a:pt x="655" y="118"/>
                      </a:lnTo>
                      <a:lnTo>
                        <a:pt x="663" y="119"/>
                      </a:lnTo>
                      <a:lnTo>
                        <a:pt x="668" y="112"/>
                      </a:lnTo>
                      <a:lnTo>
                        <a:pt x="669" y="107"/>
                      </a:lnTo>
                      <a:lnTo>
                        <a:pt x="661" y="98"/>
                      </a:lnTo>
                      <a:lnTo>
                        <a:pt x="655" y="93"/>
                      </a:lnTo>
                      <a:lnTo>
                        <a:pt x="650" y="85"/>
                      </a:lnTo>
                      <a:lnTo>
                        <a:pt x="647" y="78"/>
                      </a:lnTo>
                      <a:lnTo>
                        <a:pt x="647" y="69"/>
                      </a:lnTo>
                      <a:lnTo>
                        <a:pt x="648" y="61"/>
                      </a:lnTo>
                      <a:lnTo>
                        <a:pt x="650" y="51"/>
                      </a:lnTo>
                      <a:lnTo>
                        <a:pt x="654" y="44"/>
                      </a:lnTo>
                      <a:lnTo>
                        <a:pt x="657" y="34"/>
                      </a:lnTo>
                      <a:lnTo>
                        <a:pt x="661" y="27"/>
                      </a:lnTo>
                      <a:lnTo>
                        <a:pt x="668" y="20"/>
                      </a:lnTo>
                      <a:lnTo>
                        <a:pt x="675" y="16"/>
                      </a:lnTo>
                      <a:lnTo>
                        <a:pt x="684" y="10"/>
                      </a:lnTo>
                      <a:lnTo>
                        <a:pt x="693" y="6"/>
                      </a:lnTo>
                      <a:lnTo>
                        <a:pt x="702" y="2"/>
                      </a:lnTo>
                      <a:lnTo>
                        <a:pt x="713" y="1"/>
                      </a:lnTo>
                      <a:lnTo>
                        <a:pt x="723" y="0"/>
                      </a:lnTo>
                      <a:lnTo>
                        <a:pt x="734" y="3"/>
                      </a:lnTo>
                      <a:lnTo>
                        <a:pt x="745" y="5"/>
                      </a:lnTo>
                      <a:lnTo>
                        <a:pt x="757" y="11"/>
                      </a:lnTo>
                      <a:lnTo>
                        <a:pt x="765" y="17"/>
                      </a:lnTo>
                      <a:lnTo>
                        <a:pt x="775" y="25"/>
                      </a:lnTo>
                      <a:lnTo>
                        <a:pt x="782" y="34"/>
                      </a:lnTo>
                      <a:lnTo>
                        <a:pt x="789" y="44"/>
                      </a:lnTo>
                      <a:lnTo>
                        <a:pt x="793" y="59"/>
                      </a:lnTo>
                      <a:lnTo>
                        <a:pt x="797" y="75"/>
                      </a:lnTo>
                      <a:lnTo>
                        <a:pt x="798" y="91"/>
                      </a:lnTo>
                      <a:lnTo>
                        <a:pt x="798" y="108"/>
                      </a:lnTo>
                      <a:lnTo>
                        <a:pt x="795" y="124"/>
                      </a:lnTo>
                      <a:lnTo>
                        <a:pt x="792" y="140"/>
                      </a:lnTo>
                      <a:lnTo>
                        <a:pt x="787" y="155"/>
                      </a:lnTo>
                      <a:lnTo>
                        <a:pt x="780" y="169"/>
                      </a:lnTo>
                      <a:lnTo>
                        <a:pt x="779" y="168"/>
                      </a:lnTo>
                      <a:lnTo>
                        <a:pt x="767" y="181"/>
                      </a:lnTo>
                      <a:lnTo>
                        <a:pt x="762" y="178"/>
                      </a:lnTo>
                      <a:lnTo>
                        <a:pt x="759" y="173"/>
                      </a:lnTo>
                      <a:lnTo>
                        <a:pt x="756" y="167"/>
                      </a:lnTo>
                      <a:lnTo>
                        <a:pt x="754" y="163"/>
                      </a:lnTo>
                      <a:lnTo>
                        <a:pt x="751" y="157"/>
                      </a:lnTo>
                      <a:lnTo>
                        <a:pt x="749" y="155"/>
                      </a:lnTo>
                      <a:lnTo>
                        <a:pt x="745" y="156"/>
                      </a:lnTo>
                      <a:lnTo>
                        <a:pt x="741" y="162"/>
                      </a:lnTo>
                      <a:lnTo>
                        <a:pt x="744" y="170"/>
                      </a:lnTo>
                      <a:lnTo>
                        <a:pt x="747" y="180"/>
                      </a:lnTo>
                      <a:lnTo>
                        <a:pt x="750" y="188"/>
                      </a:lnTo>
                      <a:lnTo>
                        <a:pt x="758" y="198"/>
                      </a:lnTo>
                      <a:lnTo>
                        <a:pt x="753" y="196"/>
                      </a:lnTo>
                      <a:lnTo>
                        <a:pt x="750" y="195"/>
                      </a:lnTo>
                      <a:lnTo>
                        <a:pt x="747" y="193"/>
                      </a:lnTo>
                      <a:lnTo>
                        <a:pt x="744" y="195"/>
                      </a:lnTo>
                      <a:lnTo>
                        <a:pt x="753" y="199"/>
                      </a:lnTo>
                      <a:lnTo>
                        <a:pt x="763" y="207"/>
                      </a:lnTo>
                      <a:lnTo>
                        <a:pt x="771" y="215"/>
                      </a:lnTo>
                      <a:lnTo>
                        <a:pt x="779" y="225"/>
                      </a:lnTo>
                      <a:lnTo>
                        <a:pt x="787" y="235"/>
                      </a:lnTo>
                      <a:lnTo>
                        <a:pt x="794" y="245"/>
                      </a:lnTo>
                      <a:lnTo>
                        <a:pt x="802" y="255"/>
                      </a:lnTo>
                      <a:lnTo>
                        <a:pt x="812" y="265"/>
                      </a:lnTo>
                      <a:lnTo>
                        <a:pt x="851" y="308"/>
                      </a:lnTo>
                      <a:lnTo>
                        <a:pt x="890" y="354"/>
                      </a:lnTo>
                      <a:lnTo>
                        <a:pt x="924" y="401"/>
                      </a:lnTo>
                      <a:lnTo>
                        <a:pt x="954" y="452"/>
                      </a:lnTo>
                      <a:lnTo>
                        <a:pt x="976" y="505"/>
                      </a:lnTo>
                      <a:lnTo>
                        <a:pt x="993" y="561"/>
                      </a:lnTo>
                      <a:lnTo>
                        <a:pt x="999" y="618"/>
                      </a:lnTo>
                      <a:lnTo>
                        <a:pt x="997" y="679"/>
                      </a:lnTo>
                      <a:lnTo>
                        <a:pt x="985" y="715"/>
                      </a:lnTo>
                      <a:lnTo>
                        <a:pt x="973" y="753"/>
                      </a:lnTo>
                      <a:lnTo>
                        <a:pt x="958" y="788"/>
                      </a:lnTo>
                      <a:lnTo>
                        <a:pt x="942" y="824"/>
                      </a:lnTo>
                      <a:lnTo>
                        <a:pt x="922" y="856"/>
                      </a:lnTo>
                      <a:lnTo>
                        <a:pt x="899" y="888"/>
                      </a:lnTo>
                      <a:lnTo>
                        <a:pt x="872" y="917"/>
                      </a:lnTo>
                      <a:lnTo>
                        <a:pt x="843" y="946"/>
                      </a:lnTo>
                      <a:lnTo>
                        <a:pt x="837" y="962"/>
                      </a:lnTo>
                      <a:lnTo>
                        <a:pt x="827" y="978"/>
                      </a:lnTo>
                      <a:lnTo>
                        <a:pt x="816" y="993"/>
                      </a:lnTo>
                      <a:lnTo>
                        <a:pt x="803" y="1008"/>
                      </a:lnTo>
                      <a:lnTo>
                        <a:pt x="787" y="1020"/>
                      </a:lnTo>
                      <a:lnTo>
                        <a:pt x="771" y="1031"/>
                      </a:lnTo>
                      <a:lnTo>
                        <a:pt x="753" y="1038"/>
                      </a:lnTo>
                      <a:lnTo>
                        <a:pt x="736" y="1045"/>
                      </a:lnTo>
                      <a:lnTo>
                        <a:pt x="727" y="1045"/>
                      </a:lnTo>
                      <a:lnTo>
                        <a:pt x="717" y="1045"/>
                      </a:lnTo>
                      <a:lnTo>
                        <a:pt x="708" y="1043"/>
                      </a:lnTo>
                      <a:lnTo>
                        <a:pt x="701" y="1042"/>
                      </a:lnTo>
                      <a:lnTo>
                        <a:pt x="692" y="1038"/>
                      </a:lnTo>
                      <a:lnTo>
                        <a:pt x="685" y="1036"/>
                      </a:lnTo>
                      <a:lnTo>
                        <a:pt x="677" y="1034"/>
                      </a:lnTo>
                      <a:lnTo>
                        <a:pt x="670" y="1033"/>
                      </a:lnTo>
                      <a:lnTo>
                        <a:pt x="638" y="1044"/>
                      </a:lnTo>
                      <a:lnTo>
                        <a:pt x="605" y="1056"/>
                      </a:lnTo>
                      <a:lnTo>
                        <a:pt x="572" y="1066"/>
                      </a:lnTo>
                      <a:lnTo>
                        <a:pt x="539" y="1075"/>
                      </a:lnTo>
                      <a:lnTo>
                        <a:pt x="505" y="1079"/>
                      </a:lnTo>
                      <a:lnTo>
                        <a:pt x="470" y="1079"/>
                      </a:lnTo>
                      <a:lnTo>
                        <a:pt x="436" y="1074"/>
                      </a:lnTo>
                      <a:lnTo>
                        <a:pt x="404" y="1062"/>
                      </a:lnTo>
                      <a:lnTo>
                        <a:pt x="380" y="1054"/>
                      </a:lnTo>
                      <a:lnTo>
                        <a:pt x="360" y="1044"/>
                      </a:lnTo>
                      <a:lnTo>
                        <a:pt x="340" y="1031"/>
                      </a:lnTo>
                      <a:lnTo>
                        <a:pt x="322" y="1017"/>
                      </a:lnTo>
                      <a:lnTo>
                        <a:pt x="303" y="1000"/>
                      </a:lnTo>
                      <a:lnTo>
                        <a:pt x="286" y="984"/>
                      </a:lnTo>
                      <a:lnTo>
                        <a:pt x="269" y="968"/>
                      </a:lnTo>
                      <a:lnTo>
                        <a:pt x="253" y="956"/>
                      </a:lnTo>
                      <a:lnTo>
                        <a:pt x="230" y="929"/>
                      </a:lnTo>
                      <a:lnTo>
                        <a:pt x="212" y="900"/>
                      </a:lnTo>
                      <a:lnTo>
                        <a:pt x="196" y="870"/>
                      </a:lnTo>
                      <a:lnTo>
                        <a:pt x="183" y="839"/>
                      </a:lnTo>
                      <a:lnTo>
                        <a:pt x="172" y="804"/>
                      </a:lnTo>
                      <a:lnTo>
                        <a:pt x="164" y="772"/>
                      </a:lnTo>
                      <a:lnTo>
                        <a:pt x="157" y="739"/>
                      </a:lnTo>
                      <a:lnTo>
                        <a:pt x="153" y="707"/>
                      </a:lnTo>
                      <a:lnTo>
                        <a:pt x="153" y="678"/>
                      </a:lnTo>
                      <a:lnTo>
                        <a:pt x="156" y="649"/>
                      </a:lnTo>
                      <a:lnTo>
                        <a:pt x="158" y="621"/>
                      </a:lnTo>
                      <a:lnTo>
                        <a:pt x="161" y="594"/>
                      </a:lnTo>
                      <a:lnTo>
                        <a:pt x="164" y="566"/>
                      </a:lnTo>
                      <a:lnTo>
                        <a:pt x="166" y="539"/>
                      </a:lnTo>
                      <a:lnTo>
                        <a:pt x="167" y="511"/>
                      </a:lnTo>
                      <a:lnTo>
                        <a:pt x="168" y="485"/>
                      </a:lnTo>
                      <a:lnTo>
                        <a:pt x="164" y="478"/>
                      </a:lnTo>
                      <a:lnTo>
                        <a:pt x="158" y="474"/>
                      </a:lnTo>
                      <a:lnTo>
                        <a:pt x="151" y="474"/>
                      </a:lnTo>
                      <a:lnTo>
                        <a:pt x="145" y="479"/>
                      </a:lnTo>
                      <a:lnTo>
                        <a:pt x="133" y="487"/>
                      </a:lnTo>
                      <a:lnTo>
                        <a:pt x="122" y="491"/>
                      </a:lnTo>
                      <a:lnTo>
                        <a:pt x="109" y="493"/>
                      </a:lnTo>
                      <a:lnTo>
                        <a:pt x="96" y="494"/>
                      </a:lnTo>
                      <a:lnTo>
                        <a:pt x="82" y="492"/>
                      </a:lnTo>
                      <a:lnTo>
                        <a:pt x="69" y="490"/>
                      </a:lnTo>
                      <a:lnTo>
                        <a:pt x="56" y="487"/>
                      </a:lnTo>
                      <a:lnTo>
                        <a:pt x="47" y="485"/>
                      </a:lnTo>
                      <a:lnTo>
                        <a:pt x="41" y="474"/>
                      </a:lnTo>
                      <a:lnTo>
                        <a:pt x="36" y="465"/>
                      </a:lnTo>
                      <a:lnTo>
                        <a:pt x="27" y="459"/>
                      </a:lnTo>
                      <a:lnTo>
                        <a:pt x="19" y="452"/>
                      </a:lnTo>
                      <a:lnTo>
                        <a:pt x="10" y="444"/>
                      </a:lnTo>
                      <a:lnTo>
                        <a:pt x="5" y="436"/>
                      </a:lnTo>
                      <a:lnTo>
                        <a:pt x="0" y="427"/>
                      </a:lnTo>
                      <a:lnTo>
                        <a:pt x="2" y="415"/>
                      </a:lnTo>
                      <a:lnTo>
                        <a:pt x="0" y="396"/>
                      </a:lnTo>
                      <a:lnTo>
                        <a:pt x="3" y="378"/>
                      </a:lnTo>
                      <a:lnTo>
                        <a:pt x="6" y="362"/>
                      </a:lnTo>
                      <a:lnTo>
                        <a:pt x="13" y="346"/>
                      </a:lnTo>
                      <a:lnTo>
                        <a:pt x="21" y="330"/>
                      </a:lnTo>
                      <a:lnTo>
                        <a:pt x="31" y="315"/>
                      </a:lnTo>
                      <a:lnTo>
                        <a:pt x="41" y="300"/>
                      </a:lnTo>
                      <a:lnTo>
                        <a:pt x="54" y="2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327120" y="486108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98" h="77">
                      <a:moveTo>
                        <a:pt x="48" y="0"/>
                      </a:moveTo>
                      <a:lnTo>
                        <a:pt x="54" y="0"/>
                      </a:lnTo>
                      <a:lnTo>
                        <a:pt x="60" y="1"/>
                      </a:lnTo>
                      <a:lnTo>
                        <a:pt x="66" y="2"/>
                      </a:lnTo>
                      <a:lnTo>
                        <a:pt x="72" y="5"/>
                      </a:lnTo>
                      <a:lnTo>
                        <a:pt x="77" y="6"/>
                      </a:lnTo>
                      <a:lnTo>
                        <a:pt x="84" y="8"/>
                      </a:lnTo>
                      <a:lnTo>
                        <a:pt x="90" y="8"/>
                      </a:lnTo>
                      <a:lnTo>
                        <a:pt x="98" y="9"/>
                      </a:lnTo>
                      <a:lnTo>
                        <a:pt x="98" y="13"/>
                      </a:lnTo>
                      <a:lnTo>
                        <a:pt x="96" y="17"/>
                      </a:lnTo>
                      <a:lnTo>
                        <a:pt x="94" y="19"/>
                      </a:lnTo>
                      <a:lnTo>
                        <a:pt x="92" y="23"/>
                      </a:lnTo>
                      <a:lnTo>
                        <a:pt x="84" y="23"/>
                      </a:lnTo>
                      <a:lnTo>
                        <a:pt x="75" y="20"/>
                      </a:lnTo>
                      <a:lnTo>
                        <a:pt x="67" y="18"/>
                      </a:lnTo>
                      <a:lnTo>
                        <a:pt x="59" y="16"/>
                      </a:lnTo>
                      <a:lnTo>
                        <a:pt x="51" y="14"/>
                      </a:lnTo>
                      <a:lnTo>
                        <a:pt x="43" y="15"/>
                      </a:lnTo>
                      <a:lnTo>
                        <a:pt x="37" y="19"/>
                      </a:lnTo>
                      <a:lnTo>
                        <a:pt x="32" y="30"/>
                      </a:lnTo>
                      <a:lnTo>
                        <a:pt x="26" y="33"/>
                      </a:lnTo>
                      <a:lnTo>
                        <a:pt x="23" y="40"/>
                      </a:lnTo>
                      <a:lnTo>
                        <a:pt x="20" y="45"/>
                      </a:lnTo>
                      <a:lnTo>
                        <a:pt x="17" y="52"/>
                      </a:lnTo>
                      <a:lnTo>
                        <a:pt x="14" y="57"/>
                      </a:lnTo>
                      <a:lnTo>
                        <a:pt x="14" y="63"/>
                      </a:lnTo>
                      <a:lnTo>
                        <a:pt x="13" y="70"/>
                      </a:lnTo>
                      <a:lnTo>
                        <a:pt x="14" y="76"/>
                      </a:lnTo>
                      <a:lnTo>
                        <a:pt x="8" y="77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1" y="57"/>
                      </a:lnTo>
                      <a:lnTo>
                        <a:pt x="3" y="47"/>
                      </a:lnTo>
                      <a:lnTo>
                        <a:pt x="7" y="39"/>
                      </a:lnTo>
                      <a:lnTo>
                        <a:pt x="11" y="32"/>
                      </a:lnTo>
                      <a:lnTo>
                        <a:pt x="15" y="27"/>
                      </a:lnTo>
                      <a:lnTo>
                        <a:pt x="20" y="20"/>
                      </a:lnTo>
                      <a:lnTo>
                        <a:pt x="25" y="15"/>
                      </a:lnTo>
                      <a:lnTo>
                        <a:pt x="29" y="9"/>
                      </a:lnTo>
                      <a:lnTo>
                        <a:pt x="35" y="4"/>
                      </a:lnTo>
                      <a:lnTo>
                        <a:pt x="41" y="1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400560" y="5168520"/>
                  <a:ext cx="98280" cy="199440"/>
                </a:xfrm>
                <a:custGeom>
                  <a:avLst/>
                  <a:gdLst/>
                  <a:ahLst/>
                  <a:rect l="l" t="t" r="r" b="b"/>
                  <a:pathLst>
                    <a:path w="371" h="763">
                      <a:moveTo>
                        <a:pt x="24" y="257"/>
                      </a:moveTo>
                      <a:lnTo>
                        <a:pt x="27" y="244"/>
                      </a:lnTo>
                      <a:lnTo>
                        <a:pt x="31" y="232"/>
                      </a:lnTo>
                      <a:lnTo>
                        <a:pt x="33" y="219"/>
                      </a:lnTo>
                      <a:lnTo>
                        <a:pt x="36" y="206"/>
                      </a:lnTo>
                      <a:lnTo>
                        <a:pt x="38" y="193"/>
                      </a:lnTo>
                      <a:lnTo>
                        <a:pt x="40" y="180"/>
                      </a:lnTo>
                      <a:lnTo>
                        <a:pt x="43" y="167"/>
                      </a:lnTo>
                      <a:lnTo>
                        <a:pt x="48" y="154"/>
                      </a:lnTo>
                      <a:lnTo>
                        <a:pt x="54" y="146"/>
                      </a:lnTo>
                      <a:lnTo>
                        <a:pt x="59" y="137"/>
                      </a:lnTo>
                      <a:lnTo>
                        <a:pt x="62" y="129"/>
                      </a:lnTo>
                      <a:lnTo>
                        <a:pt x="67" y="120"/>
                      </a:lnTo>
                      <a:lnTo>
                        <a:pt x="70" y="110"/>
                      </a:lnTo>
                      <a:lnTo>
                        <a:pt x="73" y="102"/>
                      </a:lnTo>
                      <a:lnTo>
                        <a:pt x="77" y="93"/>
                      </a:lnTo>
                      <a:lnTo>
                        <a:pt x="84" y="87"/>
                      </a:lnTo>
                      <a:lnTo>
                        <a:pt x="87" y="75"/>
                      </a:lnTo>
                      <a:lnTo>
                        <a:pt x="91" y="64"/>
                      </a:lnTo>
                      <a:lnTo>
                        <a:pt x="96" y="52"/>
                      </a:lnTo>
                      <a:lnTo>
                        <a:pt x="100" y="43"/>
                      </a:lnTo>
                      <a:lnTo>
                        <a:pt x="103" y="31"/>
                      </a:lnTo>
                      <a:lnTo>
                        <a:pt x="107" y="20"/>
                      </a:lnTo>
                      <a:lnTo>
                        <a:pt x="112" y="9"/>
                      </a:lnTo>
                      <a:lnTo>
                        <a:pt x="117" y="0"/>
                      </a:lnTo>
                      <a:lnTo>
                        <a:pt x="132" y="3"/>
                      </a:lnTo>
                      <a:lnTo>
                        <a:pt x="148" y="9"/>
                      </a:lnTo>
                      <a:lnTo>
                        <a:pt x="164" y="17"/>
                      </a:lnTo>
                      <a:lnTo>
                        <a:pt x="180" y="27"/>
                      </a:lnTo>
                      <a:lnTo>
                        <a:pt x="195" y="35"/>
                      </a:lnTo>
                      <a:lnTo>
                        <a:pt x="210" y="46"/>
                      </a:lnTo>
                      <a:lnTo>
                        <a:pt x="225" y="56"/>
                      </a:lnTo>
                      <a:lnTo>
                        <a:pt x="241" y="66"/>
                      </a:lnTo>
                      <a:lnTo>
                        <a:pt x="272" y="94"/>
                      </a:lnTo>
                      <a:lnTo>
                        <a:pt x="298" y="126"/>
                      </a:lnTo>
                      <a:lnTo>
                        <a:pt x="320" y="162"/>
                      </a:lnTo>
                      <a:lnTo>
                        <a:pt x="338" y="200"/>
                      </a:lnTo>
                      <a:lnTo>
                        <a:pt x="351" y="239"/>
                      </a:lnTo>
                      <a:lnTo>
                        <a:pt x="361" y="280"/>
                      </a:lnTo>
                      <a:lnTo>
                        <a:pt x="367" y="322"/>
                      </a:lnTo>
                      <a:lnTo>
                        <a:pt x="371" y="364"/>
                      </a:lnTo>
                      <a:lnTo>
                        <a:pt x="368" y="399"/>
                      </a:lnTo>
                      <a:lnTo>
                        <a:pt x="368" y="435"/>
                      </a:lnTo>
                      <a:lnTo>
                        <a:pt x="367" y="472"/>
                      </a:lnTo>
                      <a:lnTo>
                        <a:pt x="366" y="509"/>
                      </a:lnTo>
                      <a:lnTo>
                        <a:pt x="363" y="546"/>
                      </a:lnTo>
                      <a:lnTo>
                        <a:pt x="361" y="584"/>
                      </a:lnTo>
                      <a:lnTo>
                        <a:pt x="356" y="620"/>
                      </a:lnTo>
                      <a:lnTo>
                        <a:pt x="351" y="658"/>
                      </a:lnTo>
                      <a:lnTo>
                        <a:pt x="341" y="670"/>
                      </a:lnTo>
                      <a:lnTo>
                        <a:pt x="333" y="684"/>
                      </a:lnTo>
                      <a:lnTo>
                        <a:pt x="322" y="697"/>
                      </a:lnTo>
                      <a:lnTo>
                        <a:pt x="312" y="711"/>
                      </a:lnTo>
                      <a:lnTo>
                        <a:pt x="299" y="723"/>
                      </a:lnTo>
                      <a:lnTo>
                        <a:pt x="288" y="733"/>
                      </a:lnTo>
                      <a:lnTo>
                        <a:pt x="274" y="741"/>
                      </a:lnTo>
                      <a:lnTo>
                        <a:pt x="260" y="748"/>
                      </a:lnTo>
                      <a:lnTo>
                        <a:pt x="274" y="729"/>
                      </a:lnTo>
                      <a:lnTo>
                        <a:pt x="287" y="712"/>
                      </a:lnTo>
                      <a:lnTo>
                        <a:pt x="295" y="693"/>
                      </a:lnTo>
                      <a:lnTo>
                        <a:pt x="304" y="674"/>
                      </a:lnTo>
                      <a:lnTo>
                        <a:pt x="309" y="652"/>
                      </a:lnTo>
                      <a:lnTo>
                        <a:pt x="314" y="632"/>
                      </a:lnTo>
                      <a:lnTo>
                        <a:pt x="317" y="610"/>
                      </a:lnTo>
                      <a:lnTo>
                        <a:pt x="320" y="589"/>
                      </a:lnTo>
                      <a:lnTo>
                        <a:pt x="315" y="586"/>
                      </a:lnTo>
                      <a:lnTo>
                        <a:pt x="312" y="587"/>
                      </a:lnTo>
                      <a:lnTo>
                        <a:pt x="308" y="593"/>
                      </a:lnTo>
                      <a:lnTo>
                        <a:pt x="305" y="602"/>
                      </a:lnTo>
                      <a:lnTo>
                        <a:pt x="303" y="609"/>
                      </a:lnTo>
                      <a:lnTo>
                        <a:pt x="303" y="619"/>
                      </a:lnTo>
                      <a:lnTo>
                        <a:pt x="300" y="626"/>
                      </a:lnTo>
                      <a:lnTo>
                        <a:pt x="299" y="635"/>
                      </a:lnTo>
                      <a:lnTo>
                        <a:pt x="298" y="643"/>
                      </a:lnTo>
                      <a:lnTo>
                        <a:pt x="296" y="651"/>
                      </a:lnTo>
                      <a:lnTo>
                        <a:pt x="290" y="669"/>
                      </a:lnTo>
                      <a:lnTo>
                        <a:pt x="283" y="688"/>
                      </a:lnTo>
                      <a:lnTo>
                        <a:pt x="273" y="705"/>
                      </a:lnTo>
                      <a:lnTo>
                        <a:pt x="262" y="722"/>
                      </a:lnTo>
                      <a:lnTo>
                        <a:pt x="248" y="736"/>
                      </a:lnTo>
                      <a:lnTo>
                        <a:pt x="233" y="748"/>
                      </a:lnTo>
                      <a:lnTo>
                        <a:pt x="215" y="756"/>
                      </a:lnTo>
                      <a:lnTo>
                        <a:pt x="196" y="763"/>
                      </a:lnTo>
                      <a:lnTo>
                        <a:pt x="190" y="762"/>
                      </a:lnTo>
                      <a:lnTo>
                        <a:pt x="185" y="761"/>
                      </a:lnTo>
                      <a:lnTo>
                        <a:pt x="178" y="758"/>
                      </a:lnTo>
                      <a:lnTo>
                        <a:pt x="174" y="757"/>
                      </a:lnTo>
                      <a:lnTo>
                        <a:pt x="164" y="751"/>
                      </a:lnTo>
                      <a:lnTo>
                        <a:pt x="158" y="745"/>
                      </a:lnTo>
                      <a:lnTo>
                        <a:pt x="166" y="737"/>
                      </a:lnTo>
                      <a:lnTo>
                        <a:pt x="175" y="731"/>
                      </a:lnTo>
                      <a:lnTo>
                        <a:pt x="183" y="722"/>
                      </a:lnTo>
                      <a:lnTo>
                        <a:pt x="191" y="714"/>
                      </a:lnTo>
                      <a:lnTo>
                        <a:pt x="198" y="705"/>
                      </a:lnTo>
                      <a:lnTo>
                        <a:pt x="205" y="696"/>
                      </a:lnTo>
                      <a:lnTo>
                        <a:pt x="211" y="688"/>
                      </a:lnTo>
                      <a:lnTo>
                        <a:pt x="219" y="679"/>
                      </a:lnTo>
                      <a:lnTo>
                        <a:pt x="229" y="663"/>
                      </a:lnTo>
                      <a:lnTo>
                        <a:pt x="237" y="646"/>
                      </a:lnTo>
                      <a:lnTo>
                        <a:pt x="241" y="628"/>
                      </a:lnTo>
                      <a:lnTo>
                        <a:pt x="246" y="609"/>
                      </a:lnTo>
                      <a:lnTo>
                        <a:pt x="248" y="589"/>
                      </a:lnTo>
                      <a:lnTo>
                        <a:pt x="250" y="570"/>
                      </a:lnTo>
                      <a:lnTo>
                        <a:pt x="251" y="550"/>
                      </a:lnTo>
                      <a:lnTo>
                        <a:pt x="254" y="532"/>
                      </a:lnTo>
                      <a:lnTo>
                        <a:pt x="249" y="528"/>
                      </a:lnTo>
                      <a:lnTo>
                        <a:pt x="244" y="529"/>
                      </a:lnTo>
                      <a:lnTo>
                        <a:pt x="239" y="546"/>
                      </a:lnTo>
                      <a:lnTo>
                        <a:pt x="237" y="565"/>
                      </a:lnTo>
                      <a:lnTo>
                        <a:pt x="235" y="585"/>
                      </a:lnTo>
                      <a:lnTo>
                        <a:pt x="233" y="604"/>
                      </a:lnTo>
                      <a:lnTo>
                        <a:pt x="229" y="621"/>
                      </a:lnTo>
                      <a:lnTo>
                        <a:pt x="223" y="639"/>
                      </a:lnTo>
                      <a:lnTo>
                        <a:pt x="216" y="657"/>
                      </a:lnTo>
                      <a:lnTo>
                        <a:pt x="205" y="673"/>
                      </a:lnTo>
                      <a:lnTo>
                        <a:pt x="198" y="679"/>
                      </a:lnTo>
                      <a:lnTo>
                        <a:pt x="191" y="688"/>
                      </a:lnTo>
                      <a:lnTo>
                        <a:pt x="185" y="696"/>
                      </a:lnTo>
                      <a:lnTo>
                        <a:pt x="179" y="706"/>
                      </a:lnTo>
                      <a:lnTo>
                        <a:pt x="172" y="713"/>
                      </a:lnTo>
                      <a:lnTo>
                        <a:pt x="164" y="721"/>
                      </a:lnTo>
                      <a:lnTo>
                        <a:pt x="155" y="726"/>
                      </a:lnTo>
                      <a:lnTo>
                        <a:pt x="146" y="731"/>
                      </a:lnTo>
                      <a:lnTo>
                        <a:pt x="142" y="725"/>
                      </a:lnTo>
                      <a:lnTo>
                        <a:pt x="136" y="724"/>
                      </a:lnTo>
                      <a:lnTo>
                        <a:pt x="131" y="723"/>
                      </a:lnTo>
                      <a:lnTo>
                        <a:pt x="128" y="721"/>
                      </a:lnTo>
                      <a:lnTo>
                        <a:pt x="111" y="704"/>
                      </a:lnTo>
                      <a:lnTo>
                        <a:pt x="101" y="685"/>
                      </a:lnTo>
                      <a:lnTo>
                        <a:pt x="93" y="665"/>
                      </a:lnTo>
                      <a:lnTo>
                        <a:pt x="90" y="645"/>
                      </a:lnTo>
                      <a:lnTo>
                        <a:pt x="87" y="623"/>
                      </a:lnTo>
                      <a:lnTo>
                        <a:pt x="85" y="602"/>
                      </a:lnTo>
                      <a:lnTo>
                        <a:pt x="82" y="581"/>
                      </a:lnTo>
                      <a:lnTo>
                        <a:pt x="78" y="562"/>
                      </a:lnTo>
                      <a:lnTo>
                        <a:pt x="82" y="536"/>
                      </a:lnTo>
                      <a:lnTo>
                        <a:pt x="86" y="511"/>
                      </a:lnTo>
                      <a:lnTo>
                        <a:pt x="92" y="485"/>
                      </a:lnTo>
                      <a:lnTo>
                        <a:pt x="100" y="461"/>
                      </a:lnTo>
                      <a:lnTo>
                        <a:pt x="109" y="437"/>
                      </a:lnTo>
                      <a:lnTo>
                        <a:pt x="119" y="414"/>
                      </a:lnTo>
                      <a:lnTo>
                        <a:pt x="131" y="391"/>
                      </a:lnTo>
                      <a:lnTo>
                        <a:pt x="146" y="372"/>
                      </a:lnTo>
                      <a:lnTo>
                        <a:pt x="151" y="368"/>
                      </a:lnTo>
                      <a:lnTo>
                        <a:pt x="158" y="364"/>
                      </a:lnTo>
                      <a:lnTo>
                        <a:pt x="164" y="359"/>
                      </a:lnTo>
                      <a:lnTo>
                        <a:pt x="171" y="355"/>
                      </a:lnTo>
                      <a:lnTo>
                        <a:pt x="181" y="344"/>
                      </a:lnTo>
                      <a:lnTo>
                        <a:pt x="192" y="335"/>
                      </a:lnTo>
                      <a:lnTo>
                        <a:pt x="180" y="335"/>
                      </a:lnTo>
                      <a:lnTo>
                        <a:pt x="171" y="338"/>
                      </a:lnTo>
                      <a:lnTo>
                        <a:pt x="160" y="343"/>
                      </a:lnTo>
                      <a:lnTo>
                        <a:pt x="150" y="349"/>
                      </a:lnTo>
                      <a:lnTo>
                        <a:pt x="137" y="336"/>
                      </a:lnTo>
                      <a:lnTo>
                        <a:pt x="126" y="325"/>
                      </a:lnTo>
                      <a:lnTo>
                        <a:pt x="113" y="315"/>
                      </a:lnTo>
                      <a:lnTo>
                        <a:pt x="101" y="306"/>
                      </a:lnTo>
                      <a:lnTo>
                        <a:pt x="87" y="296"/>
                      </a:lnTo>
                      <a:lnTo>
                        <a:pt x="73" y="289"/>
                      </a:lnTo>
                      <a:lnTo>
                        <a:pt x="59" y="282"/>
                      </a:lnTo>
                      <a:lnTo>
                        <a:pt x="45" y="277"/>
                      </a:lnTo>
                      <a:lnTo>
                        <a:pt x="39" y="276"/>
                      </a:lnTo>
                      <a:lnTo>
                        <a:pt x="33" y="276"/>
                      </a:lnTo>
                      <a:lnTo>
                        <a:pt x="27" y="276"/>
                      </a:lnTo>
                      <a:lnTo>
                        <a:pt x="22" y="276"/>
                      </a:lnTo>
                      <a:lnTo>
                        <a:pt x="15" y="276"/>
                      </a:lnTo>
                      <a:lnTo>
                        <a:pt x="10" y="276"/>
                      </a:lnTo>
                      <a:lnTo>
                        <a:pt x="3" y="276"/>
                      </a:lnTo>
                      <a:lnTo>
                        <a:pt x="0" y="276"/>
                      </a:lnTo>
                      <a:lnTo>
                        <a:pt x="6" y="271"/>
                      </a:lnTo>
                      <a:lnTo>
                        <a:pt x="11" y="266"/>
                      </a:lnTo>
                      <a:lnTo>
                        <a:pt x="15" y="259"/>
                      </a:lnTo>
                      <a:lnTo>
                        <a:pt x="24" y="257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403080" y="4867920"/>
                  <a:ext cx="14040" cy="23400"/>
                </a:xfrm>
                <a:custGeom>
                  <a:avLst/>
                  <a:gdLst/>
                  <a:ahLst/>
                  <a:rect l="l" t="t" r="r" b="b"/>
                  <a:pathLst>
                    <a:path w="54" h="89">
                      <a:moveTo>
                        <a:pt x="54" y="0"/>
                      </a:moveTo>
                      <a:lnTo>
                        <a:pt x="47" y="9"/>
                      </a:lnTo>
                      <a:lnTo>
                        <a:pt x="41" y="19"/>
                      </a:lnTo>
                      <a:lnTo>
                        <a:pt x="32" y="29"/>
                      </a:lnTo>
                      <a:lnTo>
                        <a:pt x="26" y="40"/>
                      </a:lnTo>
                      <a:lnTo>
                        <a:pt x="19" y="50"/>
                      </a:lnTo>
                      <a:lnTo>
                        <a:pt x="14" y="62"/>
                      </a:lnTo>
                      <a:lnTo>
                        <a:pt x="10" y="75"/>
                      </a:lnTo>
                      <a:lnTo>
                        <a:pt x="12" y="88"/>
                      </a:lnTo>
                      <a:lnTo>
                        <a:pt x="5" y="89"/>
                      </a:lnTo>
                      <a:lnTo>
                        <a:pt x="0" y="84"/>
                      </a:lnTo>
                      <a:lnTo>
                        <a:pt x="2" y="71"/>
                      </a:lnTo>
                      <a:lnTo>
                        <a:pt x="5" y="58"/>
                      </a:lnTo>
                      <a:lnTo>
                        <a:pt x="9" y="45"/>
                      </a:lnTo>
                      <a:lnTo>
                        <a:pt x="16" y="34"/>
                      </a:lnTo>
                      <a:lnTo>
                        <a:pt x="21" y="22"/>
                      </a:lnTo>
                      <a:lnTo>
                        <a:pt x="31" y="14"/>
                      </a:lnTo>
                      <a:lnTo>
                        <a:pt x="41" y="5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417480" y="4886280"/>
                  <a:ext cx="126000" cy="125640"/>
                </a:xfrm>
                <a:custGeom>
                  <a:avLst/>
                  <a:gdLst/>
                  <a:ahLst/>
                  <a:rect l="l" t="t" r="r" b="b"/>
                  <a:pathLst>
                    <a:path w="478" h="483">
                      <a:moveTo>
                        <a:pt x="102" y="157"/>
                      </a:moveTo>
                      <a:lnTo>
                        <a:pt x="106" y="151"/>
                      </a:lnTo>
                      <a:lnTo>
                        <a:pt x="109" y="146"/>
                      </a:lnTo>
                      <a:lnTo>
                        <a:pt x="97" y="147"/>
                      </a:lnTo>
                      <a:lnTo>
                        <a:pt x="89" y="147"/>
                      </a:lnTo>
                      <a:lnTo>
                        <a:pt x="79" y="144"/>
                      </a:lnTo>
                      <a:lnTo>
                        <a:pt x="71" y="140"/>
                      </a:lnTo>
                      <a:lnTo>
                        <a:pt x="63" y="134"/>
                      </a:lnTo>
                      <a:lnTo>
                        <a:pt x="54" y="128"/>
                      </a:lnTo>
                      <a:lnTo>
                        <a:pt x="46" y="123"/>
                      </a:lnTo>
                      <a:lnTo>
                        <a:pt x="37" y="120"/>
                      </a:lnTo>
                      <a:lnTo>
                        <a:pt x="27" y="111"/>
                      </a:lnTo>
                      <a:lnTo>
                        <a:pt x="20" y="103"/>
                      </a:lnTo>
                      <a:lnTo>
                        <a:pt x="13" y="95"/>
                      </a:lnTo>
                      <a:lnTo>
                        <a:pt x="9" y="87"/>
                      </a:lnTo>
                      <a:lnTo>
                        <a:pt x="5" y="78"/>
                      </a:lnTo>
                      <a:lnTo>
                        <a:pt x="3" y="68"/>
                      </a:lnTo>
                      <a:lnTo>
                        <a:pt x="2" y="57"/>
                      </a:lnTo>
                      <a:lnTo>
                        <a:pt x="4" y="47"/>
                      </a:lnTo>
                      <a:lnTo>
                        <a:pt x="6" y="40"/>
                      </a:lnTo>
                      <a:lnTo>
                        <a:pt x="9" y="34"/>
                      </a:lnTo>
                      <a:lnTo>
                        <a:pt x="13" y="27"/>
                      </a:lnTo>
                      <a:lnTo>
                        <a:pt x="19" y="22"/>
                      </a:lnTo>
                      <a:lnTo>
                        <a:pt x="24" y="15"/>
                      </a:lnTo>
                      <a:lnTo>
                        <a:pt x="30" y="11"/>
                      </a:lnTo>
                      <a:lnTo>
                        <a:pt x="36" y="7"/>
                      </a:lnTo>
                      <a:lnTo>
                        <a:pt x="42" y="4"/>
                      </a:lnTo>
                      <a:lnTo>
                        <a:pt x="50" y="0"/>
                      </a:lnTo>
                      <a:lnTo>
                        <a:pt x="59" y="0"/>
                      </a:lnTo>
                      <a:lnTo>
                        <a:pt x="66" y="0"/>
                      </a:lnTo>
                      <a:lnTo>
                        <a:pt x="75" y="3"/>
                      </a:lnTo>
                      <a:lnTo>
                        <a:pt x="82" y="5"/>
                      </a:lnTo>
                      <a:lnTo>
                        <a:pt x="90" y="8"/>
                      </a:lnTo>
                      <a:lnTo>
                        <a:pt x="97" y="11"/>
                      </a:lnTo>
                      <a:lnTo>
                        <a:pt x="105" y="15"/>
                      </a:lnTo>
                      <a:lnTo>
                        <a:pt x="112" y="24"/>
                      </a:lnTo>
                      <a:lnTo>
                        <a:pt x="120" y="35"/>
                      </a:lnTo>
                      <a:lnTo>
                        <a:pt x="126" y="46"/>
                      </a:lnTo>
                      <a:lnTo>
                        <a:pt x="131" y="57"/>
                      </a:lnTo>
                      <a:lnTo>
                        <a:pt x="134" y="69"/>
                      </a:lnTo>
                      <a:lnTo>
                        <a:pt x="137" y="81"/>
                      </a:lnTo>
                      <a:lnTo>
                        <a:pt x="137" y="93"/>
                      </a:lnTo>
                      <a:lnTo>
                        <a:pt x="137" y="106"/>
                      </a:lnTo>
                      <a:lnTo>
                        <a:pt x="135" y="114"/>
                      </a:lnTo>
                      <a:lnTo>
                        <a:pt x="129" y="123"/>
                      </a:lnTo>
                      <a:lnTo>
                        <a:pt x="131" y="124"/>
                      </a:lnTo>
                      <a:lnTo>
                        <a:pt x="144" y="116"/>
                      </a:lnTo>
                      <a:lnTo>
                        <a:pt x="159" y="109"/>
                      </a:lnTo>
                      <a:lnTo>
                        <a:pt x="173" y="102"/>
                      </a:lnTo>
                      <a:lnTo>
                        <a:pt x="189" y="96"/>
                      </a:lnTo>
                      <a:lnTo>
                        <a:pt x="205" y="90"/>
                      </a:lnTo>
                      <a:lnTo>
                        <a:pt x="222" y="84"/>
                      </a:lnTo>
                      <a:lnTo>
                        <a:pt x="238" y="80"/>
                      </a:lnTo>
                      <a:lnTo>
                        <a:pt x="255" y="78"/>
                      </a:lnTo>
                      <a:lnTo>
                        <a:pt x="274" y="81"/>
                      </a:lnTo>
                      <a:lnTo>
                        <a:pt x="294" y="88"/>
                      </a:lnTo>
                      <a:lnTo>
                        <a:pt x="313" y="96"/>
                      </a:lnTo>
                      <a:lnTo>
                        <a:pt x="331" y="106"/>
                      </a:lnTo>
                      <a:lnTo>
                        <a:pt x="348" y="115"/>
                      </a:lnTo>
                      <a:lnTo>
                        <a:pt x="367" y="126"/>
                      </a:lnTo>
                      <a:lnTo>
                        <a:pt x="385" y="136"/>
                      </a:lnTo>
                      <a:lnTo>
                        <a:pt x="404" y="146"/>
                      </a:lnTo>
                      <a:lnTo>
                        <a:pt x="418" y="156"/>
                      </a:lnTo>
                      <a:lnTo>
                        <a:pt x="432" y="169"/>
                      </a:lnTo>
                      <a:lnTo>
                        <a:pt x="445" y="181"/>
                      </a:lnTo>
                      <a:lnTo>
                        <a:pt x="457" y="196"/>
                      </a:lnTo>
                      <a:lnTo>
                        <a:pt x="466" y="210"/>
                      </a:lnTo>
                      <a:lnTo>
                        <a:pt x="474" y="227"/>
                      </a:lnTo>
                      <a:lnTo>
                        <a:pt x="477" y="245"/>
                      </a:lnTo>
                      <a:lnTo>
                        <a:pt x="478" y="266"/>
                      </a:lnTo>
                      <a:lnTo>
                        <a:pt x="477" y="285"/>
                      </a:lnTo>
                      <a:lnTo>
                        <a:pt x="475" y="304"/>
                      </a:lnTo>
                      <a:lnTo>
                        <a:pt x="470" y="322"/>
                      </a:lnTo>
                      <a:lnTo>
                        <a:pt x="465" y="342"/>
                      </a:lnTo>
                      <a:lnTo>
                        <a:pt x="455" y="358"/>
                      </a:lnTo>
                      <a:lnTo>
                        <a:pt x="445" y="373"/>
                      </a:lnTo>
                      <a:lnTo>
                        <a:pt x="429" y="386"/>
                      </a:lnTo>
                      <a:lnTo>
                        <a:pt x="411" y="396"/>
                      </a:lnTo>
                      <a:lnTo>
                        <a:pt x="402" y="400"/>
                      </a:lnTo>
                      <a:lnTo>
                        <a:pt x="393" y="403"/>
                      </a:lnTo>
                      <a:lnTo>
                        <a:pt x="385" y="405"/>
                      </a:lnTo>
                      <a:lnTo>
                        <a:pt x="376" y="408"/>
                      </a:lnTo>
                      <a:lnTo>
                        <a:pt x="366" y="409"/>
                      </a:lnTo>
                      <a:lnTo>
                        <a:pt x="357" y="411"/>
                      </a:lnTo>
                      <a:lnTo>
                        <a:pt x="347" y="411"/>
                      </a:lnTo>
                      <a:lnTo>
                        <a:pt x="337" y="413"/>
                      </a:lnTo>
                      <a:lnTo>
                        <a:pt x="333" y="421"/>
                      </a:lnTo>
                      <a:lnTo>
                        <a:pt x="329" y="430"/>
                      </a:lnTo>
                      <a:lnTo>
                        <a:pt x="322" y="438"/>
                      </a:lnTo>
                      <a:lnTo>
                        <a:pt x="316" y="447"/>
                      </a:lnTo>
                      <a:lnTo>
                        <a:pt x="307" y="453"/>
                      </a:lnTo>
                      <a:lnTo>
                        <a:pt x="299" y="461"/>
                      </a:lnTo>
                      <a:lnTo>
                        <a:pt x="290" y="468"/>
                      </a:lnTo>
                      <a:lnTo>
                        <a:pt x="282" y="476"/>
                      </a:lnTo>
                      <a:lnTo>
                        <a:pt x="273" y="477"/>
                      </a:lnTo>
                      <a:lnTo>
                        <a:pt x="266" y="479"/>
                      </a:lnTo>
                      <a:lnTo>
                        <a:pt x="258" y="481"/>
                      </a:lnTo>
                      <a:lnTo>
                        <a:pt x="250" y="483"/>
                      </a:lnTo>
                      <a:lnTo>
                        <a:pt x="242" y="483"/>
                      </a:lnTo>
                      <a:lnTo>
                        <a:pt x="234" y="483"/>
                      </a:lnTo>
                      <a:lnTo>
                        <a:pt x="226" y="482"/>
                      </a:lnTo>
                      <a:lnTo>
                        <a:pt x="219" y="481"/>
                      </a:lnTo>
                      <a:lnTo>
                        <a:pt x="215" y="477"/>
                      </a:lnTo>
                      <a:lnTo>
                        <a:pt x="215" y="473"/>
                      </a:lnTo>
                      <a:lnTo>
                        <a:pt x="222" y="467"/>
                      </a:lnTo>
                      <a:lnTo>
                        <a:pt x="228" y="468"/>
                      </a:lnTo>
                      <a:lnTo>
                        <a:pt x="234" y="472"/>
                      </a:lnTo>
                      <a:lnTo>
                        <a:pt x="243" y="473"/>
                      </a:lnTo>
                      <a:lnTo>
                        <a:pt x="255" y="472"/>
                      </a:lnTo>
                      <a:lnTo>
                        <a:pt x="267" y="468"/>
                      </a:lnTo>
                      <a:lnTo>
                        <a:pt x="277" y="462"/>
                      </a:lnTo>
                      <a:lnTo>
                        <a:pt x="289" y="454"/>
                      </a:lnTo>
                      <a:lnTo>
                        <a:pt x="299" y="445"/>
                      </a:lnTo>
                      <a:lnTo>
                        <a:pt x="308" y="435"/>
                      </a:lnTo>
                      <a:lnTo>
                        <a:pt x="317" y="424"/>
                      </a:lnTo>
                      <a:lnTo>
                        <a:pt x="325" y="415"/>
                      </a:lnTo>
                      <a:lnTo>
                        <a:pt x="315" y="414"/>
                      </a:lnTo>
                      <a:lnTo>
                        <a:pt x="306" y="413"/>
                      </a:lnTo>
                      <a:lnTo>
                        <a:pt x="298" y="409"/>
                      </a:lnTo>
                      <a:lnTo>
                        <a:pt x="290" y="407"/>
                      </a:lnTo>
                      <a:lnTo>
                        <a:pt x="282" y="404"/>
                      </a:lnTo>
                      <a:lnTo>
                        <a:pt x="273" y="401"/>
                      </a:lnTo>
                      <a:lnTo>
                        <a:pt x="264" y="399"/>
                      </a:lnTo>
                      <a:lnTo>
                        <a:pt x="257" y="398"/>
                      </a:lnTo>
                      <a:lnTo>
                        <a:pt x="244" y="413"/>
                      </a:lnTo>
                      <a:lnTo>
                        <a:pt x="231" y="428"/>
                      </a:lnTo>
                      <a:lnTo>
                        <a:pt x="216" y="440"/>
                      </a:lnTo>
                      <a:lnTo>
                        <a:pt x="202" y="453"/>
                      </a:lnTo>
                      <a:lnTo>
                        <a:pt x="185" y="462"/>
                      </a:lnTo>
                      <a:lnTo>
                        <a:pt x="169" y="470"/>
                      </a:lnTo>
                      <a:lnTo>
                        <a:pt x="150" y="476"/>
                      </a:lnTo>
                      <a:lnTo>
                        <a:pt x="131" y="480"/>
                      </a:lnTo>
                      <a:lnTo>
                        <a:pt x="113" y="476"/>
                      </a:lnTo>
                      <a:lnTo>
                        <a:pt x="96" y="473"/>
                      </a:lnTo>
                      <a:lnTo>
                        <a:pt x="77" y="467"/>
                      </a:lnTo>
                      <a:lnTo>
                        <a:pt x="61" y="463"/>
                      </a:lnTo>
                      <a:lnTo>
                        <a:pt x="44" y="455"/>
                      </a:lnTo>
                      <a:lnTo>
                        <a:pt x="28" y="447"/>
                      </a:lnTo>
                      <a:lnTo>
                        <a:pt x="16" y="435"/>
                      </a:lnTo>
                      <a:lnTo>
                        <a:pt x="6" y="421"/>
                      </a:lnTo>
                      <a:lnTo>
                        <a:pt x="0" y="402"/>
                      </a:lnTo>
                      <a:lnTo>
                        <a:pt x="0" y="385"/>
                      </a:lnTo>
                      <a:lnTo>
                        <a:pt x="1" y="366"/>
                      </a:lnTo>
                      <a:lnTo>
                        <a:pt x="6" y="350"/>
                      </a:lnTo>
                      <a:lnTo>
                        <a:pt x="11" y="332"/>
                      </a:lnTo>
                      <a:lnTo>
                        <a:pt x="20" y="316"/>
                      </a:lnTo>
                      <a:lnTo>
                        <a:pt x="28" y="300"/>
                      </a:lnTo>
                      <a:lnTo>
                        <a:pt x="37" y="286"/>
                      </a:lnTo>
                      <a:lnTo>
                        <a:pt x="44" y="269"/>
                      </a:lnTo>
                      <a:lnTo>
                        <a:pt x="52" y="253"/>
                      </a:lnTo>
                      <a:lnTo>
                        <a:pt x="60" y="237"/>
                      </a:lnTo>
                      <a:lnTo>
                        <a:pt x="68" y="220"/>
                      </a:lnTo>
                      <a:lnTo>
                        <a:pt x="77" y="204"/>
                      </a:lnTo>
                      <a:lnTo>
                        <a:pt x="85" y="188"/>
                      </a:lnTo>
                      <a:lnTo>
                        <a:pt x="94" y="172"/>
                      </a:lnTo>
                      <a:lnTo>
                        <a:pt x="102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422880" y="4888800"/>
                  <a:ext cx="27360" cy="29880"/>
                </a:xfrm>
                <a:custGeom>
                  <a:avLst/>
                  <a:gdLst/>
                  <a:ahLst/>
                  <a:rect l="l" t="t" r="r" b="b"/>
                  <a:pathLst>
                    <a:path w="108" h="115">
                      <a:moveTo>
                        <a:pt x="36" y="0"/>
                      </a:move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1"/>
                      </a:lnTo>
                      <a:lnTo>
                        <a:pt x="61" y="4"/>
                      </a:lnTo>
                      <a:lnTo>
                        <a:pt x="66" y="5"/>
                      </a:lnTo>
                      <a:lnTo>
                        <a:pt x="72" y="8"/>
                      </a:lnTo>
                      <a:lnTo>
                        <a:pt x="76" y="10"/>
                      </a:lnTo>
                      <a:lnTo>
                        <a:pt x="81" y="15"/>
                      </a:lnTo>
                      <a:lnTo>
                        <a:pt x="87" y="22"/>
                      </a:lnTo>
                      <a:lnTo>
                        <a:pt x="93" y="30"/>
                      </a:lnTo>
                      <a:lnTo>
                        <a:pt x="97" y="40"/>
                      </a:lnTo>
                      <a:lnTo>
                        <a:pt x="103" y="50"/>
                      </a:lnTo>
                      <a:lnTo>
                        <a:pt x="105" y="59"/>
                      </a:lnTo>
                      <a:lnTo>
                        <a:pt x="107" y="70"/>
                      </a:lnTo>
                      <a:lnTo>
                        <a:pt x="107" y="80"/>
                      </a:lnTo>
                      <a:lnTo>
                        <a:pt x="108" y="91"/>
                      </a:lnTo>
                      <a:lnTo>
                        <a:pt x="105" y="97"/>
                      </a:lnTo>
                      <a:lnTo>
                        <a:pt x="103" y="103"/>
                      </a:lnTo>
                      <a:lnTo>
                        <a:pt x="97" y="109"/>
                      </a:lnTo>
                      <a:lnTo>
                        <a:pt x="92" y="115"/>
                      </a:lnTo>
                      <a:lnTo>
                        <a:pt x="82" y="115"/>
                      </a:lnTo>
                      <a:lnTo>
                        <a:pt x="74" y="115"/>
                      </a:lnTo>
                      <a:lnTo>
                        <a:pt x="64" y="112"/>
                      </a:lnTo>
                      <a:lnTo>
                        <a:pt x="55" y="109"/>
                      </a:lnTo>
                      <a:lnTo>
                        <a:pt x="46" y="103"/>
                      </a:lnTo>
                      <a:lnTo>
                        <a:pt x="37" y="98"/>
                      </a:lnTo>
                      <a:lnTo>
                        <a:pt x="30" y="92"/>
                      </a:lnTo>
                      <a:lnTo>
                        <a:pt x="23" y="86"/>
                      </a:lnTo>
                      <a:lnTo>
                        <a:pt x="30" y="84"/>
                      </a:lnTo>
                      <a:lnTo>
                        <a:pt x="36" y="79"/>
                      </a:lnTo>
                      <a:lnTo>
                        <a:pt x="39" y="71"/>
                      </a:lnTo>
                      <a:lnTo>
                        <a:pt x="44" y="65"/>
                      </a:lnTo>
                      <a:lnTo>
                        <a:pt x="44" y="58"/>
                      </a:lnTo>
                      <a:lnTo>
                        <a:pt x="45" y="53"/>
                      </a:lnTo>
                      <a:lnTo>
                        <a:pt x="45" y="47"/>
                      </a:lnTo>
                      <a:lnTo>
                        <a:pt x="45" y="41"/>
                      </a:lnTo>
                      <a:lnTo>
                        <a:pt x="40" y="30"/>
                      </a:lnTo>
                      <a:lnTo>
                        <a:pt x="34" y="23"/>
                      </a:lnTo>
                      <a:lnTo>
                        <a:pt x="22" y="24"/>
                      </a:lnTo>
                      <a:lnTo>
                        <a:pt x="13" y="29"/>
                      </a:lnTo>
                      <a:lnTo>
                        <a:pt x="5" y="37"/>
                      </a:lnTo>
                      <a:lnTo>
                        <a:pt x="1" y="48"/>
                      </a:lnTo>
                      <a:lnTo>
                        <a:pt x="0" y="38"/>
                      </a:lnTo>
                      <a:lnTo>
                        <a:pt x="2" y="32"/>
                      </a:lnTo>
                      <a:lnTo>
                        <a:pt x="5" y="24"/>
                      </a:lnTo>
                      <a:lnTo>
                        <a:pt x="10" y="19"/>
                      </a:lnTo>
                      <a:lnTo>
                        <a:pt x="16" y="12"/>
                      </a:lnTo>
                      <a:lnTo>
                        <a:pt x="22" y="8"/>
                      </a:lnTo>
                      <a:lnTo>
                        <a:pt x="29" y="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22880" y="4909680"/>
                  <a:ext cx="116640" cy="97200"/>
                </a:xfrm>
                <a:custGeom>
                  <a:avLst/>
                  <a:gdLst/>
                  <a:ahLst/>
                  <a:rect l="l" t="t" r="r" b="b"/>
                  <a:pathLst>
                    <a:path w="442" h="371">
                      <a:moveTo>
                        <a:pt x="58" y="134"/>
                      </a:moveTo>
                      <a:lnTo>
                        <a:pt x="67" y="119"/>
                      </a:lnTo>
                      <a:lnTo>
                        <a:pt x="75" y="105"/>
                      </a:lnTo>
                      <a:lnTo>
                        <a:pt x="82" y="89"/>
                      </a:lnTo>
                      <a:lnTo>
                        <a:pt x="90" y="74"/>
                      </a:lnTo>
                      <a:lnTo>
                        <a:pt x="97" y="58"/>
                      </a:lnTo>
                      <a:lnTo>
                        <a:pt x="108" y="46"/>
                      </a:lnTo>
                      <a:lnTo>
                        <a:pt x="121" y="36"/>
                      </a:lnTo>
                      <a:lnTo>
                        <a:pt x="139" y="31"/>
                      </a:lnTo>
                      <a:lnTo>
                        <a:pt x="152" y="23"/>
                      </a:lnTo>
                      <a:lnTo>
                        <a:pt x="167" y="17"/>
                      </a:lnTo>
                      <a:lnTo>
                        <a:pt x="181" y="10"/>
                      </a:lnTo>
                      <a:lnTo>
                        <a:pt x="197" y="6"/>
                      </a:lnTo>
                      <a:lnTo>
                        <a:pt x="212" y="1"/>
                      </a:lnTo>
                      <a:lnTo>
                        <a:pt x="228" y="0"/>
                      </a:lnTo>
                      <a:lnTo>
                        <a:pt x="244" y="0"/>
                      </a:lnTo>
                      <a:lnTo>
                        <a:pt x="260" y="3"/>
                      </a:lnTo>
                      <a:lnTo>
                        <a:pt x="283" y="15"/>
                      </a:lnTo>
                      <a:lnTo>
                        <a:pt x="307" y="26"/>
                      </a:lnTo>
                      <a:lnTo>
                        <a:pt x="330" y="38"/>
                      </a:lnTo>
                      <a:lnTo>
                        <a:pt x="355" y="51"/>
                      </a:lnTo>
                      <a:lnTo>
                        <a:pt x="376" y="64"/>
                      </a:lnTo>
                      <a:lnTo>
                        <a:pt x="399" y="80"/>
                      </a:lnTo>
                      <a:lnTo>
                        <a:pt x="418" y="99"/>
                      </a:lnTo>
                      <a:lnTo>
                        <a:pt x="436" y="122"/>
                      </a:lnTo>
                      <a:lnTo>
                        <a:pt x="438" y="140"/>
                      </a:lnTo>
                      <a:lnTo>
                        <a:pt x="441" y="160"/>
                      </a:lnTo>
                      <a:lnTo>
                        <a:pt x="442" y="178"/>
                      </a:lnTo>
                      <a:lnTo>
                        <a:pt x="442" y="197"/>
                      </a:lnTo>
                      <a:lnTo>
                        <a:pt x="437" y="214"/>
                      </a:lnTo>
                      <a:lnTo>
                        <a:pt x="432" y="233"/>
                      </a:lnTo>
                      <a:lnTo>
                        <a:pt x="423" y="249"/>
                      </a:lnTo>
                      <a:lnTo>
                        <a:pt x="412" y="265"/>
                      </a:lnTo>
                      <a:lnTo>
                        <a:pt x="396" y="275"/>
                      </a:lnTo>
                      <a:lnTo>
                        <a:pt x="381" y="286"/>
                      </a:lnTo>
                      <a:lnTo>
                        <a:pt x="361" y="295"/>
                      </a:lnTo>
                      <a:lnTo>
                        <a:pt x="343" y="302"/>
                      </a:lnTo>
                      <a:lnTo>
                        <a:pt x="323" y="306"/>
                      </a:lnTo>
                      <a:lnTo>
                        <a:pt x="303" y="307"/>
                      </a:lnTo>
                      <a:lnTo>
                        <a:pt x="283" y="303"/>
                      </a:lnTo>
                      <a:lnTo>
                        <a:pt x="265" y="298"/>
                      </a:lnTo>
                      <a:lnTo>
                        <a:pt x="250" y="292"/>
                      </a:lnTo>
                      <a:lnTo>
                        <a:pt x="259" y="279"/>
                      </a:lnTo>
                      <a:lnTo>
                        <a:pt x="266" y="266"/>
                      </a:lnTo>
                      <a:lnTo>
                        <a:pt x="270" y="252"/>
                      </a:lnTo>
                      <a:lnTo>
                        <a:pt x="274" y="238"/>
                      </a:lnTo>
                      <a:lnTo>
                        <a:pt x="278" y="224"/>
                      </a:lnTo>
                      <a:lnTo>
                        <a:pt x="285" y="212"/>
                      </a:lnTo>
                      <a:lnTo>
                        <a:pt x="296" y="201"/>
                      </a:lnTo>
                      <a:lnTo>
                        <a:pt x="313" y="195"/>
                      </a:lnTo>
                      <a:lnTo>
                        <a:pt x="316" y="187"/>
                      </a:lnTo>
                      <a:lnTo>
                        <a:pt x="319" y="181"/>
                      </a:lnTo>
                      <a:lnTo>
                        <a:pt x="322" y="174"/>
                      </a:lnTo>
                      <a:lnTo>
                        <a:pt x="322" y="166"/>
                      </a:lnTo>
                      <a:lnTo>
                        <a:pt x="312" y="157"/>
                      </a:lnTo>
                      <a:lnTo>
                        <a:pt x="301" y="154"/>
                      </a:lnTo>
                      <a:lnTo>
                        <a:pt x="295" y="153"/>
                      </a:lnTo>
                      <a:lnTo>
                        <a:pt x="289" y="153"/>
                      </a:lnTo>
                      <a:lnTo>
                        <a:pt x="283" y="153"/>
                      </a:lnTo>
                      <a:lnTo>
                        <a:pt x="278" y="155"/>
                      </a:lnTo>
                      <a:lnTo>
                        <a:pt x="259" y="161"/>
                      </a:lnTo>
                      <a:lnTo>
                        <a:pt x="242" y="167"/>
                      </a:lnTo>
                      <a:lnTo>
                        <a:pt x="224" y="174"/>
                      </a:lnTo>
                      <a:lnTo>
                        <a:pt x="207" y="180"/>
                      </a:lnTo>
                      <a:lnTo>
                        <a:pt x="190" y="186"/>
                      </a:lnTo>
                      <a:lnTo>
                        <a:pt x="174" y="196"/>
                      </a:lnTo>
                      <a:lnTo>
                        <a:pt x="157" y="206"/>
                      </a:lnTo>
                      <a:lnTo>
                        <a:pt x="146" y="219"/>
                      </a:lnTo>
                      <a:lnTo>
                        <a:pt x="146" y="227"/>
                      </a:lnTo>
                      <a:lnTo>
                        <a:pt x="151" y="236"/>
                      </a:lnTo>
                      <a:lnTo>
                        <a:pt x="157" y="242"/>
                      </a:lnTo>
                      <a:lnTo>
                        <a:pt x="166" y="246"/>
                      </a:lnTo>
                      <a:lnTo>
                        <a:pt x="175" y="245"/>
                      </a:lnTo>
                      <a:lnTo>
                        <a:pt x="184" y="248"/>
                      </a:lnTo>
                      <a:lnTo>
                        <a:pt x="192" y="252"/>
                      </a:lnTo>
                      <a:lnTo>
                        <a:pt x="200" y="259"/>
                      </a:lnTo>
                      <a:lnTo>
                        <a:pt x="207" y="266"/>
                      </a:lnTo>
                      <a:lnTo>
                        <a:pt x="214" y="273"/>
                      </a:lnTo>
                      <a:lnTo>
                        <a:pt x="221" y="281"/>
                      </a:lnTo>
                      <a:lnTo>
                        <a:pt x="228" y="288"/>
                      </a:lnTo>
                      <a:lnTo>
                        <a:pt x="219" y="301"/>
                      </a:lnTo>
                      <a:lnTo>
                        <a:pt x="210" y="315"/>
                      </a:lnTo>
                      <a:lnTo>
                        <a:pt x="197" y="328"/>
                      </a:lnTo>
                      <a:lnTo>
                        <a:pt x="185" y="340"/>
                      </a:lnTo>
                      <a:lnTo>
                        <a:pt x="171" y="350"/>
                      </a:lnTo>
                      <a:lnTo>
                        <a:pt x="157" y="358"/>
                      </a:lnTo>
                      <a:lnTo>
                        <a:pt x="142" y="365"/>
                      </a:lnTo>
                      <a:lnTo>
                        <a:pt x="127" y="371"/>
                      </a:lnTo>
                      <a:lnTo>
                        <a:pt x="112" y="370"/>
                      </a:lnTo>
                      <a:lnTo>
                        <a:pt x="97" y="370"/>
                      </a:lnTo>
                      <a:lnTo>
                        <a:pt x="82" y="367"/>
                      </a:lnTo>
                      <a:lnTo>
                        <a:pt x="68" y="365"/>
                      </a:lnTo>
                      <a:lnTo>
                        <a:pt x="53" y="359"/>
                      </a:lnTo>
                      <a:lnTo>
                        <a:pt x="41" y="353"/>
                      </a:lnTo>
                      <a:lnTo>
                        <a:pt x="28" y="345"/>
                      </a:lnTo>
                      <a:lnTo>
                        <a:pt x="17" y="336"/>
                      </a:lnTo>
                      <a:lnTo>
                        <a:pt x="5" y="317"/>
                      </a:lnTo>
                      <a:lnTo>
                        <a:pt x="0" y="299"/>
                      </a:lnTo>
                      <a:lnTo>
                        <a:pt x="0" y="280"/>
                      </a:lnTo>
                      <a:lnTo>
                        <a:pt x="5" y="260"/>
                      </a:lnTo>
                      <a:lnTo>
                        <a:pt x="12" y="240"/>
                      </a:lnTo>
                      <a:lnTo>
                        <a:pt x="20" y="221"/>
                      </a:lnTo>
                      <a:lnTo>
                        <a:pt x="29" y="201"/>
                      </a:lnTo>
                      <a:lnTo>
                        <a:pt x="36" y="184"/>
                      </a:lnTo>
                      <a:lnTo>
                        <a:pt x="58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65000" y="4866480"/>
                  <a:ext cx="31320" cy="36360"/>
                </a:xfrm>
                <a:custGeom>
                  <a:avLst/>
                  <a:gdLst/>
                  <a:ahLst/>
                  <a:rect l="l" t="t" r="r" b="b"/>
                  <a:pathLst>
                    <a:path w="118" h="142">
                      <a:moveTo>
                        <a:pt x="32" y="6"/>
                      </a:moveTo>
                      <a:lnTo>
                        <a:pt x="37" y="3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2"/>
                      </a:lnTo>
                      <a:lnTo>
                        <a:pt x="62" y="2"/>
                      </a:lnTo>
                      <a:lnTo>
                        <a:pt x="68" y="4"/>
                      </a:lnTo>
                      <a:lnTo>
                        <a:pt x="75" y="6"/>
                      </a:lnTo>
                      <a:lnTo>
                        <a:pt x="81" y="9"/>
                      </a:lnTo>
                      <a:lnTo>
                        <a:pt x="91" y="15"/>
                      </a:lnTo>
                      <a:lnTo>
                        <a:pt x="100" y="24"/>
                      </a:lnTo>
                      <a:lnTo>
                        <a:pt x="107" y="34"/>
                      </a:lnTo>
                      <a:lnTo>
                        <a:pt x="113" y="47"/>
                      </a:lnTo>
                      <a:lnTo>
                        <a:pt x="115" y="57"/>
                      </a:lnTo>
                      <a:lnTo>
                        <a:pt x="118" y="70"/>
                      </a:lnTo>
                      <a:lnTo>
                        <a:pt x="118" y="83"/>
                      </a:lnTo>
                      <a:lnTo>
                        <a:pt x="118" y="97"/>
                      </a:lnTo>
                      <a:lnTo>
                        <a:pt x="114" y="102"/>
                      </a:lnTo>
                      <a:lnTo>
                        <a:pt x="112" y="109"/>
                      </a:lnTo>
                      <a:lnTo>
                        <a:pt x="109" y="114"/>
                      </a:lnTo>
                      <a:lnTo>
                        <a:pt x="106" y="121"/>
                      </a:lnTo>
                      <a:lnTo>
                        <a:pt x="95" y="130"/>
                      </a:lnTo>
                      <a:lnTo>
                        <a:pt x="84" y="140"/>
                      </a:lnTo>
                      <a:lnTo>
                        <a:pt x="69" y="142"/>
                      </a:lnTo>
                      <a:lnTo>
                        <a:pt x="56" y="135"/>
                      </a:lnTo>
                      <a:lnTo>
                        <a:pt x="45" y="128"/>
                      </a:lnTo>
                      <a:lnTo>
                        <a:pt x="32" y="120"/>
                      </a:lnTo>
                      <a:lnTo>
                        <a:pt x="22" y="111"/>
                      </a:lnTo>
                      <a:lnTo>
                        <a:pt x="12" y="100"/>
                      </a:lnTo>
                      <a:lnTo>
                        <a:pt x="6" y="90"/>
                      </a:lnTo>
                      <a:lnTo>
                        <a:pt x="1" y="76"/>
                      </a:lnTo>
                      <a:lnTo>
                        <a:pt x="1" y="63"/>
                      </a:lnTo>
                      <a:lnTo>
                        <a:pt x="0" y="53"/>
                      </a:lnTo>
                      <a:lnTo>
                        <a:pt x="2" y="46"/>
                      </a:lnTo>
                      <a:lnTo>
                        <a:pt x="4" y="37"/>
                      </a:lnTo>
                      <a:lnTo>
                        <a:pt x="8" y="31"/>
                      </a:lnTo>
                      <a:lnTo>
                        <a:pt x="12" y="23"/>
                      </a:lnTo>
                      <a:lnTo>
                        <a:pt x="18" y="17"/>
                      </a:lnTo>
                      <a:lnTo>
                        <a:pt x="24" y="1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66080" y="4954320"/>
                  <a:ext cx="36720" cy="30240"/>
                </a:xfrm>
                <a:custGeom>
                  <a:avLst/>
                  <a:gdLst/>
                  <a:ahLst/>
                  <a:rect l="l" t="t" r="r" b="b"/>
                  <a:pathLst>
                    <a:path w="141" h="114">
                      <a:moveTo>
                        <a:pt x="60" y="23"/>
                      </a:moveTo>
                      <a:lnTo>
                        <a:pt x="69" y="18"/>
                      </a:lnTo>
                      <a:lnTo>
                        <a:pt x="79" y="14"/>
                      </a:lnTo>
                      <a:lnTo>
                        <a:pt x="89" y="10"/>
                      </a:lnTo>
                      <a:lnTo>
                        <a:pt x="98" y="7"/>
                      </a:lnTo>
                      <a:lnTo>
                        <a:pt x="108" y="3"/>
                      </a:lnTo>
                      <a:lnTo>
                        <a:pt x="119" y="1"/>
                      </a:lnTo>
                      <a:lnTo>
                        <a:pt x="130" y="0"/>
                      </a:lnTo>
                      <a:lnTo>
                        <a:pt x="141" y="1"/>
                      </a:lnTo>
                      <a:lnTo>
                        <a:pt x="139" y="10"/>
                      </a:lnTo>
                      <a:lnTo>
                        <a:pt x="134" y="17"/>
                      </a:lnTo>
                      <a:lnTo>
                        <a:pt x="127" y="24"/>
                      </a:lnTo>
                      <a:lnTo>
                        <a:pt x="121" y="30"/>
                      </a:lnTo>
                      <a:lnTo>
                        <a:pt x="112" y="36"/>
                      </a:lnTo>
                      <a:lnTo>
                        <a:pt x="106" y="43"/>
                      </a:lnTo>
                      <a:lnTo>
                        <a:pt x="100" y="50"/>
                      </a:lnTo>
                      <a:lnTo>
                        <a:pt x="97" y="60"/>
                      </a:lnTo>
                      <a:lnTo>
                        <a:pt x="95" y="67"/>
                      </a:lnTo>
                      <a:lnTo>
                        <a:pt x="94" y="73"/>
                      </a:lnTo>
                      <a:lnTo>
                        <a:pt x="92" y="81"/>
                      </a:lnTo>
                      <a:lnTo>
                        <a:pt x="91" y="88"/>
                      </a:lnTo>
                      <a:lnTo>
                        <a:pt x="88" y="95"/>
                      </a:lnTo>
                      <a:lnTo>
                        <a:pt x="85" y="101"/>
                      </a:lnTo>
                      <a:lnTo>
                        <a:pt x="81" y="108"/>
                      </a:lnTo>
                      <a:lnTo>
                        <a:pt x="78" y="114"/>
                      </a:lnTo>
                      <a:lnTo>
                        <a:pt x="71" y="104"/>
                      </a:lnTo>
                      <a:lnTo>
                        <a:pt x="63" y="95"/>
                      </a:lnTo>
                      <a:lnTo>
                        <a:pt x="54" y="86"/>
                      </a:lnTo>
                      <a:lnTo>
                        <a:pt x="47" y="79"/>
                      </a:lnTo>
                      <a:lnTo>
                        <a:pt x="36" y="71"/>
                      </a:lnTo>
                      <a:lnTo>
                        <a:pt x="27" y="66"/>
                      </a:lnTo>
                      <a:lnTo>
                        <a:pt x="15" y="62"/>
                      </a:lnTo>
                      <a:lnTo>
                        <a:pt x="3" y="62"/>
                      </a:lnTo>
                      <a:lnTo>
                        <a:pt x="0" y="55"/>
                      </a:lnTo>
                      <a:lnTo>
                        <a:pt x="1" y="51"/>
                      </a:lnTo>
                      <a:lnTo>
                        <a:pt x="3" y="47"/>
                      </a:lnTo>
                      <a:lnTo>
                        <a:pt x="9" y="45"/>
                      </a:lnTo>
                      <a:lnTo>
                        <a:pt x="14" y="42"/>
                      </a:lnTo>
                      <a:lnTo>
                        <a:pt x="20" y="40"/>
                      </a:lnTo>
                      <a:lnTo>
                        <a:pt x="24" y="37"/>
                      </a:lnTo>
                      <a:lnTo>
                        <a:pt x="30" y="35"/>
                      </a:lnTo>
                      <a:lnTo>
                        <a:pt x="6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467520" y="4841640"/>
                  <a:ext cx="19440" cy="648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18" y="0"/>
                      </a:move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1" y="3"/>
                      </a:lnTo>
                      <a:lnTo>
                        <a:pt x="57" y="5"/>
                      </a:lnTo>
                      <a:lnTo>
                        <a:pt x="65" y="10"/>
                      </a:lnTo>
                      <a:lnTo>
                        <a:pt x="70" y="15"/>
                      </a:lnTo>
                      <a:lnTo>
                        <a:pt x="75" y="24"/>
                      </a:lnTo>
                      <a:lnTo>
                        <a:pt x="70" y="25"/>
                      </a:lnTo>
                      <a:lnTo>
                        <a:pt x="61" y="20"/>
                      </a:lnTo>
                      <a:lnTo>
                        <a:pt x="54" y="17"/>
                      </a:lnTo>
                      <a:lnTo>
                        <a:pt x="46" y="14"/>
                      </a:lnTo>
                      <a:lnTo>
                        <a:pt x="39" y="12"/>
                      </a:lnTo>
                      <a:lnTo>
                        <a:pt x="30" y="10"/>
                      </a:lnTo>
                      <a:lnTo>
                        <a:pt x="23" y="11"/>
                      </a:lnTo>
                      <a:lnTo>
                        <a:pt x="14" y="12"/>
                      </a:lnTo>
                      <a:lnTo>
                        <a:pt x="7" y="16"/>
                      </a:lnTo>
                      <a:lnTo>
                        <a:pt x="0" y="10"/>
                      </a:lnTo>
                      <a:lnTo>
                        <a:pt x="3" y="4"/>
                      </a:lnTo>
                      <a:lnTo>
                        <a:pt x="9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468600" y="487044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90" h="109">
                      <a:moveTo>
                        <a:pt x="6" y="23"/>
                      </a:moveTo>
                      <a:lnTo>
                        <a:pt x="9" y="17"/>
                      </a:lnTo>
                      <a:lnTo>
                        <a:pt x="14" y="10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7" y="0"/>
                      </a:lnTo>
                      <a:lnTo>
                        <a:pt x="49" y="1"/>
                      </a:lnTo>
                      <a:lnTo>
                        <a:pt x="59" y="4"/>
                      </a:lnTo>
                      <a:lnTo>
                        <a:pt x="69" y="11"/>
                      </a:lnTo>
                      <a:lnTo>
                        <a:pt x="74" y="17"/>
                      </a:lnTo>
                      <a:lnTo>
                        <a:pt x="79" y="23"/>
                      </a:lnTo>
                      <a:lnTo>
                        <a:pt x="82" y="30"/>
                      </a:lnTo>
                      <a:lnTo>
                        <a:pt x="85" y="36"/>
                      </a:lnTo>
                      <a:lnTo>
                        <a:pt x="86" y="42"/>
                      </a:lnTo>
                      <a:lnTo>
                        <a:pt x="89" y="51"/>
                      </a:lnTo>
                      <a:lnTo>
                        <a:pt x="89" y="59"/>
                      </a:lnTo>
                      <a:lnTo>
                        <a:pt x="90" y="67"/>
                      </a:lnTo>
                      <a:lnTo>
                        <a:pt x="88" y="73"/>
                      </a:lnTo>
                      <a:lnTo>
                        <a:pt x="85" y="79"/>
                      </a:lnTo>
                      <a:lnTo>
                        <a:pt x="83" y="84"/>
                      </a:lnTo>
                      <a:lnTo>
                        <a:pt x="81" y="91"/>
                      </a:lnTo>
                      <a:lnTo>
                        <a:pt x="74" y="100"/>
                      </a:lnTo>
                      <a:lnTo>
                        <a:pt x="65" y="109"/>
                      </a:lnTo>
                      <a:lnTo>
                        <a:pt x="56" y="108"/>
                      </a:lnTo>
                      <a:lnTo>
                        <a:pt x="50" y="107"/>
                      </a:lnTo>
                      <a:lnTo>
                        <a:pt x="44" y="104"/>
                      </a:lnTo>
                      <a:lnTo>
                        <a:pt x="38" y="102"/>
                      </a:lnTo>
                      <a:lnTo>
                        <a:pt x="27" y="93"/>
                      </a:lnTo>
                      <a:lnTo>
                        <a:pt x="17" y="85"/>
                      </a:lnTo>
                      <a:lnTo>
                        <a:pt x="25" y="86"/>
                      </a:lnTo>
                      <a:lnTo>
                        <a:pt x="33" y="82"/>
                      </a:lnTo>
                      <a:lnTo>
                        <a:pt x="38" y="75"/>
                      </a:lnTo>
                      <a:lnTo>
                        <a:pt x="47" y="71"/>
                      </a:lnTo>
                      <a:lnTo>
                        <a:pt x="50" y="63"/>
                      </a:lnTo>
                      <a:lnTo>
                        <a:pt x="50" y="54"/>
                      </a:lnTo>
                      <a:lnTo>
                        <a:pt x="48" y="46"/>
                      </a:lnTo>
                      <a:lnTo>
                        <a:pt x="47" y="38"/>
                      </a:lnTo>
                      <a:lnTo>
                        <a:pt x="40" y="31"/>
                      </a:lnTo>
                      <a:lnTo>
                        <a:pt x="33" y="27"/>
                      </a:lnTo>
                      <a:lnTo>
                        <a:pt x="24" y="25"/>
                      </a:lnTo>
                      <a:lnTo>
                        <a:pt x="18" y="26"/>
                      </a:lnTo>
                      <a:lnTo>
                        <a:pt x="11" y="32"/>
                      </a:lnTo>
                      <a:lnTo>
                        <a:pt x="6" y="38"/>
                      </a:lnTo>
                      <a:lnTo>
                        <a:pt x="3" y="44"/>
                      </a:lnTo>
                      <a:lnTo>
                        <a:pt x="2" y="51"/>
                      </a:lnTo>
                      <a:lnTo>
                        <a:pt x="0" y="44"/>
                      </a:lnTo>
                      <a:lnTo>
                        <a:pt x="1" y="37"/>
                      </a:lnTo>
                      <a:lnTo>
                        <a:pt x="2" y="30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472920" y="4777200"/>
                  <a:ext cx="1080" cy="25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3" y="5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494880" y="4785120"/>
                  <a:ext cx="13320" cy="22320"/>
                </a:xfrm>
                <a:custGeom>
                  <a:avLst/>
                  <a:gdLst/>
                  <a:ahLst/>
                  <a:rect l="l" t="t" r="r" b="b"/>
                  <a:pathLst>
                    <a:path w="47" h="82">
                      <a:moveTo>
                        <a:pt x="26" y="7"/>
                      </a:moveTo>
                      <a:lnTo>
                        <a:pt x="31" y="4"/>
                      </a:lnTo>
                      <a:lnTo>
                        <a:pt x="36" y="2"/>
                      </a:lnTo>
                      <a:lnTo>
                        <a:pt x="41" y="0"/>
                      </a:lnTo>
                      <a:lnTo>
                        <a:pt x="47" y="3"/>
                      </a:lnTo>
                      <a:lnTo>
                        <a:pt x="47" y="9"/>
                      </a:lnTo>
                      <a:lnTo>
                        <a:pt x="44" y="14"/>
                      </a:lnTo>
                      <a:lnTo>
                        <a:pt x="38" y="18"/>
                      </a:lnTo>
                      <a:lnTo>
                        <a:pt x="33" y="22"/>
                      </a:lnTo>
                      <a:lnTo>
                        <a:pt x="25" y="24"/>
                      </a:lnTo>
                      <a:lnTo>
                        <a:pt x="20" y="27"/>
                      </a:lnTo>
                      <a:lnTo>
                        <a:pt x="15" y="33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4" y="51"/>
                      </a:lnTo>
                      <a:lnTo>
                        <a:pt x="14" y="56"/>
                      </a:lnTo>
                      <a:lnTo>
                        <a:pt x="14" y="63"/>
                      </a:lnTo>
                      <a:lnTo>
                        <a:pt x="12" y="73"/>
                      </a:lnTo>
                      <a:lnTo>
                        <a:pt x="9" y="82"/>
                      </a:lnTo>
                      <a:lnTo>
                        <a:pt x="4" y="76"/>
                      </a:lnTo>
                      <a:lnTo>
                        <a:pt x="2" y="69"/>
                      </a:lnTo>
                      <a:lnTo>
                        <a:pt x="0" y="62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3" y="39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2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496320" y="500724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49" h="67">
                      <a:moveTo>
                        <a:pt x="21" y="45"/>
                      </a:moveTo>
                      <a:lnTo>
                        <a:pt x="24" y="38"/>
                      </a:lnTo>
                      <a:lnTo>
                        <a:pt x="29" y="33"/>
                      </a:lnTo>
                      <a:lnTo>
                        <a:pt x="31" y="28"/>
                      </a:lnTo>
                      <a:lnTo>
                        <a:pt x="33" y="22"/>
                      </a:lnTo>
                      <a:lnTo>
                        <a:pt x="34" y="16"/>
                      </a:lnTo>
                      <a:lnTo>
                        <a:pt x="36" y="9"/>
                      </a:lnTo>
                      <a:lnTo>
                        <a:pt x="37" y="4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9" y="7"/>
                      </a:lnTo>
                      <a:lnTo>
                        <a:pt x="47" y="16"/>
                      </a:lnTo>
                      <a:lnTo>
                        <a:pt x="45" y="26"/>
                      </a:lnTo>
                      <a:lnTo>
                        <a:pt x="40" y="33"/>
                      </a:lnTo>
                      <a:lnTo>
                        <a:pt x="36" y="42"/>
                      </a:lnTo>
                      <a:lnTo>
                        <a:pt x="30" y="48"/>
                      </a:lnTo>
                      <a:lnTo>
                        <a:pt x="24" y="56"/>
                      </a:lnTo>
                      <a:lnTo>
                        <a:pt x="17" y="61"/>
                      </a:lnTo>
                      <a:lnTo>
                        <a:pt x="9" y="67"/>
                      </a:lnTo>
                      <a:lnTo>
                        <a:pt x="2" y="64"/>
                      </a:lnTo>
                      <a:lnTo>
                        <a:pt x="0" y="61"/>
                      </a:lnTo>
                      <a:lnTo>
                        <a:pt x="1" y="58"/>
                      </a:lnTo>
                      <a:lnTo>
                        <a:pt x="4" y="56"/>
                      </a:lnTo>
                      <a:lnTo>
                        <a:pt x="7" y="52"/>
                      </a:lnTo>
                      <a:lnTo>
                        <a:pt x="12" y="49"/>
                      </a:lnTo>
                      <a:lnTo>
                        <a:pt x="17" y="47"/>
                      </a:lnTo>
                      <a:lnTo>
                        <a:pt x="2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68560" y="5166000"/>
                  <a:ext cx="311040" cy="165240"/>
                </a:xfrm>
                <a:custGeom>
                  <a:avLst/>
                  <a:gdLst/>
                  <a:ahLst/>
                  <a:rect l="l" t="t" r="r" b="b"/>
                  <a:pathLst>
                    <a:path w="1185" h="626">
                      <a:moveTo>
                        <a:pt x="27" y="0"/>
                      </a:moveTo>
                      <a:lnTo>
                        <a:pt x="27" y="6"/>
                      </a:lnTo>
                      <a:lnTo>
                        <a:pt x="30" y="22"/>
                      </a:lnTo>
                      <a:lnTo>
                        <a:pt x="33" y="45"/>
                      </a:lnTo>
                      <a:lnTo>
                        <a:pt x="39" y="73"/>
                      </a:lnTo>
                      <a:lnTo>
                        <a:pt x="43" y="100"/>
                      </a:lnTo>
                      <a:lnTo>
                        <a:pt x="47" y="127"/>
                      </a:lnTo>
                      <a:lnTo>
                        <a:pt x="49" y="146"/>
                      </a:lnTo>
                      <a:lnTo>
                        <a:pt x="51" y="159"/>
                      </a:lnTo>
                      <a:lnTo>
                        <a:pt x="51" y="169"/>
                      </a:lnTo>
                      <a:lnTo>
                        <a:pt x="51" y="186"/>
                      </a:lnTo>
                      <a:lnTo>
                        <a:pt x="51" y="208"/>
                      </a:lnTo>
                      <a:lnTo>
                        <a:pt x="51" y="234"/>
                      </a:lnTo>
                      <a:lnTo>
                        <a:pt x="51" y="259"/>
                      </a:lnTo>
                      <a:lnTo>
                        <a:pt x="51" y="283"/>
                      </a:lnTo>
                      <a:lnTo>
                        <a:pt x="51" y="301"/>
                      </a:lnTo>
                      <a:lnTo>
                        <a:pt x="51" y="314"/>
                      </a:lnTo>
                      <a:lnTo>
                        <a:pt x="49" y="323"/>
                      </a:lnTo>
                      <a:lnTo>
                        <a:pt x="44" y="339"/>
                      </a:lnTo>
                      <a:lnTo>
                        <a:pt x="36" y="359"/>
                      </a:lnTo>
                      <a:lnTo>
                        <a:pt x="29" y="380"/>
                      </a:lnTo>
                      <a:lnTo>
                        <a:pt x="20" y="401"/>
                      </a:lnTo>
                      <a:lnTo>
                        <a:pt x="13" y="419"/>
                      </a:lnTo>
                      <a:lnTo>
                        <a:pt x="6" y="433"/>
                      </a:lnTo>
                      <a:lnTo>
                        <a:pt x="3" y="441"/>
                      </a:lnTo>
                      <a:lnTo>
                        <a:pt x="0" y="447"/>
                      </a:lnTo>
                      <a:lnTo>
                        <a:pt x="4" y="452"/>
                      </a:lnTo>
                      <a:lnTo>
                        <a:pt x="7" y="453"/>
                      </a:lnTo>
                      <a:lnTo>
                        <a:pt x="14" y="456"/>
                      </a:lnTo>
                      <a:lnTo>
                        <a:pt x="21" y="459"/>
                      </a:lnTo>
                      <a:lnTo>
                        <a:pt x="31" y="462"/>
                      </a:lnTo>
                      <a:lnTo>
                        <a:pt x="45" y="466"/>
                      </a:lnTo>
                      <a:lnTo>
                        <a:pt x="71" y="478"/>
                      </a:lnTo>
                      <a:lnTo>
                        <a:pt x="103" y="493"/>
                      </a:lnTo>
                      <a:lnTo>
                        <a:pt x="140" y="510"/>
                      </a:lnTo>
                      <a:lnTo>
                        <a:pt x="179" y="526"/>
                      </a:lnTo>
                      <a:lnTo>
                        <a:pt x="219" y="541"/>
                      </a:lnTo>
                      <a:lnTo>
                        <a:pt x="255" y="552"/>
                      </a:lnTo>
                      <a:lnTo>
                        <a:pt x="285" y="558"/>
                      </a:lnTo>
                      <a:lnTo>
                        <a:pt x="307" y="560"/>
                      </a:lnTo>
                      <a:lnTo>
                        <a:pt x="324" y="566"/>
                      </a:lnTo>
                      <a:lnTo>
                        <a:pt x="336" y="572"/>
                      </a:lnTo>
                      <a:lnTo>
                        <a:pt x="347" y="581"/>
                      </a:lnTo>
                      <a:lnTo>
                        <a:pt x="357" y="588"/>
                      </a:lnTo>
                      <a:lnTo>
                        <a:pt x="370" y="596"/>
                      </a:lnTo>
                      <a:lnTo>
                        <a:pt x="386" y="602"/>
                      </a:lnTo>
                      <a:lnTo>
                        <a:pt x="409" y="610"/>
                      </a:lnTo>
                      <a:lnTo>
                        <a:pt x="435" y="614"/>
                      </a:lnTo>
                      <a:lnTo>
                        <a:pt x="470" y="620"/>
                      </a:lnTo>
                      <a:lnTo>
                        <a:pt x="508" y="624"/>
                      </a:lnTo>
                      <a:lnTo>
                        <a:pt x="553" y="626"/>
                      </a:lnTo>
                      <a:lnTo>
                        <a:pt x="603" y="624"/>
                      </a:lnTo>
                      <a:lnTo>
                        <a:pt x="657" y="620"/>
                      </a:lnTo>
                      <a:lnTo>
                        <a:pt x="716" y="609"/>
                      </a:lnTo>
                      <a:lnTo>
                        <a:pt x="780" y="593"/>
                      </a:lnTo>
                      <a:lnTo>
                        <a:pt x="818" y="580"/>
                      </a:lnTo>
                      <a:lnTo>
                        <a:pt x="858" y="571"/>
                      </a:lnTo>
                      <a:lnTo>
                        <a:pt x="894" y="563"/>
                      </a:lnTo>
                      <a:lnTo>
                        <a:pt x="932" y="555"/>
                      </a:lnTo>
                      <a:lnTo>
                        <a:pt x="967" y="547"/>
                      </a:lnTo>
                      <a:lnTo>
                        <a:pt x="1003" y="538"/>
                      </a:lnTo>
                      <a:lnTo>
                        <a:pt x="1038" y="526"/>
                      </a:lnTo>
                      <a:lnTo>
                        <a:pt x="1075" y="513"/>
                      </a:lnTo>
                      <a:lnTo>
                        <a:pt x="1080" y="505"/>
                      </a:lnTo>
                      <a:lnTo>
                        <a:pt x="1090" y="491"/>
                      </a:lnTo>
                      <a:lnTo>
                        <a:pt x="1100" y="470"/>
                      </a:lnTo>
                      <a:lnTo>
                        <a:pt x="1112" y="449"/>
                      </a:lnTo>
                      <a:lnTo>
                        <a:pt x="1122" y="426"/>
                      </a:lnTo>
                      <a:lnTo>
                        <a:pt x="1131" y="408"/>
                      </a:lnTo>
                      <a:lnTo>
                        <a:pt x="1137" y="394"/>
                      </a:lnTo>
                      <a:lnTo>
                        <a:pt x="1140" y="390"/>
                      </a:lnTo>
                      <a:lnTo>
                        <a:pt x="1145" y="386"/>
                      </a:lnTo>
                      <a:lnTo>
                        <a:pt x="1159" y="378"/>
                      </a:lnTo>
                      <a:lnTo>
                        <a:pt x="1173" y="367"/>
                      </a:lnTo>
                      <a:lnTo>
                        <a:pt x="1185" y="359"/>
                      </a:lnTo>
                      <a:lnTo>
                        <a:pt x="1184" y="351"/>
                      </a:lnTo>
                      <a:lnTo>
                        <a:pt x="1167" y="351"/>
                      </a:lnTo>
                      <a:lnTo>
                        <a:pt x="1126" y="359"/>
                      </a:lnTo>
                      <a:lnTo>
                        <a:pt x="1057" y="379"/>
                      </a:lnTo>
                      <a:lnTo>
                        <a:pt x="974" y="401"/>
                      </a:lnTo>
                      <a:lnTo>
                        <a:pt x="897" y="418"/>
                      </a:lnTo>
                      <a:lnTo>
                        <a:pt x="825" y="427"/>
                      </a:lnTo>
                      <a:lnTo>
                        <a:pt x="758" y="434"/>
                      </a:lnTo>
                      <a:lnTo>
                        <a:pt x="694" y="435"/>
                      </a:lnTo>
                      <a:lnTo>
                        <a:pt x="634" y="434"/>
                      </a:lnTo>
                      <a:lnTo>
                        <a:pt x="575" y="427"/>
                      </a:lnTo>
                      <a:lnTo>
                        <a:pt x="519" y="421"/>
                      </a:lnTo>
                      <a:lnTo>
                        <a:pt x="454" y="395"/>
                      </a:lnTo>
                      <a:lnTo>
                        <a:pt x="377" y="344"/>
                      </a:lnTo>
                      <a:lnTo>
                        <a:pt x="295" y="275"/>
                      </a:lnTo>
                      <a:lnTo>
                        <a:pt x="215" y="201"/>
                      </a:lnTo>
                      <a:lnTo>
                        <a:pt x="141" y="126"/>
                      </a:lnTo>
                      <a:lnTo>
                        <a:pt x="81" y="61"/>
                      </a:lnTo>
                      <a:lnTo>
                        <a:pt x="41" y="16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33840" y="5026680"/>
                  <a:ext cx="102240" cy="447480"/>
                </a:xfrm>
                <a:custGeom>
                  <a:avLst/>
                  <a:gdLst/>
                  <a:ahLst/>
                  <a:rect l="l" t="t" r="r" b="b"/>
                  <a:pathLst>
                    <a:path w="388" h="1704">
                      <a:moveTo>
                        <a:pt x="306" y="0"/>
                      </a:moveTo>
                      <a:lnTo>
                        <a:pt x="302" y="9"/>
                      </a:lnTo>
                      <a:lnTo>
                        <a:pt x="293" y="33"/>
                      </a:lnTo>
                      <a:lnTo>
                        <a:pt x="281" y="71"/>
                      </a:lnTo>
                      <a:lnTo>
                        <a:pt x="269" y="120"/>
                      </a:lnTo>
                      <a:lnTo>
                        <a:pt x="254" y="174"/>
                      </a:lnTo>
                      <a:lnTo>
                        <a:pt x="242" y="233"/>
                      </a:lnTo>
                      <a:lnTo>
                        <a:pt x="233" y="292"/>
                      </a:lnTo>
                      <a:lnTo>
                        <a:pt x="231" y="351"/>
                      </a:lnTo>
                      <a:lnTo>
                        <a:pt x="234" y="410"/>
                      </a:lnTo>
                      <a:lnTo>
                        <a:pt x="246" y="477"/>
                      </a:lnTo>
                      <a:lnTo>
                        <a:pt x="262" y="547"/>
                      </a:lnTo>
                      <a:lnTo>
                        <a:pt x="284" y="623"/>
                      </a:lnTo>
                      <a:lnTo>
                        <a:pt x="305" y="696"/>
                      </a:lnTo>
                      <a:lnTo>
                        <a:pt x="328" y="769"/>
                      </a:lnTo>
                      <a:lnTo>
                        <a:pt x="348" y="838"/>
                      </a:lnTo>
                      <a:lnTo>
                        <a:pt x="365" y="902"/>
                      </a:lnTo>
                      <a:lnTo>
                        <a:pt x="376" y="954"/>
                      </a:lnTo>
                      <a:lnTo>
                        <a:pt x="383" y="998"/>
                      </a:lnTo>
                      <a:lnTo>
                        <a:pt x="387" y="1031"/>
                      </a:lnTo>
                      <a:lnTo>
                        <a:pt x="388" y="1058"/>
                      </a:lnTo>
                      <a:lnTo>
                        <a:pt x="384" y="1078"/>
                      </a:lnTo>
                      <a:lnTo>
                        <a:pt x="381" y="1092"/>
                      </a:lnTo>
                      <a:lnTo>
                        <a:pt x="375" y="1102"/>
                      </a:lnTo>
                      <a:lnTo>
                        <a:pt x="368" y="1112"/>
                      </a:lnTo>
                      <a:lnTo>
                        <a:pt x="357" y="1119"/>
                      </a:lnTo>
                      <a:lnTo>
                        <a:pt x="340" y="1127"/>
                      </a:lnTo>
                      <a:lnTo>
                        <a:pt x="320" y="1134"/>
                      </a:lnTo>
                      <a:lnTo>
                        <a:pt x="299" y="1145"/>
                      </a:lnTo>
                      <a:lnTo>
                        <a:pt x="274" y="1158"/>
                      </a:lnTo>
                      <a:lnTo>
                        <a:pt x="250" y="1175"/>
                      </a:lnTo>
                      <a:lnTo>
                        <a:pt x="227" y="1197"/>
                      </a:lnTo>
                      <a:lnTo>
                        <a:pt x="206" y="1226"/>
                      </a:lnTo>
                      <a:lnTo>
                        <a:pt x="185" y="1256"/>
                      </a:lnTo>
                      <a:lnTo>
                        <a:pt x="165" y="1286"/>
                      </a:lnTo>
                      <a:lnTo>
                        <a:pt x="143" y="1315"/>
                      </a:lnTo>
                      <a:lnTo>
                        <a:pt x="125" y="1344"/>
                      </a:lnTo>
                      <a:lnTo>
                        <a:pt x="108" y="1368"/>
                      </a:lnTo>
                      <a:lnTo>
                        <a:pt x="96" y="1392"/>
                      </a:lnTo>
                      <a:lnTo>
                        <a:pt x="87" y="1411"/>
                      </a:lnTo>
                      <a:lnTo>
                        <a:pt x="86" y="1429"/>
                      </a:lnTo>
                      <a:lnTo>
                        <a:pt x="85" y="1441"/>
                      </a:lnTo>
                      <a:lnTo>
                        <a:pt x="81" y="1453"/>
                      </a:lnTo>
                      <a:lnTo>
                        <a:pt x="76" y="1465"/>
                      </a:lnTo>
                      <a:lnTo>
                        <a:pt x="72" y="1479"/>
                      </a:lnTo>
                      <a:lnTo>
                        <a:pt x="70" y="1493"/>
                      </a:lnTo>
                      <a:lnTo>
                        <a:pt x="72" y="1511"/>
                      </a:lnTo>
                      <a:lnTo>
                        <a:pt x="80" y="1532"/>
                      </a:lnTo>
                      <a:lnTo>
                        <a:pt x="97" y="1559"/>
                      </a:lnTo>
                      <a:lnTo>
                        <a:pt x="115" y="1585"/>
                      </a:lnTo>
                      <a:lnTo>
                        <a:pt x="130" y="1609"/>
                      </a:lnTo>
                      <a:lnTo>
                        <a:pt x="143" y="1626"/>
                      </a:lnTo>
                      <a:lnTo>
                        <a:pt x="155" y="1641"/>
                      </a:lnTo>
                      <a:lnTo>
                        <a:pt x="162" y="1652"/>
                      </a:lnTo>
                      <a:lnTo>
                        <a:pt x="170" y="1659"/>
                      </a:lnTo>
                      <a:lnTo>
                        <a:pt x="176" y="1664"/>
                      </a:lnTo>
                      <a:lnTo>
                        <a:pt x="183" y="1667"/>
                      </a:lnTo>
                      <a:lnTo>
                        <a:pt x="189" y="1668"/>
                      </a:lnTo>
                      <a:lnTo>
                        <a:pt x="199" y="1673"/>
                      </a:lnTo>
                      <a:lnTo>
                        <a:pt x="210" y="1679"/>
                      </a:lnTo>
                      <a:lnTo>
                        <a:pt x="221" y="1686"/>
                      </a:lnTo>
                      <a:lnTo>
                        <a:pt x="232" y="1691"/>
                      </a:lnTo>
                      <a:lnTo>
                        <a:pt x="242" y="1698"/>
                      </a:lnTo>
                      <a:lnTo>
                        <a:pt x="248" y="1702"/>
                      </a:lnTo>
                      <a:lnTo>
                        <a:pt x="251" y="1704"/>
                      </a:lnTo>
                      <a:lnTo>
                        <a:pt x="246" y="1702"/>
                      </a:lnTo>
                      <a:lnTo>
                        <a:pt x="234" y="1698"/>
                      </a:lnTo>
                      <a:lnTo>
                        <a:pt x="217" y="1691"/>
                      </a:lnTo>
                      <a:lnTo>
                        <a:pt x="197" y="1686"/>
                      </a:lnTo>
                      <a:lnTo>
                        <a:pt x="175" y="1679"/>
                      </a:lnTo>
                      <a:lnTo>
                        <a:pt x="155" y="1673"/>
                      </a:lnTo>
                      <a:lnTo>
                        <a:pt x="138" y="1668"/>
                      </a:lnTo>
                      <a:lnTo>
                        <a:pt x="127" y="1667"/>
                      </a:lnTo>
                      <a:lnTo>
                        <a:pt x="115" y="1660"/>
                      </a:lnTo>
                      <a:lnTo>
                        <a:pt x="98" y="1649"/>
                      </a:lnTo>
                      <a:lnTo>
                        <a:pt x="77" y="1632"/>
                      </a:lnTo>
                      <a:lnTo>
                        <a:pt x="55" y="1614"/>
                      </a:lnTo>
                      <a:lnTo>
                        <a:pt x="34" y="1594"/>
                      </a:lnTo>
                      <a:lnTo>
                        <a:pt x="17" y="1577"/>
                      </a:lnTo>
                      <a:lnTo>
                        <a:pt x="5" y="1563"/>
                      </a:lnTo>
                      <a:lnTo>
                        <a:pt x="0" y="1556"/>
                      </a:lnTo>
                      <a:lnTo>
                        <a:pt x="0" y="1546"/>
                      </a:lnTo>
                      <a:lnTo>
                        <a:pt x="0" y="1527"/>
                      </a:lnTo>
                      <a:lnTo>
                        <a:pt x="0" y="1503"/>
                      </a:lnTo>
                      <a:lnTo>
                        <a:pt x="3" y="1475"/>
                      </a:lnTo>
                      <a:lnTo>
                        <a:pt x="4" y="1447"/>
                      </a:lnTo>
                      <a:lnTo>
                        <a:pt x="7" y="1422"/>
                      </a:lnTo>
                      <a:lnTo>
                        <a:pt x="10" y="1403"/>
                      </a:lnTo>
                      <a:lnTo>
                        <a:pt x="14" y="1394"/>
                      </a:lnTo>
                      <a:lnTo>
                        <a:pt x="21" y="1381"/>
                      </a:lnTo>
                      <a:lnTo>
                        <a:pt x="34" y="1358"/>
                      </a:lnTo>
                      <a:lnTo>
                        <a:pt x="49" y="1324"/>
                      </a:lnTo>
                      <a:lnTo>
                        <a:pt x="67" y="1289"/>
                      </a:lnTo>
                      <a:lnTo>
                        <a:pt x="84" y="1253"/>
                      </a:lnTo>
                      <a:lnTo>
                        <a:pt x="100" y="1220"/>
                      </a:lnTo>
                      <a:lnTo>
                        <a:pt x="112" y="1198"/>
                      </a:lnTo>
                      <a:lnTo>
                        <a:pt x="121" y="1188"/>
                      </a:lnTo>
                      <a:lnTo>
                        <a:pt x="128" y="1175"/>
                      </a:lnTo>
                      <a:lnTo>
                        <a:pt x="143" y="1150"/>
                      </a:lnTo>
                      <a:lnTo>
                        <a:pt x="163" y="1113"/>
                      </a:lnTo>
                      <a:lnTo>
                        <a:pt x="186" y="1072"/>
                      </a:lnTo>
                      <a:lnTo>
                        <a:pt x="207" y="1029"/>
                      </a:lnTo>
                      <a:lnTo>
                        <a:pt x="228" y="992"/>
                      </a:lnTo>
                      <a:lnTo>
                        <a:pt x="243" y="962"/>
                      </a:lnTo>
                      <a:lnTo>
                        <a:pt x="251" y="947"/>
                      </a:lnTo>
                      <a:lnTo>
                        <a:pt x="252" y="928"/>
                      </a:lnTo>
                      <a:lnTo>
                        <a:pt x="252" y="896"/>
                      </a:lnTo>
                      <a:lnTo>
                        <a:pt x="249" y="854"/>
                      </a:lnTo>
                      <a:lnTo>
                        <a:pt x="246" y="808"/>
                      </a:lnTo>
                      <a:lnTo>
                        <a:pt x="241" y="761"/>
                      </a:lnTo>
                      <a:lnTo>
                        <a:pt x="236" y="720"/>
                      </a:lnTo>
                      <a:lnTo>
                        <a:pt x="232" y="689"/>
                      </a:lnTo>
                      <a:lnTo>
                        <a:pt x="231" y="675"/>
                      </a:lnTo>
                      <a:lnTo>
                        <a:pt x="227" y="657"/>
                      </a:lnTo>
                      <a:lnTo>
                        <a:pt x="220" y="619"/>
                      </a:lnTo>
                      <a:lnTo>
                        <a:pt x="212" y="568"/>
                      </a:lnTo>
                      <a:lnTo>
                        <a:pt x="204" y="511"/>
                      </a:lnTo>
                      <a:lnTo>
                        <a:pt x="195" y="454"/>
                      </a:lnTo>
                      <a:lnTo>
                        <a:pt x="188" y="404"/>
                      </a:lnTo>
                      <a:lnTo>
                        <a:pt x="183" y="366"/>
                      </a:lnTo>
                      <a:lnTo>
                        <a:pt x="183" y="351"/>
                      </a:lnTo>
                      <a:lnTo>
                        <a:pt x="186" y="336"/>
                      </a:lnTo>
                      <a:lnTo>
                        <a:pt x="196" y="305"/>
                      </a:lnTo>
                      <a:lnTo>
                        <a:pt x="209" y="262"/>
                      </a:lnTo>
                      <a:lnTo>
                        <a:pt x="224" y="215"/>
                      </a:lnTo>
                      <a:lnTo>
                        <a:pt x="237" y="168"/>
                      </a:lnTo>
                      <a:lnTo>
                        <a:pt x="249" y="127"/>
                      </a:lnTo>
                      <a:lnTo>
                        <a:pt x="258" y="97"/>
                      </a:lnTo>
                      <a:lnTo>
                        <a:pt x="262" y="87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14840" y="5436720"/>
                  <a:ext cx="37800" cy="42840"/>
                </a:xfrm>
                <a:custGeom>
                  <a:avLst/>
                  <a:gdLst/>
                  <a:ahLst/>
                  <a:rect l="l" t="t" r="r" b="b"/>
                  <a:pathLst>
                    <a:path w="147" h="163">
                      <a:moveTo>
                        <a:pt x="124" y="0"/>
                      </a:moveTo>
                      <a:lnTo>
                        <a:pt x="124" y="3"/>
                      </a:lnTo>
                      <a:lnTo>
                        <a:pt x="127" y="9"/>
                      </a:lnTo>
                      <a:lnTo>
                        <a:pt x="130" y="18"/>
                      </a:lnTo>
                      <a:lnTo>
                        <a:pt x="135" y="29"/>
                      </a:lnTo>
                      <a:lnTo>
                        <a:pt x="139" y="40"/>
                      </a:lnTo>
                      <a:lnTo>
                        <a:pt x="143" y="51"/>
                      </a:lnTo>
                      <a:lnTo>
                        <a:pt x="145" y="59"/>
                      </a:lnTo>
                      <a:lnTo>
                        <a:pt x="147" y="66"/>
                      </a:lnTo>
                      <a:lnTo>
                        <a:pt x="146" y="71"/>
                      </a:lnTo>
                      <a:lnTo>
                        <a:pt x="144" y="81"/>
                      </a:lnTo>
                      <a:lnTo>
                        <a:pt x="142" y="92"/>
                      </a:lnTo>
                      <a:lnTo>
                        <a:pt x="140" y="105"/>
                      </a:lnTo>
                      <a:lnTo>
                        <a:pt x="136" y="115"/>
                      </a:lnTo>
                      <a:lnTo>
                        <a:pt x="134" y="126"/>
                      </a:lnTo>
                      <a:lnTo>
                        <a:pt x="133" y="132"/>
                      </a:lnTo>
                      <a:lnTo>
                        <a:pt x="133" y="136"/>
                      </a:lnTo>
                      <a:lnTo>
                        <a:pt x="130" y="136"/>
                      </a:lnTo>
                      <a:lnTo>
                        <a:pt x="125" y="140"/>
                      </a:lnTo>
                      <a:lnTo>
                        <a:pt x="115" y="144"/>
                      </a:lnTo>
                      <a:lnTo>
                        <a:pt x="105" y="150"/>
                      </a:lnTo>
                      <a:lnTo>
                        <a:pt x="92" y="154"/>
                      </a:lnTo>
                      <a:lnTo>
                        <a:pt x="81" y="159"/>
                      </a:lnTo>
                      <a:lnTo>
                        <a:pt x="68" y="161"/>
                      </a:lnTo>
                      <a:lnTo>
                        <a:pt x="58" y="163"/>
                      </a:lnTo>
                      <a:lnTo>
                        <a:pt x="47" y="159"/>
                      </a:lnTo>
                      <a:lnTo>
                        <a:pt x="37" y="157"/>
                      </a:lnTo>
                      <a:lnTo>
                        <a:pt x="27" y="154"/>
                      </a:lnTo>
                      <a:lnTo>
                        <a:pt x="20" y="152"/>
                      </a:lnTo>
                      <a:lnTo>
                        <a:pt x="12" y="149"/>
                      </a:lnTo>
                      <a:lnTo>
                        <a:pt x="7" y="146"/>
                      </a:lnTo>
                      <a:lnTo>
                        <a:pt x="2" y="145"/>
                      </a:lnTo>
                      <a:lnTo>
                        <a:pt x="0" y="143"/>
                      </a:lnTo>
                      <a:lnTo>
                        <a:pt x="2" y="141"/>
                      </a:lnTo>
                      <a:lnTo>
                        <a:pt x="6" y="138"/>
                      </a:lnTo>
                      <a:lnTo>
                        <a:pt x="13" y="136"/>
                      </a:lnTo>
                      <a:lnTo>
                        <a:pt x="24" y="134"/>
                      </a:lnTo>
                      <a:lnTo>
                        <a:pt x="41" y="131"/>
                      </a:lnTo>
                      <a:lnTo>
                        <a:pt x="58" y="127"/>
                      </a:lnTo>
                      <a:lnTo>
                        <a:pt x="72" y="123"/>
                      </a:lnTo>
                      <a:lnTo>
                        <a:pt x="83" y="116"/>
                      </a:lnTo>
                      <a:lnTo>
                        <a:pt x="92" y="111"/>
                      </a:lnTo>
                      <a:lnTo>
                        <a:pt x="99" y="105"/>
                      </a:lnTo>
                      <a:lnTo>
                        <a:pt x="104" y="98"/>
                      </a:lnTo>
                      <a:lnTo>
                        <a:pt x="106" y="92"/>
                      </a:lnTo>
                      <a:lnTo>
                        <a:pt x="110" y="87"/>
                      </a:lnTo>
                      <a:lnTo>
                        <a:pt x="110" y="79"/>
                      </a:lnTo>
                      <a:lnTo>
                        <a:pt x="112" y="67"/>
                      </a:lnTo>
                      <a:lnTo>
                        <a:pt x="114" y="52"/>
                      </a:lnTo>
                      <a:lnTo>
                        <a:pt x="117" y="38"/>
                      </a:lnTo>
                      <a:lnTo>
                        <a:pt x="119" y="23"/>
                      </a:lnTo>
                      <a:lnTo>
                        <a:pt x="121" y="11"/>
                      </a:lnTo>
                      <a:lnTo>
                        <a:pt x="122" y="3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855880" y="5450760"/>
                  <a:ext cx="39240" cy="20880"/>
                </a:xfrm>
                <a:custGeom>
                  <a:avLst/>
                  <a:gdLst/>
                  <a:ahLst/>
                  <a:rect l="l" t="t" r="r" b="b"/>
                  <a:pathLst>
                    <a:path w="154" h="83">
                      <a:moveTo>
                        <a:pt x="6" y="6"/>
                      </a:moveTo>
                      <a:lnTo>
                        <a:pt x="6" y="10"/>
                      </a:lnTo>
                      <a:lnTo>
                        <a:pt x="10" y="19"/>
                      </a:lnTo>
                      <a:lnTo>
                        <a:pt x="14" y="25"/>
                      </a:lnTo>
                      <a:lnTo>
                        <a:pt x="19" y="30"/>
                      </a:lnTo>
                      <a:lnTo>
                        <a:pt x="24" y="35"/>
                      </a:lnTo>
                      <a:lnTo>
                        <a:pt x="34" y="41"/>
                      </a:lnTo>
                      <a:lnTo>
                        <a:pt x="43" y="43"/>
                      </a:lnTo>
                      <a:lnTo>
                        <a:pt x="53" y="46"/>
                      </a:lnTo>
                      <a:lnTo>
                        <a:pt x="64" y="47"/>
                      </a:lnTo>
                      <a:lnTo>
                        <a:pt x="75" y="49"/>
                      </a:lnTo>
                      <a:lnTo>
                        <a:pt x="83" y="49"/>
                      </a:lnTo>
                      <a:lnTo>
                        <a:pt x="92" y="50"/>
                      </a:lnTo>
                      <a:lnTo>
                        <a:pt x="97" y="50"/>
                      </a:lnTo>
                      <a:lnTo>
                        <a:pt x="99" y="52"/>
                      </a:lnTo>
                      <a:lnTo>
                        <a:pt x="134" y="30"/>
                      </a:lnTo>
                      <a:lnTo>
                        <a:pt x="154" y="0"/>
                      </a:lnTo>
                      <a:lnTo>
                        <a:pt x="154" y="52"/>
                      </a:lnTo>
                      <a:lnTo>
                        <a:pt x="134" y="66"/>
                      </a:lnTo>
                      <a:lnTo>
                        <a:pt x="64" y="83"/>
                      </a:lnTo>
                      <a:lnTo>
                        <a:pt x="0" y="83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24520" y="5436720"/>
                  <a:ext cx="111600" cy="42840"/>
                </a:xfrm>
                <a:custGeom>
                  <a:avLst/>
                  <a:gdLst/>
                  <a:ahLst/>
                  <a:rect l="l" t="t" r="r" b="b"/>
                  <a:pathLst>
                    <a:path w="424" h="169">
                      <a:moveTo>
                        <a:pt x="0" y="24"/>
                      </a:moveTo>
                      <a:lnTo>
                        <a:pt x="0" y="25"/>
                      </a:lnTo>
                      <a:lnTo>
                        <a:pt x="1" y="29"/>
                      </a:lnTo>
                      <a:lnTo>
                        <a:pt x="5" y="35"/>
                      </a:lnTo>
                      <a:lnTo>
                        <a:pt x="13" y="44"/>
                      </a:lnTo>
                      <a:lnTo>
                        <a:pt x="22" y="53"/>
                      </a:lnTo>
                      <a:lnTo>
                        <a:pt x="40" y="65"/>
                      </a:lnTo>
                      <a:lnTo>
                        <a:pt x="60" y="78"/>
                      </a:lnTo>
                      <a:lnTo>
                        <a:pt x="89" y="90"/>
                      </a:lnTo>
                      <a:lnTo>
                        <a:pt x="116" y="101"/>
                      </a:lnTo>
                      <a:lnTo>
                        <a:pt x="136" y="109"/>
                      </a:lnTo>
                      <a:lnTo>
                        <a:pt x="152" y="113"/>
                      </a:lnTo>
                      <a:lnTo>
                        <a:pt x="165" y="117"/>
                      </a:lnTo>
                      <a:lnTo>
                        <a:pt x="176" y="118"/>
                      </a:lnTo>
                      <a:lnTo>
                        <a:pt x="188" y="119"/>
                      </a:lnTo>
                      <a:lnTo>
                        <a:pt x="199" y="119"/>
                      </a:lnTo>
                      <a:lnTo>
                        <a:pt x="217" y="122"/>
                      </a:lnTo>
                      <a:lnTo>
                        <a:pt x="234" y="123"/>
                      </a:lnTo>
                      <a:lnTo>
                        <a:pt x="251" y="126"/>
                      </a:lnTo>
                      <a:lnTo>
                        <a:pt x="268" y="128"/>
                      </a:lnTo>
                      <a:lnTo>
                        <a:pt x="285" y="130"/>
                      </a:lnTo>
                      <a:lnTo>
                        <a:pt x="300" y="130"/>
                      </a:lnTo>
                      <a:lnTo>
                        <a:pt x="316" y="128"/>
                      </a:lnTo>
                      <a:lnTo>
                        <a:pt x="329" y="123"/>
                      </a:lnTo>
                      <a:lnTo>
                        <a:pt x="343" y="114"/>
                      </a:lnTo>
                      <a:lnTo>
                        <a:pt x="353" y="101"/>
                      </a:lnTo>
                      <a:lnTo>
                        <a:pt x="362" y="88"/>
                      </a:lnTo>
                      <a:lnTo>
                        <a:pt x="371" y="76"/>
                      </a:lnTo>
                      <a:lnTo>
                        <a:pt x="378" y="66"/>
                      </a:lnTo>
                      <a:lnTo>
                        <a:pt x="384" y="55"/>
                      </a:lnTo>
                      <a:lnTo>
                        <a:pt x="388" y="49"/>
                      </a:lnTo>
                      <a:lnTo>
                        <a:pt x="390" y="43"/>
                      </a:lnTo>
                      <a:lnTo>
                        <a:pt x="391" y="42"/>
                      </a:lnTo>
                      <a:lnTo>
                        <a:pt x="382" y="0"/>
                      </a:lnTo>
                      <a:lnTo>
                        <a:pt x="383" y="0"/>
                      </a:lnTo>
                      <a:lnTo>
                        <a:pt x="387" y="2"/>
                      </a:lnTo>
                      <a:lnTo>
                        <a:pt x="392" y="6"/>
                      </a:lnTo>
                      <a:lnTo>
                        <a:pt x="400" y="11"/>
                      </a:lnTo>
                      <a:lnTo>
                        <a:pt x="406" y="15"/>
                      </a:lnTo>
                      <a:lnTo>
                        <a:pt x="413" y="23"/>
                      </a:lnTo>
                      <a:lnTo>
                        <a:pt x="418" y="29"/>
                      </a:lnTo>
                      <a:lnTo>
                        <a:pt x="422" y="38"/>
                      </a:lnTo>
                      <a:lnTo>
                        <a:pt x="422" y="46"/>
                      </a:lnTo>
                      <a:lnTo>
                        <a:pt x="424" y="58"/>
                      </a:lnTo>
                      <a:lnTo>
                        <a:pt x="424" y="71"/>
                      </a:lnTo>
                      <a:lnTo>
                        <a:pt x="424" y="86"/>
                      </a:lnTo>
                      <a:lnTo>
                        <a:pt x="421" y="98"/>
                      </a:lnTo>
                      <a:lnTo>
                        <a:pt x="420" y="110"/>
                      </a:lnTo>
                      <a:lnTo>
                        <a:pt x="417" y="118"/>
                      </a:lnTo>
                      <a:lnTo>
                        <a:pt x="415" y="125"/>
                      </a:lnTo>
                      <a:lnTo>
                        <a:pt x="409" y="127"/>
                      </a:lnTo>
                      <a:lnTo>
                        <a:pt x="400" y="133"/>
                      </a:lnTo>
                      <a:lnTo>
                        <a:pt x="387" y="140"/>
                      </a:lnTo>
                      <a:lnTo>
                        <a:pt x="375" y="147"/>
                      </a:lnTo>
                      <a:lnTo>
                        <a:pt x="362" y="153"/>
                      </a:lnTo>
                      <a:lnTo>
                        <a:pt x="353" y="159"/>
                      </a:lnTo>
                      <a:lnTo>
                        <a:pt x="345" y="163"/>
                      </a:lnTo>
                      <a:lnTo>
                        <a:pt x="343" y="166"/>
                      </a:lnTo>
                      <a:lnTo>
                        <a:pt x="338" y="166"/>
                      </a:lnTo>
                      <a:lnTo>
                        <a:pt x="326" y="166"/>
                      </a:lnTo>
                      <a:lnTo>
                        <a:pt x="309" y="166"/>
                      </a:lnTo>
                      <a:lnTo>
                        <a:pt x="291" y="167"/>
                      </a:lnTo>
                      <a:lnTo>
                        <a:pt x="270" y="167"/>
                      </a:lnTo>
                      <a:lnTo>
                        <a:pt x="252" y="168"/>
                      </a:lnTo>
                      <a:lnTo>
                        <a:pt x="237" y="168"/>
                      </a:lnTo>
                      <a:lnTo>
                        <a:pt x="229" y="169"/>
                      </a:lnTo>
                      <a:lnTo>
                        <a:pt x="221" y="168"/>
                      </a:lnTo>
                      <a:lnTo>
                        <a:pt x="207" y="166"/>
                      </a:lnTo>
                      <a:lnTo>
                        <a:pt x="188" y="163"/>
                      </a:lnTo>
                      <a:lnTo>
                        <a:pt x="168" y="161"/>
                      </a:lnTo>
                      <a:lnTo>
                        <a:pt x="147" y="158"/>
                      </a:lnTo>
                      <a:lnTo>
                        <a:pt x="129" y="156"/>
                      </a:lnTo>
                      <a:lnTo>
                        <a:pt x="112" y="155"/>
                      </a:lnTo>
                      <a:lnTo>
                        <a:pt x="103" y="155"/>
                      </a:lnTo>
                      <a:lnTo>
                        <a:pt x="92" y="153"/>
                      </a:lnTo>
                      <a:lnTo>
                        <a:pt x="80" y="149"/>
                      </a:lnTo>
                      <a:lnTo>
                        <a:pt x="66" y="144"/>
                      </a:lnTo>
                      <a:lnTo>
                        <a:pt x="54" y="140"/>
                      </a:lnTo>
                      <a:lnTo>
                        <a:pt x="40" y="133"/>
                      </a:lnTo>
                      <a:lnTo>
                        <a:pt x="30" y="129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39000" y="5436720"/>
                  <a:ext cx="33840" cy="35280"/>
                </a:xfrm>
                <a:custGeom>
                  <a:avLst/>
                  <a:gdLst/>
                  <a:ahLst/>
                  <a:rect l="l" t="t" r="r" b="b"/>
                  <a:pathLst>
                    <a:path w="131" h="136">
                      <a:moveTo>
                        <a:pt x="11" y="80"/>
                      </a:moveTo>
                      <a:lnTo>
                        <a:pt x="13" y="81"/>
                      </a:lnTo>
                      <a:lnTo>
                        <a:pt x="14" y="81"/>
                      </a:lnTo>
                      <a:lnTo>
                        <a:pt x="17" y="82"/>
                      </a:lnTo>
                      <a:lnTo>
                        <a:pt x="22" y="82"/>
                      </a:lnTo>
                      <a:lnTo>
                        <a:pt x="28" y="83"/>
                      </a:lnTo>
                      <a:lnTo>
                        <a:pt x="34" y="83"/>
                      </a:lnTo>
                      <a:lnTo>
                        <a:pt x="41" y="84"/>
                      </a:lnTo>
                      <a:lnTo>
                        <a:pt x="47" y="85"/>
                      </a:lnTo>
                      <a:lnTo>
                        <a:pt x="54" y="86"/>
                      </a:lnTo>
                      <a:lnTo>
                        <a:pt x="60" y="85"/>
                      </a:lnTo>
                      <a:lnTo>
                        <a:pt x="67" y="83"/>
                      </a:lnTo>
                      <a:lnTo>
                        <a:pt x="73" y="78"/>
                      </a:lnTo>
                      <a:lnTo>
                        <a:pt x="79" y="70"/>
                      </a:lnTo>
                      <a:lnTo>
                        <a:pt x="85" y="59"/>
                      </a:lnTo>
                      <a:lnTo>
                        <a:pt x="91" y="50"/>
                      </a:lnTo>
                      <a:lnTo>
                        <a:pt x="96" y="41"/>
                      </a:lnTo>
                      <a:lnTo>
                        <a:pt x="101" y="35"/>
                      </a:lnTo>
                      <a:lnTo>
                        <a:pt x="104" y="28"/>
                      </a:lnTo>
                      <a:lnTo>
                        <a:pt x="107" y="24"/>
                      </a:lnTo>
                      <a:lnTo>
                        <a:pt x="109" y="21"/>
                      </a:lnTo>
                      <a:lnTo>
                        <a:pt x="111" y="21"/>
                      </a:lnTo>
                      <a:lnTo>
                        <a:pt x="125" y="0"/>
                      </a:lnTo>
                      <a:lnTo>
                        <a:pt x="131" y="53"/>
                      </a:lnTo>
                      <a:lnTo>
                        <a:pt x="129" y="54"/>
                      </a:lnTo>
                      <a:lnTo>
                        <a:pt x="127" y="58"/>
                      </a:lnTo>
                      <a:lnTo>
                        <a:pt x="121" y="64"/>
                      </a:lnTo>
                      <a:lnTo>
                        <a:pt x="117" y="71"/>
                      </a:lnTo>
                      <a:lnTo>
                        <a:pt x="112" y="78"/>
                      </a:lnTo>
                      <a:lnTo>
                        <a:pt x="106" y="85"/>
                      </a:lnTo>
                      <a:lnTo>
                        <a:pt x="100" y="91"/>
                      </a:lnTo>
                      <a:lnTo>
                        <a:pt x="97" y="97"/>
                      </a:lnTo>
                      <a:lnTo>
                        <a:pt x="90" y="100"/>
                      </a:lnTo>
                      <a:lnTo>
                        <a:pt x="84" y="106"/>
                      </a:lnTo>
                      <a:lnTo>
                        <a:pt x="75" y="111"/>
                      </a:lnTo>
                      <a:lnTo>
                        <a:pt x="67" y="116"/>
                      </a:lnTo>
                      <a:lnTo>
                        <a:pt x="57" y="120"/>
                      </a:lnTo>
                      <a:lnTo>
                        <a:pt x="51" y="124"/>
                      </a:lnTo>
                      <a:lnTo>
                        <a:pt x="46" y="126"/>
                      </a:lnTo>
                      <a:lnTo>
                        <a:pt x="45" y="128"/>
                      </a:lnTo>
                      <a:lnTo>
                        <a:pt x="0" y="136"/>
                      </a:lnTo>
                      <a:lnTo>
                        <a:pt x="11" y="8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371760" y="5427360"/>
                  <a:ext cx="22320" cy="3528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21" y="86"/>
                      </a:moveTo>
                      <a:lnTo>
                        <a:pt x="22" y="85"/>
                      </a:lnTo>
                      <a:lnTo>
                        <a:pt x="27" y="84"/>
                      </a:lnTo>
                      <a:lnTo>
                        <a:pt x="30" y="80"/>
                      </a:lnTo>
                      <a:lnTo>
                        <a:pt x="33" y="78"/>
                      </a:lnTo>
                      <a:lnTo>
                        <a:pt x="37" y="74"/>
                      </a:lnTo>
                      <a:lnTo>
                        <a:pt x="42" y="69"/>
                      </a:lnTo>
                      <a:lnTo>
                        <a:pt x="44" y="62"/>
                      </a:lnTo>
                      <a:lnTo>
                        <a:pt x="47" y="56"/>
                      </a:lnTo>
                      <a:lnTo>
                        <a:pt x="49" y="50"/>
                      </a:lnTo>
                      <a:lnTo>
                        <a:pt x="52" y="47"/>
                      </a:lnTo>
                      <a:lnTo>
                        <a:pt x="57" y="39"/>
                      </a:lnTo>
                      <a:lnTo>
                        <a:pt x="62" y="31"/>
                      </a:lnTo>
                      <a:lnTo>
                        <a:pt x="64" y="26"/>
                      </a:lnTo>
                      <a:lnTo>
                        <a:pt x="66" y="20"/>
                      </a:lnTo>
                      <a:lnTo>
                        <a:pt x="68" y="15"/>
                      </a:lnTo>
                      <a:lnTo>
                        <a:pt x="71" y="11"/>
                      </a:lnTo>
                      <a:lnTo>
                        <a:pt x="74" y="2"/>
                      </a:lnTo>
                      <a:lnTo>
                        <a:pt x="76" y="0"/>
                      </a:lnTo>
                      <a:lnTo>
                        <a:pt x="76" y="2"/>
                      </a:lnTo>
                      <a:lnTo>
                        <a:pt x="76" y="7"/>
                      </a:lnTo>
                      <a:lnTo>
                        <a:pt x="77" y="16"/>
                      </a:lnTo>
                      <a:lnTo>
                        <a:pt x="78" y="27"/>
                      </a:lnTo>
                      <a:lnTo>
                        <a:pt x="78" y="37"/>
                      </a:lnTo>
                      <a:lnTo>
                        <a:pt x="79" y="48"/>
                      </a:lnTo>
                      <a:lnTo>
                        <a:pt x="80" y="58"/>
                      </a:lnTo>
                      <a:lnTo>
                        <a:pt x="81" y="65"/>
                      </a:lnTo>
                      <a:lnTo>
                        <a:pt x="79" y="70"/>
                      </a:lnTo>
                      <a:lnTo>
                        <a:pt x="77" y="76"/>
                      </a:lnTo>
                      <a:lnTo>
                        <a:pt x="73" y="83"/>
                      </a:lnTo>
                      <a:lnTo>
                        <a:pt x="69" y="89"/>
                      </a:lnTo>
                      <a:lnTo>
                        <a:pt x="61" y="99"/>
                      </a:lnTo>
                      <a:lnTo>
                        <a:pt x="58" y="103"/>
                      </a:lnTo>
                      <a:lnTo>
                        <a:pt x="0" y="137"/>
                      </a:lnTo>
                      <a:lnTo>
                        <a:pt x="17" y="110"/>
                      </a:lnTo>
                      <a:lnTo>
                        <a:pt x="21" y="86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366360" y="5148720"/>
                  <a:ext cx="65520" cy="112680"/>
                </a:xfrm>
                <a:custGeom>
                  <a:avLst/>
                  <a:gdLst/>
                  <a:ahLst/>
                  <a:rect l="l" t="t" r="r" b="b"/>
                  <a:pathLst>
                    <a:path w="249" h="426">
                      <a:moveTo>
                        <a:pt x="94" y="114"/>
                      </a:moveTo>
                      <a:lnTo>
                        <a:pt x="90" y="122"/>
                      </a:lnTo>
                      <a:lnTo>
                        <a:pt x="83" y="148"/>
                      </a:lnTo>
                      <a:lnTo>
                        <a:pt x="71" y="183"/>
                      </a:lnTo>
                      <a:lnTo>
                        <a:pt x="60" y="225"/>
                      </a:lnTo>
                      <a:lnTo>
                        <a:pt x="48" y="266"/>
                      </a:lnTo>
                      <a:lnTo>
                        <a:pt x="36" y="305"/>
                      </a:lnTo>
                      <a:lnTo>
                        <a:pt x="27" y="333"/>
                      </a:lnTo>
                      <a:lnTo>
                        <a:pt x="24" y="348"/>
                      </a:lnTo>
                      <a:lnTo>
                        <a:pt x="21" y="354"/>
                      </a:lnTo>
                      <a:lnTo>
                        <a:pt x="19" y="364"/>
                      </a:lnTo>
                      <a:lnTo>
                        <a:pt x="14" y="374"/>
                      </a:lnTo>
                      <a:lnTo>
                        <a:pt x="10" y="386"/>
                      </a:lnTo>
                      <a:lnTo>
                        <a:pt x="6" y="397"/>
                      </a:lnTo>
                      <a:lnTo>
                        <a:pt x="2" y="407"/>
                      </a:lnTo>
                      <a:lnTo>
                        <a:pt x="0" y="413"/>
                      </a:lnTo>
                      <a:lnTo>
                        <a:pt x="0" y="416"/>
                      </a:lnTo>
                      <a:lnTo>
                        <a:pt x="1" y="418"/>
                      </a:lnTo>
                      <a:lnTo>
                        <a:pt x="6" y="423"/>
                      </a:lnTo>
                      <a:lnTo>
                        <a:pt x="12" y="426"/>
                      </a:lnTo>
                      <a:lnTo>
                        <a:pt x="21" y="424"/>
                      </a:lnTo>
                      <a:lnTo>
                        <a:pt x="26" y="417"/>
                      </a:lnTo>
                      <a:lnTo>
                        <a:pt x="36" y="410"/>
                      </a:lnTo>
                      <a:lnTo>
                        <a:pt x="48" y="399"/>
                      </a:lnTo>
                      <a:lnTo>
                        <a:pt x="60" y="389"/>
                      </a:lnTo>
                      <a:lnTo>
                        <a:pt x="72" y="380"/>
                      </a:lnTo>
                      <a:lnTo>
                        <a:pt x="83" y="372"/>
                      </a:lnTo>
                      <a:lnTo>
                        <a:pt x="90" y="366"/>
                      </a:lnTo>
                      <a:lnTo>
                        <a:pt x="94" y="365"/>
                      </a:lnTo>
                      <a:lnTo>
                        <a:pt x="144" y="293"/>
                      </a:lnTo>
                      <a:lnTo>
                        <a:pt x="152" y="240"/>
                      </a:lnTo>
                      <a:lnTo>
                        <a:pt x="153" y="237"/>
                      </a:lnTo>
                      <a:lnTo>
                        <a:pt x="157" y="229"/>
                      </a:lnTo>
                      <a:lnTo>
                        <a:pt x="162" y="218"/>
                      </a:lnTo>
                      <a:lnTo>
                        <a:pt x="169" y="206"/>
                      </a:lnTo>
                      <a:lnTo>
                        <a:pt x="175" y="192"/>
                      </a:lnTo>
                      <a:lnTo>
                        <a:pt x="183" y="180"/>
                      </a:lnTo>
                      <a:lnTo>
                        <a:pt x="188" y="170"/>
                      </a:lnTo>
                      <a:lnTo>
                        <a:pt x="192" y="165"/>
                      </a:lnTo>
                      <a:lnTo>
                        <a:pt x="193" y="160"/>
                      </a:lnTo>
                      <a:lnTo>
                        <a:pt x="194" y="153"/>
                      </a:lnTo>
                      <a:lnTo>
                        <a:pt x="196" y="146"/>
                      </a:lnTo>
                      <a:lnTo>
                        <a:pt x="198" y="137"/>
                      </a:lnTo>
                      <a:lnTo>
                        <a:pt x="199" y="126"/>
                      </a:lnTo>
                      <a:lnTo>
                        <a:pt x="203" y="117"/>
                      </a:lnTo>
                      <a:lnTo>
                        <a:pt x="208" y="105"/>
                      </a:lnTo>
                      <a:lnTo>
                        <a:pt x="217" y="93"/>
                      </a:lnTo>
                      <a:lnTo>
                        <a:pt x="223" y="80"/>
                      </a:lnTo>
                      <a:lnTo>
                        <a:pt x="230" y="69"/>
                      </a:lnTo>
                      <a:lnTo>
                        <a:pt x="234" y="57"/>
                      </a:lnTo>
                      <a:lnTo>
                        <a:pt x="238" y="47"/>
                      </a:lnTo>
                      <a:lnTo>
                        <a:pt x="240" y="37"/>
                      </a:lnTo>
                      <a:lnTo>
                        <a:pt x="243" y="28"/>
                      </a:lnTo>
                      <a:lnTo>
                        <a:pt x="245" y="19"/>
                      </a:lnTo>
                      <a:lnTo>
                        <a:pt x="248" y="11"/>
                      </a:lnTo>
                      <a:lnTo>
                        <a:pt x="249" y="3"/>
                      </a:lnTo>
                      <a:lnTo>
                        <a:pt x="249" y="0"/>
                      </a:lnTo>
                      <a:lnTo>
                        <a:pt x="247" y="0"/>
                      </a:lnTo>
                      <a:lnTo>
                        <a:pt x="245" y="5"/>
                      </a:lnTo>
                      <a:lnTo>
                        <a:pt x="238" y="12"/>
                      </a:lnTo>
                      <a:lnTo>
                        <a:pt x="232" y="21"/>
                      </a:lnTo>
                      <a:lnTo>
                        <a:pt x="223" y="32"/>
                      </a:lnTo>
                      <a:lnTo>
                        <a:pt x="214" y="45"/>
                      </a:lnTo>
                      <a:lnTo>
                        <a:pt x="199" y="57"/>
                      </a:lnTo>
                      <a:lnTo>
                        <a:pt x="181" y="70"/>
                      </a:lnTo>
                      <a:lnTo>
                        <a:pt x="161" y="81"/>
                      </a:lnTo>
                      <a:lnTo>
                        <a:pt x="142" y="92"/>
                      </a:lnTo>
                      <a:lnTo>
                        <a:pt x="123" y="101"/>
                      </a:lnTo>
                      <a:lnTo>
                        <a:pt x="108" y="107"/>
                      </a:lnTo>
                      <a:lnTo>
                        <a:pt x="97" y="111"/>
                      </a:lnTo>
                      <a:lnTo>
                        <a:pt x="94" y="114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349440" y="4903200"/>
                  <a:ext cx="135000" cy="146880"/>
                </a:xfrm>
                <a:custGeom>
                  <a:avLst/>
                  <a:gdLst/>
                  <a:ahLst/>
                  <a:rect l="l" t="t" r="r" b="b"/>
                  <a:pathLst>
                    <a:path w="518" h="560">
                      <a:moveTo>
                        <a:pt x="17" y="0"/>
                      </a:moveTo>
                      <a:lnTo>
                        <a:pt x="15" y="8"/>
                      </a:lnTo>
                      <a:lnTo>
                        <a:pt x="10" y="32"/>
                      </a:lnTo>
                      <a:lnTo>
                        <a:pt x="5" y="68"/>
                      </a:lnTo>
                      <a:lnTo>
                        <a:pt x="2" y="113"/>
                      </a:lnTo>
                      <a:lnTo>
                        <a:pt x="0" y="162"/>
                      </a:lnTo>
                      <a:lnTo>
                        <a:pt x="2" y="215"/>
                      </a:lnTo>
                      <a:lnTo>
                        <a:pt x="9" y="265"/>
                      </a:lnTo>
                      <a:lnTo>
                        <a:pt x="27" y="313"/>
                      </a:lnTo>
                      <a:lnTo>
                        <a:pt x="39" y="341"/>
                      </a:lnTo>
                      <a:lnTo>
                        <a:pt x="51" y="366"/>
                      </a:lnTo>
                      <a:lnTo>
                        <a:pt x="61" y="386"/>
                      </a:lnTo>
                      <a:lnTo>
                        <a:pt x="69" y="405"/>
                      </a:lnTo>
                      <a:lnTo>
                        <a:pt x="76" y="419"/>
                      </a:lnTo>
                      <a:lnTo>
                        <a:pt x="82" y="429"/>
                      </a:lnTo>
                      <a:lnTo>
                        <a:pt x="87" y="436"/>
                      </a:lnTo>
                      <a:lnTo>
                        <a:pt x="92" y="441"/>
                      </a:lnTo>
                      <a:lnTo>
                        <a:pt x="99" y="445"/>
                      </a:lnTo>
                      <a:lnTo>
                        <a:pt x="116" y="457"/>
                      </a:lnTo>
                      <a:lnTo>
                        <a:pt x="137" y="472"/>
                      </a:lnTo>
                      <a:lnTo>
                        <a:pt x="162" y="490"/>
                      </a:lnTo>
                      <a:lnTo>
                        <a:pt x="187" y="508"/>
                      </a:lnTo>
                      <a:lnTo>
                        <a:pt x="214" y="525"/>
                      </a:lnTo>
                      <a:lnTo>
                        <a:pt x="239" y="538"/>
                      </a:lnTo>
                      <a:lnTo>
                        <a:pt x="260" y="547"/>
                      </a:lnTo>
                      <a:lnTo>
                        <a:pt x="277" y="551"/>
                      </a:lnTo>
                      <a:lnTo>
                        <a:pt x="296" y="555"/>
                      </a:lnTo>
                      <a:lnTo>
                        <a:pt x="313" y="558"/>
                      </a:lnTo>
                      <a:lnTo>
                        <a:pt x="331" y="560"/>
                      </a:lnTo>
                      <a:lnTo>
                        <a:pt x="349" y="559"/>
                      </a:lnTo>
                      <a:lnTo>
                        <a:pt x="370" y="557"/>
                      </a:lnTo>
                      <a:lnTo>
                        <a:pt x="391" y="553"/>
                      </a:lnTo>
                      <a:lnTo>
                        <a:pt x="416" y="547"/>
                      </a:lnTo>
                      <a:lnTo>
                        <a:pt x="424" y="543"/>
                      </a:lnTo>
                      <a:lnTo>
                        <a:pt x="439" y="539"/>
                      </a:lnTo>
                      <a:lnTo>
                        <a:pt x="456" y="532"/>
                      </a:lnTo>
                      <a:lnTo>
                        <a:pt x="474" y="527"/>
                      </a:lnTo>
                      <a:lnTo>
                        <a:pt x="489" y="521"/>
                      </a:lnTo>
                      <a:lnTo>
                        <a:pt x="504" y="516"/>
                      </a:lnTo>
                      <a:lnTo>
                        <a:pt x="513" y="513"/>
                      </a:lnTo>
                      <a:lnTo>
                        <a:pt x="518" y="513"/>
                      </a:lnTo>
                      <a:lnTo>
                        <a:pt x="517" y="510"/>
                      </a:lnTo>
                      <a:lnTo>
                        <a:pt x="514" y="502"/>
                      </a:lnTo>
                      <a:lnTo>
                        <a:pt x="510" y="493"/>
                      </a:lnTo>
                      <a:lnTo>
                        <a:pt x="506" y="483"/>
                      </a:lnTo>
                      <a:lnTo>
                        <a:pt x="497" y="472"/>
                      </a:lnTo>
                      <a:lnTo>
                        <a:pt x="488" y="466"/>
                      </a:lnTo>
                      <a:lnTo>
                        <a:pt x="474" y="462"/>
                      </a:lnTo>
                      <a:lnTo>
                        <a:pt x="457" y="465"/>
                      </a:lnTo>
                      <a:lnTo>
                        <a:pt x="436" y="468"/>
                      </a:lnTo>
                      <a:lnTo>
                        <a:pt x="416" y="469"/>
                      </a:lnTo>
                      <a:lnTo>
                        <a:pt x="394" y="468"/>
                      </a:lnTo>
                      <a:lnTo>
                        <a:pt x="374" y="466"/>
                      </a:lnTo>
                      <a:lnTo>
                        <a:pt x="351" y="462"/>
                      </a:lnTo>
                      <a:lnTo>
                        <a:pt x="330" y="456"/>
                      </a:lnTo>
                      <a:lnTo>
                        <a:pt x="308" y="450"/>
                      </a:lnTo>
                      <a:lnTo>
                        <a:pt x="285" y="444"/>
                      </a:lnTo>
                      <a:lnTo>
                        <a:pt x="260" y="435"/>
                      </a:lnTo>
                      <a:lnTo>
                        <a:pt x="236" y="421"/>
                      </a:lnTo>
                      <a:lnTo>
                        <a:pt x="210" y="404"/>
                      </a:lnTo>
                      <a:lnTo>
                        <a:pt x="186" y="384"/>
                      </a:lnTo>
                      <a:lnTo>
                        <a:pt x="164" y="362"/>
                      </a:lnTo>
                      <a:lnTo>
                        <a:pt x="144" y="339"/>
                      </a:lnTo>
                      <a:lnTo>
                        <a:pt x="128" y="317"/>
                      </a:lnTo>
                      <a:lnTo>
                        <a:pt x="120" y="296"/>
                      </a:lnTo>
                      <a:lnTo>
                        <a:pt x="111" y="275"/>
                      </a:lnTo>
                      <a:lnTo>
                        <a:pt x="104" y="253"/>
                      </a:lnTo>
                      <a:lnTo>
                        <a:pt x="97" y="231"/>
                      </a:lnTo>
                      <a:lnTo>
                        <a:pt x="92" y="210"/>
                      </a:lnTo>
                      <a:lnTo>
                        <a:pt x="86" y="190"/>
                      </a:lnTo>
                      <a:lnTo>
                        <a:pt x="80" y="173"/>
                      </a:lnTo>
                      <a:lnTo>
                        <a:pt x="75" y="157"/>
                      </a:lnTo>
                      <a:lnTo>
                        <a:pt x="72" y="145"/>
                      </a:lnTo>
                      <a:lnTo>
                        <a:pt x="65" y="129"/>
                      </a:lnTo>
                      <a:lnTo>
                        <a:pt x="58" y="108"/>
                      </a:lnTo>
                      <a:lnTo>
                        <a:pt x="48" y="84"/>
                      </a:lnTo>
                      <a:lnTo>
                        <a:pt x="39" y="60"/>
                      </a:lnTo>
                      <a:lnTo>
                        <a:pt x="30" y="37"/>
                      </a:lnTo>
                      <a:lnTo>
                        <a:pt x="23" y="17"/>
                      </a:lnTo>
                      <a:lnTo>
                        <a:pt x="18" y="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21800" y="4974120"/>
                  <a:ext cx="61560" cy="32760"/>
                </a:xfrm>
                <a:custGeom>
                  <a:avLst/>
                  <a:gdLst/>
                  <a:ahLst/>
                  <a:rect l="l" t="t" r="r" b="b"/>
                  <a:pathLst>
                    <a:path w="234" h="124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13" y="7"/>
                      </a:lnTo>
                      <a:lnTo>
                        <a:pt x="18" y="11"/>
                      </a:lnTo>
                      <a:lnTo>
                        <a:pt x="28" y="19"/>
                      </a:lnTo>
                      <a:lnTo>
                        <a:pt x="42" y="28"/>
                      </a:lnTo>
                      <a:lnTo>
                        <a:pt x="63" y="42"/>
                      </a:lnTo>
                      <a:lnTo>
                        <a:pt x="82" y="53"/>
                      </a:lnTo>
                      <a:lnTo>
                        <a:pt x="99" y="62"/>
                      </a:lnTo>
                      <a:lnTo>
                        <a:pt x="111" y="67"/>
                      </a:lnTo>
                      <a:lnTo>
                        <a:pt x="121" y="70"/>
                      </a:lnTo>
                      <a:lnTo>
                        <a:pt x="127" y="69"/>
                      </a:lnTo>
                      <a:lnTo>
                        <a:pt x="133" y="68"/>
                      </a:lnTo>
                      <a:lnTo>
                        <a:pt x="139" y="65"/>
                      </a:lnTo>
                      <a:lnTo>
                        <a:pt x="145" y="63"/>
                      </a:lnTo>
                      <a:lnTo>
                        <a:pt x="152" y="57"/>
                      </a:lnTo>
                      <a:lnTo>
                        <a:pt x="160" y="52"/>
                      </a:lnTo>
                      <a:lnTo>
                        <a:pt x="169" y="45"/>
                      </a:lnTo>
                      <a:lnTo>
                        <a:pt x="177" y="39"/>
                      </a:lnTo>
                      <a:lnTo>
                        <a:pt x="184" y="33"/>
                      </a:lnTo>
                      <a:lnTo>
                        <a:pt x="190" y="28"/>
                      </a:lnTo>
                      <a:lnTo>
                        <a:pt x="195" y="25"/>
                      </a:lnTo>
                      <a:lnTo>
                        <a:pt x="197" y="25"/>
                      </a:lnTo>
                      <a:lnTo>
                        <a:pt x="207" y="14"/>
                      </a:lnTo>
                      <a:lnTo>
                        <a:pt x="234" y="44"/>
                      </a:lnTo>
                      <a:lnTo>
                        <a:pt x="232" y="46"/>
                      </a:lnTo>
                      <a:lnTo>
                        <a:pt x="227" y="52"/>
                      </a:lnTo>
                      <a:lnTo>
                        <a:pt x="219" y="60"/>
                      </a:lnTo>
                      <a:lnTo>
                        <a:pt x="212" y="71"/>
                      </a:lnTo>
                      <a:lnTo>
                        <a:pt x="203" y="82"/>
                      </a:lnTo>
                      <a:lnTo>
                        <a:pt x="195" y="92"/>
                      </a:lnTo>
                      <a:lnTo>
                        <a:pt x="187" y="100"/>
                      </a:lnTo>
                      <a:lnTo>
                        <a:pt x="183" y="107"/>
                      </a:lnTo>
                      <a:lnTo>
                        <a:pt x="175" y="110"/>
                      </a:lnTo>
                      <a:lnTo>
                        <a:pt x="163" y="114"/>
                      </a:lnTo>
                      <a:lnTo>
                        <a:pt x="148" y="117"/>
                      </a:lnTo>
                      <a:lnTo>
                        <a:pt x="132" y="121"/>
                      </a:lnTo>
                      <a:lnTo>
                        <a:pt x="115" y="122"/>
                      </a:lnTo>
                      <a:lnTo>
                        <a:pt x="101" y="124"/>
                      </a:lnTo>
                      <a:lnTo>
                        <a:pt x="89" y="124"/>
                      </a:lnTo>
                      <a:lnTo>
                        <a:pt x="83" y="124"/>
                      </a:lnTo>
                      <a:lnTo>
                        <a:pt x="77" y="121"/>
                      </a:lnTo>
                      <a:lnTo>
                        <a:pt x="67" y="115"/>
                      </a:lnTo>
                      <a:lnTo>
                        <a:pt x="55" y="109"/>
                      </a:lnTo>
                      <a:lnTo>
                        <a:pt x="44" y="103"/>
                      </a:lnTo>
                      <a:lnTo>
                        <a:pt x="32" y="97"/>
                      </a:lnTo>
                      <a:lnTo>
                        <a:pt x="23" y="92"/>
                      </a:lnTo>
                      <a:lnTo>
                        <a:pt x="17" y="87"/>
                      </a:lnTo>
                      <a:lnTo>
                        <a:pt x="14" y="86"/>
                      </a:lnTo>
                      <a:lnTo>
                        <a:pt x="0" y="4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762640" y="5072760"/>
                  <a:ext cx="24840" cy="35280"/>
                </a:xfrm>
                <a:custGeom>
                  <a:avLst/>
                  <a:gdLst/>
                  <a:ahLst/>
                  <a:rect l="l" t="t" r="r" b="b"/>
                  <a:pathLst>
                    <a:path w="92" h="133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9" y="8"/>
                      </a:lnTo>
                      <a:lnTo>
                        <a:pt x="16" y="15"/>
                      </a:lnTo>
                      <a:lnTo>
                        <a:pt x="24" y="20"/>
                      </a:lnTo>
                      <a:lnTo>
                        <a:pt x="31" y="26"/>
                      </a:lnTo>
                      <a:lnTo>
                        <a:pt x="37" y="29"/>
                      </a:lnTo>
                      <a:lnTo>
                        <a:pt x="44" y="31"/>
                      </a:lnTo>
                      <a:lnTo>
                        <a:pt x="52" y="31"/>
                      </a:lnTo>
                      <a:lnTo>
                        <a:pt x="61" y="29"/>
                      </a:lnTo>
                      <a:lnTo>
                        <a:pt x="70" y="20"/>
                      </a:lnTo>
                      <a:lnTo>
                        <a:pt x="80" y="13"/>
                      </a:lnTo>
                      <a:lnTo>
                        <a:pt x="88" y="7"/>
                      </a:lnTo>
                      <a:lnTo>
                        <a:pt x="92" y="4"/>
                      </a:lnTo>
                      <a:lnTo>
                        <a:pt x="55" y="133"/>
                      </a:lnTo>
                      <a:lnTo>
                        <a:pt x="52" y="131"/>
                      </a:lnTo>
                      <a:lnTo>
                        <a:pt x="48" y="129"/>
                      </a:lnTo>
                      <a:lnTo>
                        <a:pt x="42" y="125"/>
                      </a:lnTo>
                      <a:lnTo>
                        <a:pt x="36" y="120"/>
                      </a:lnTo>
                      <a:lnTo>
                        <a:pt x="29" y="115"/>
                      </a:lnTo>
                      <a:lnTo>
                        <a:pt x="24" y="110"/>
                      </a:lnTo>
                      <a:lnTo>
                        <a:pt x="18" y="104"/>
                      </a:lnTo>
                      <a:lnTo>
                        <a:pt x="16" y="101"/>
                      </a:lnTo>
                      <a:lnTo>
                        <a:pt x="13" y="95"/>
                      </a:lnTo>
                      <a:lnTo>
                        <a:pt x="11" y="88"/>
                      </a:lnTo>
                      <a:lnTo>
                        <a:pt x="9" y="78"/>
                      </a:lnTo>
                      <a:lnTo>
                        <a:pt x="6" y="70"/>
                      </a:lnTo>
                      <a:lnTo>
                        <a:pt x="3" y="60"/>
                      </a:lnTo>
                      <a:lnTo>
                        <a:pt x="1" y="51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5" y="10"/>
                      </a:lnTo>
                      <a:lnTo>
                        <a:pt x="7" y="5"/>
                      </a:lnTo>
                      <a:lnTo>
                        <a:pt x="9" y="1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422880" y="4891320"/>
                  <a:ext cx="18360" cy="22320"/>
                </a:xfrm>
                <a:custGeom>
                  <a:avLst/>
                  <a:gdLst/>
                  <a:ahLst/>
                  <a:rect l="l" t="t" r="r" b="b"/>
                  <a:pathLst>
                    <a:path w="70" h="89">
                      <a:moveTo>
                        <a:pt x="2" y="42"/>
                      </a:moveTo>
                      <a:lnTo>
                        <a:pt x="1" y="37"/>
                      </a:lnTo>
                      <a:lnTo>
                        <a:pt x="0" y="31"/>
                      </a:lnTo>
                      <a:lnTo>
                        <a:pt x="1" y="22"/>
                      </a:lnTo>
                      <a:lnTo>
                        <a:pt x="6" y="16"/>
                      </a:lnTo>
                      <a:lnTo>
                        <a:pt x="12" y="9"/>
                      </a:lnTo>
                      <a:lnTo>
                        <a:pt x="20" y="5"/>
                      </a:lnTo>
                      <a:lnTo>
                        <a:pt x="25" y="1"/>
                      </a:lnTo>
                      <a:lnTo>
                        <a:pt x="29" y="1"/>
                      </a:lnTo>
                      <a:lnTo>
                        <a:pt x="31" y="0"/>
                      </a:lnTo>
                      <a:lnTo>
                        <a:pt x="36" y="1"/>
                      </a:lnTo>
                      <a:lnTo>
                        <a:pt x="45" y="3"/>
                      </a:lnTo>
                      <a:lnTo>
                        <a:pt x="54" y="8"/>
                      </a:lnTo>
                      <a:lnTo>
                        <a:pt x="62" y="15"/>
                      </a:lnTo>
                      <a:lnTo>
                        <a:pt x="67" y="23"/>
                      </a:lnTo>
                      <a:lnTo>
                        <a:pt x="68" y="27"/>
                      </a:lnTo>
                      <a:lnTo>
                        <a:pt x="70" y="32"/>
                      </a:lnTo>
                      <a:lnTo>
                        <a:pt x="70" y="38"/>
                      </a:lnTo>
                      <a:lnTo>
                        <a:pt x="70" y="45"/>
                      </a:lnTo>
                      <a:lnTo>
                        <a:pt x="67" y="59"/>
                      </a:lnTo>
                      <a:lnTo>
                        <a:pt x="64" y="70"/>
                      </a:lnTo>
                      <a:lnTo>
                        <a:pt x="61" y="77"/>
                      </a:lnTo>
                      <a:lnTo>
                        <a:pt x="58" y="82"/>
                      </a:lnTo>
                      <a:lnTo>
                        <a:pt x="50" y="86"/>
                      </a:lnTo>
                      <a:lnTo>
                        <a:pt x="48" y="87"/>
                      </a:lnTo>
                      <a:lnTo>
                        <a:pt x="39" y="89"/>
                      </a:lnTo>
                      <a:lnTo>
                        <a:pt x="24" y="80"/>
                      </a:lnTo>
                      <a:lnTo>
                        <a:pt x="26" y="77"/>
                      </a:lnTo>
                      <a:lnTo>
                        <a:pt x="33" y="72"/>
                      </a:lnTo>
                      <a:lnTo>
                        <a:pt x="39" y="64"/>
                      </a:lnTo>
                      <a:lnTo>
                        <a:pt x="45" y="59"/>
                      </a:lnTo>
                      <a:lnTo>
                        <a:pt x="45" y="54"/>
                      </a:lnTo>
                      <a:lnTo>
                        <a:pt x="46" y="50"/>
                      </a:lnTo>
                      <a:lnTo>
                        <a:pt x="46" y="45"/>
                      </a:lnTo>
                      <a:lnTo>
                        <a:pt x="46" y="39"/>
                      </a:lnTo>
                      <a:lnTo>
                        <a:pt x="45" y="30"/>
                      </a:lnTo>
                      <a:lnTo>
                        <a:pt x="45" y="27"/>
                      </a:lnTo>
                      <a:lnTo>
                        <a:pt x="35" y="17"/>
                      </a:lnTo>
                      <a:lnTo>
                        <a:pt x="19" y="23"/>
                      </a:lnTo>
                      <a:lnTo>
                        <a:pt x="2" y="42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468600" y="4874400"/>
                  <a:ext cx="18360" cy="22320"/>
                </a:xfrm>
                <a:custGeom>
                  <a:avLst/>
                  <a:gdLst/>
                  <a:ahLst/>
                  <a:rect l="l" t="t" r="r" b="b"/>
                  <a:pathLst>
                    <a:path w="71" h="87">
                      <a:moveTo>
                        <a:pt x="3" y="29"/>
                      </a:moveTo>
                      <a:lnTo>
                        <a:pt x="1" y="33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3" y="40"/>
                      </a:lnTo>
                      <a:lnTo>
                        <a:pt x="9" y="26"/>
                      </a:lnTo>
                      <a:lnTo>
                        <a:pt x="17" y="20"/>
                      </a:lnTo>
                      <a:lnTo>
                        <a:pt x="23" y="16"/>
                      </a:lnTo>
                      <a:lnTo>
                        <a:pt x="32" y="18"/>
                      </a:lnTo>
                      <a:lnTo>
                        <a:pt x="37" y="20"/>
                      </a:lnTo>
                      <a:lnTo>
                        <a:pt x="42" y="23"/>
                      </a:lnTo>
                      <a:lnTo>
                        <a:pt x="46" y="25"/>
                      </a:lnTo>
                      <a:lnTo>
                        <a:pt x="48" y="27"/>
                      </a:lnTo>
                      <a:lnTo>
                        <a:pt x="49" y="50"/>
                      </a:lnTo>
                      <a:lnTo>
                        <a:pt x="39" y="68"/>
                      </a:lnTo>
                      <a:lnTo>
                        <a:pt x="18" y="74"/>
                      </a:lnTo>
                      <a:lnTo>
                        <a:pt x="22" y="78"/>
                      </a:lnTo>
                      <a:lnTo>
                        <a:pt x="27" y="81"/>
                      </a:lnTo>
                      <a:lnTo>
                        <a:pt x="34" y="86"/>
                      </a:lnTo>
                      <a:lnTo>
                        <a:pt x="39" y="87"/>
                      </a:lnTo>
                      <a:lnTo>
                        <a:pt x="45" y="86"/>
                      </a:lnTo>
                      <a:lnTo>
                        <a:pt x="49" y="84"/>
                      </a:lnTo>
                      <a:lnTo>
                        <a:pt x="51" y="84"/>
                      </a:lnTo>
                      <a:lnTo>
                        <a:pt x="51" y="83"/>
                      </a:lnTo>
                      <a:lnTo>
                        <a:pt x="55" y="79"/>
                      </a:lnTo>
                      <a:lnTo>
                        <a:pt x="57" y="74"/>
                      </a:lnTo>
                      <a:lnTo>
                        <a:pt x="61" y="71"/>
                      </a:lnTo>
                      <a:lnTo>
                        <a:pt x="65" y="65"/>
                      </a:lnTo>
                      <a:lnTo>
                        <a:pt x="69" y="58"/>
                      </a:lnTo>
                      <a:lnTo>
                        <a:pt x="71" y="50"/>
                      </a:lnTo>
                      <a:lnTo>
                        <a:pt x="71" y="39"/>
                      </a:lnTo>
                      <a:lnTo>
                        <a:pt x="69" y="27"/>
                      </a:lnTo>
                      <a:lnTo>
                        <a:pt x="64" y="16"/>
                      </a:lnTo>
                      <a:lnTo>
                        <a:pt x="58" y="9"/>
                      </a:lnTo>
                      <a:lnTo>
                        <a:pt x="55" y="5"/>
                      </a:lnTo>
                      <a:lnTo>
                        <a:pt x="50" y="3"/>
                      </a:lnTo>
                      <a:lnTo>
                        <a:pt x="43" y="1"/>
                      </a:lnTo>
                      <a:lnTo>
                        <a:pt x="37" y="0"/>
                      </a:lnTo>
                      <a:lnTo>
                        <a:pt x="31" y="1"/>
                      </a:lnTo>
                      <a:lnTo>
                        <a:pt x="24" y="3"/>
                      </a:lnTo>
                      <a:lnTo>
                        <a:pt x="19" y="5"/>
                      </a:lnTo>
                      <a:lnTo>
                        <a:pt x="9" y="9"/>
                      </a:lnTo>
                      <a:lnTo>
                        <a:pt x="7" y="12"/>
                      </a:lnTo>
                      <a:lnTo>
                        <a:pt x="3" y="29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68600" y="4954320"/>
                  <a:ext cx="352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62">
                      <a:moveTo>
                        <a:pt x="0" y="47"/>
                      </a:moveTo>
                      <a:lnTo>
                        <a:pt x="15" y="37"/>
                      </a:lnTo>
                      <a:lnTo>
                        <a:pt x="46" y="27"/>
                      </a:lnTo>
                      <a:lnTo>
                        <a:pt x="82" y="12"/>
                      </a:lnTo>
                      <a:lnTo>
                        <a:pt x="97" y="6"/>
                      </a:lnTo>
                      <a:lnTo>
                        <a:pt x="124" y="0"/>
                      </a:lnTo>
                      <a:lnTo>
                        <a:pt x="134" y="2"/>
                      </a:lnTo>
                      <a:lnTo>
                        <a:pt x="134" y="9"/>
                      </a:lnTo>
                      <a:lnTo>
                        <a:pt x="124" y="15"/>
                      </a:lnTo>
                      <a:lnTo>
                        <a:pt x="111" y="17"/>
                      </a:lnTo>
                      <a:lnTo>
                        <a:pt x="85" y="22"/>
                      </a:lnTo>
                      <a:lnTo>
                        <a:pt x="68" y="30"/>
                      </a:lnTo>
                      <a:lnTo>
                        <a:pt x="56" y="36"/>
                      </a:lnTo>
                      <a:lnTo>
                        <a:pt x="45" y="41"/>
                      </a:lnTo>
                      <a:lnTo>
                        <a:pt x="31" y="46"/>
                      </a:lnTo>
                      <a:lnTo>
                        <a:pt x="20" y="58"/>
                      </a:lnTo>
                      <a:lnTo>
                        <a:pt x="12" y="62"/>
                      </a:lnTo>
                      <a:lnTo>
                        <a:pt x="3" y="62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60280" y="2720880"/>
                <a:ext cx="622440" cy="615960"/>
                <a:chOff x="260280" y="2720880"/>
                <a:chExt cx="622440" cy="6159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3840" y="2851200"/>
                  <a:ext cx="355680" cy="355680"/>
                </a:xfrm>
                <a:custGeom>
                  <a:avLst/>
                  <a:gdLst/>
                  <a:ahLst/>
                  <a:rect l="l" t="t" r="r" b="b"/>
                  <a:pathLst>
                    <a:path w="1788" h="1788">
                      <a:moveTo>
                        <a:pt x="1071" y="1771"/>
                      </a:moveTo>
                      <a:lnTo>
                        <a:pt x="1244" y="1718"/>
                      </a:lnTo>
                      <a:lnTo>
                        <a:pt x="1398" y="1634"/>
                      </a:lnTo>
                      <a:lnTo>
                        <a:pt x="1529" y="1523"/>
                      </a:lnTo>
                      <a:lnTo>
                        <a:pt x="1639" y="1390"/>
                      </a:lnTo>
                      <a:lnTo>
                        <a:pt x="1719" y="1239"/>
                      </a:lnTo>
                      <a:lnTo>
                        <a:pt x="1771" y="1074"/>
                      </a:lnTo>
                      <a:lnTo>
                        <a:pt x="1788" y="899"/>
                      </a:lnTo>
                      <a:lnTo>
                        <a:pt x="1772" y="720"/>
                      </a:lnTo>
                      <a:lnTo>
                        <a:pt x="1718" y="546"/>
                      </a:lnTo>
                      <a:lnTo>
                        <a:pt x="1634" y="391"/>
                      </a:lnTo>
                      <a:lnTo>
                        <a:pt x="1523" y="259"/>
                      </a:lnTo>
                      <a:lnTo>
                        <a:pt x="1392" y="151"/>
                      </a:lnTo>
                      <a:lnTo>
                        <a:pt x="1239" y="69"/>
                      </a:lnTo>
                      <a:lnTo>
                        <a:pt x="1075" y="19"/>
                      </a:lnTo>
                      <a:lnTo>
                        <a:pt x="901" y="0"/>
                      </a:lnTo>
                      <a:lnTo>
                        <a:pt x="720" y="19"/>
                      </a:lnTo>
                      <a:lnTo>
                        <a:pt x="546" y="70"/>
                      </a:lnTo>
                      <a:lnTo>
                        <a:pt x="392" y="154"/>
                      </a:lnTo>
                      <a:lnTo>
                        <a:pt x="259" y="265"/>
                      </a:lnTo>
                      <a:lnTo>
                        <a:pt x="152" y="399"/>
                      </a:lnTo>
                      <a:lnTo>
                        <a:pt x="70" y="549"/>
                      </a:lnTo>
                      <a:lnTo>
                        <a:pt x="19" y="715"/>
                      </a:lnTo>
                      <a:lnTo>
                        <a:pt x="0" y="889"/>
                      </a:lnTo>
                      <a:lnTo>
                        <a:pt x="19" y="1070"/>
                      </a:lnTo>
                      <a:lnTo>
                        <a:pt x="71" y="1242"/>
                      </a:lnTo>
                      <a:lnTo>
                        <a:pt x="155" y="1396"/>
                      </a:lnTo>
                      <a:lnTo>
                        <a:pt x="266" y="1529"/>
                      </a:lnTo>
                      <a:lnTo>
                        <a:pt x="399" y="1638"/>
                      </a:lnTo>
                      <a:lnTo>
                        <a:pt x="549" y="1719"/>
                      </a:lnTo>
                      <a:lnTo>
                        <a:pt x="715" y="1769"/>
                      </a:lnTo>
                      <a:lnTo>
                        <a:pt x="889" y="1788"/>
                      </a:lnTo>
                      <a:lnTo>
                        <a:pt x="1071" y="177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511200" y="2720880"/>
                  <a:ext cx="22320" cy="11592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>
                  <a:off x="341280" y="2816280"/>
                  <a:ext cx="85680" cy="792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260280" y="2992320"/>
                  <a:ext cx="115920" cy="129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98440" y="3125880"/>
                  <a:ext cx="101520" cy="5688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441000" y="3208320"/>
                  <a:ext cx="49320" cy="104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11280" y="3220920"/>
                  <a:ext cx="22320" cy="11592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6040" y="3162240"/>
                  <a:ext cx="85680" cy="795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66800" y="3051000"/>
                  <a:ext cx="115920" cy="144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743040" y="2874600"/>
                  <a:ext cx="102960" cy="572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654120" y="2744280"/>
                  <a:ext cx="49320" cy="104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447480" y="2806200"/>
                  <a:ext cx="28440" cy="50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341280" y="2922480"/>
                  <a:ext cx="52560" cy="23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321840" y="3067200"/>
                  <a:ext cx="57240" cy="108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399960" y="3173400"/>
                  <a:ext cx="38160" cy="414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41440" y="3224160"/>
                  <a:ext cx="7920" cy="572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68520" y="3200400"/>
                  <a:ext cx="27000" cy="50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50960" y="3111480"/>
                  <a:ext cx="52200" cy="23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765360" y="2979360"/>
                  <a:ext cx="55440" cy="111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704880" y="2843280"/>
                  <a:ext cx="39600" cy="410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595440" y="2776680"/>
                  <a:ext cx="6120" cy="5688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22360" y="295920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162" h="224">
                      <a:moveTo>
                        <a:pt x="81" y="224"/>
                      </a:moveTo>
                      <a:lnTo>
                        <a:pt x="97" y="221"/>
                      </a:lnTo>
                      <a:lnTo>
                        <a:pt x="113" y="214"/>
                      </a:lnTo>
                      <a:lnTo>
                        <a:pt x="126" y="204"/>
                      </a:lnTo>
                      <a:lnTo>
                        <a:pt x="138" y="190"/>
                      </a:lnTo>
                      <a:lnTo>
                        <a:pt x="148" y="174"/>
                      </a:lnTo>
                      <a:lnTo>
                        <a:pt x="155" y="155"/>
                      </a:lnTo>
                      <a:lnTo>
                        <a:pt x="160" y="134"/>
                      </a:lnTo>
                      <a:lnTo>
                        <a:pt x="162" y="112"/>
                      </a:lnTo>
                      <a:lnTo>
                        <a:pt x="160" y="88"/>
                      </a:lnTo>
                      <a:lnTo>
                        <a:pt x="155" y="67"/>
                      </a:lnTo>
                      <a:lnTo>
                        <a:pt x="148" y="48"/>
                      </a:lnTo>
                      <a:lnTo>
                        <a:pt x="138" y="32"/>
                      </a:lnTo>
                      <a:lnTo>
                        <a:pt x="126" y="17"/>
                      </a:lnTo>
                      <a:lnTo>
                        <a:pt x="113" y="8"/>
                      </a:lnTo>
                      <a:lnTo>
                        <a:pt x="97" y="2"/>
                      </a:lnTo>
                      <a:lnTo>
                        <a:pt x="81" y="0"/>
                      </a:lnTo>
                      <a:lnTo>
                        <a:pt x="64" y="2"/>
                      </a:lnTo>
                      <a:lnTo>
                        <a:pt x="49" y="8"/>
                      </a:lnTo>
                      <a:lnTo>
                        <a:pt x="35" y="17"/>
                      </a:lnTo>
                      <a:lnTo>
                        <a:pt x="23" y="32"/>
                      </a:lnTo>
                      <a:lnTo>
                        <a:pt x="13" y="48"/>
                      </a:lnTo>
                      <a:lnTo>
                        <a:pt x="6" y="67"/>
                      </a:lnTo>
                      <a:lnTo>
                        <a:pt x="1" y="88"/>
                      </a:lnTo>
                      <a:lnTo>
                        <a:pt x="0" y="112"/>
                      </a:lnTo>
                      <a:lnTo>
                        <a:pt x="1" y="134"/>
                      </a:lnTo>
                      <a:lnTo>
                        <a:pt x="6" y="155"/>
                      </a:lnTo>
                      <a:lnTo>
                        <a:pt x="13" y="174"/>
                      </a:lnTo>
                      <a:lnTo>
                        <a:pt x="23" y="190"/>
                      </a:lnTo>
                      <a:lnTo>
                        <a:pt x="35" y="204"/>
                      </a:lnTo>
                      <a:lnTo>
                        <a:pt x="49" y="214"/>
                      </a:lnTo>
                      <a:lnTo>
                        <a:pt x="64" y="221"/>
                      </a:lnTo>
                      <a:lnTo>
                        <a:pt x="81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4800" y="295920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162" h="224">
                      <a:moveTo>
                        <a:pt x="81" y="224"/>
                      </a:moveTo>
                      <a:lnTo>
                        <a:pt x="96" y="221"/>
                      </a:lnTo>
                      <a:lnTo>
                        <a:pt x="112" y="214"/>
                      </a:lnTo>
                      <a:lnTo>
                        <a:pt x="125" y="204"/>
                      </a:lnTo>
                      <a:lnTo>
                        <a:pt x="138" y="190"/>
                      </a:lnTo>
                      <a:lnTo>
                        <a:pt x="147" y="174"/>
                      </a:lnTo>
                      <a:lnTo>
                        <a:pt x="154" y="155"/>
                      </a:lnTo>
                      <a:lnTo>
                        <a:pt x="160" y="134"/>
                      </a:lnTo>
                      <a:lnTo>
                        <a:pt x="162" y="112"/>
                      </a:lnTo>
                      <a:lnTo>
                        <a:pt x="160" y="88"/>
                      </a:lnTo>
                      <a:lnTo>
                        <a:pt x="154" y="67"/>
                      </a:lnTo>
                      <a:lnTo>
                        <a:pt x="147" y="48"/>
                      </a:lnTo>
                      <a:lnTo>
                        <a:pt x="138" y="32"/>
                      </a:lnTo>
                      <a:lnTo>
                        <a:pt x="125" y="17"/>
                      </a:lnTo>
                      <a:lnTo>
                        <a:pt x="112" y="8"/>
                      </a:lnTo>
                      <a:lnTo>
                        <a:pt x="96" y="2"/>
                      </a:lnTo>
                      <a:lnTo>
                        <a:pt x="81" y="0"/>
                      </a:lnTo>
                      <a:lnTo>
                        <a:pt x="63" y="2"/>
                      </a:lnTo>
                      <a:lnTo>
                        <a:pt x="49" y="8"/>
                      </a:lnTo>
                      <a:lnTo>
                        <a:pt x="34" y="17"/>
                      </a:lnTo>
                      <a:lnTo>
                        <a:pt x="23" y="32"/>
                      </a:lnTo>
                      <a:lnTo>
                        <a:pt x="13" y="48"/>
                      </a:lnTo>
                      <a:lnTo>
                        <a:pt x="5" y="67"/>
                      </a:lnTo>
                      <a:lnTo>
                        <a:pt x="1" y="88"/>
                      </a:lnTo>
                      <a:lnTo>
                        <a:pt x="0" y="112"/>
                      </a:lnTo>
                      <a:lnTo>
                        <a:pt x="1" y="134"/>
                      </a:lnTo>
                      <a:lnTo>
                        <a:pt x="5" y="155"/>
                      </a:lnTo>
                      <a:lnTo>
                        <a:pt x="13" y="174"/>
                      </a:lnTo>
                      <a:lnTo>
                        <a:pt x="23" y="190"/>
                      </a:lnTo>
                      <a:lnTo>
                        <a:pt x="34" y="204"/>
                      </a:lnTo>
                      <a:lnTo>
                        <a:pt x="49" y="214"/>
                      </a:lnTo>
                      <a:lnTo>
                        <a:pt x="63" y="221"/>
                      </a:lnTo>
                      <a:lnTo>
                        <a:pt x="81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6280" y="3038400"/>
                  <a:ext cx="189000" cy="95400"/>
                </a:xfrm>
                <a:custGeom>
                  <a:avLst/>
                  <a:gdLst/>
                  <a:ahLst/>
                  <a:rect l="l" t="t" r="r" b="b"/>
                  <a:pathLst>
                    <a:path w="954" h="477">
                      <a:moveTo>
                        <a:pt x="0" y="0"/>
                      </a:moveTo>
                      <a:lnTo>
                        <a:pt x="8" y="95"/>
                      </a:lnTo>
                      <a:lnTo>
                        <a:pt x="36" y="185"/>
                      </a:lnTo>
                      <a:lnTo>
                        <a:pt x="79" y="266"/>
                      </a:lnTo>
                      <a:lnTo>
                        <a:pt x="138" y="337"/>
                      </a:lnTo>
                      <a:lnTo>
                        <a:pt x="209" y="394"/>
                      </a:lnTo>
                      <a:lnTo>
                        <a:pt x="290" y="439"/>
                      </a:lnTo>
                      <a:lnTo>
                        <a:pt x="380" y="467"/>
                      </a:lnTo>
                      <a:lnTo>
                        <a:pt x="476" y="477"/>
                      </a:lnTo>
                      <a:lnTo>
                        <a:pt x="571" y="467"/>
                      </a:lnTo>
                      <a:lnTo>
                        <a:pt x="662" y="439"/>
                      </a:lnTo>
                      <a:lnTo>
                        <a:pt x="742" y="394"/>
                      </a:lnTo>
                      <a:lnTo>
                        <a:pt x="814" y="337"/>
                      </a:lnTo>
                      <a:lnTo>
                        <a:pt x="871" y="266"/>
                      </a:lnTo>
                      <a:lnTo>
                        <a:pt x="915" y="185"/>
                      </a:lnTo>
                      <a:lnTo>
                        <a:pt x="943" y="95"/>
                      </a:lnTo>
                      <a:lnTo>
                        <a:pt x="95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9680" y="1446120"/>
                <a:ext cx="780840" cy="835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265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5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733400" y="4143240"/>
            <a:ext cx="190800" cy="14065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1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292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293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294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354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78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9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3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384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4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6864480" y="4524480"/>
            <a:ext cx="190440" cy="1012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0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411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412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413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2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473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7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8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8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509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9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1733400" y="4929120"/>
            <a:ext cx="190800" cy="620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53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53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53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59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3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7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628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8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6864480" y="4124160"/>
            <a:ext cx="190440" cy="14130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4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655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656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657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6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717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41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2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75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1733400" y="4543560"/>
            <a:ext cx="190800" cy="1006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78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78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78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84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7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1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872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2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6864480" y="1771560"/>
            <a:ext cx="190440" cy="3765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8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899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900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901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0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961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85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6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7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fel y 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9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3990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4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055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6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7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4058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4059" name="" descr=""/>
          <p:cNvPicPr/>
          <p:nvPr/>
        </p:nvPicPr>
        <p:blipFill>
          <a:blip r:embed="rId4"/>
          <a:stretch/>
        </p:blipFill>
        <p:spPr>
          <a:xfrm>
            <a:off x="6862680" y="70812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4060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1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4062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3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4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5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6" name="" descr=""/>
          <p:cNvPicPr/>
          <p:nvPr/>
        </p:nvPicPr>
        <p:blipFill>
          <a:blip r:embed="rId8"/>
          <a:stretch/>
        </p:blipFill>
        <p:spPr>
          <a:xfrm>
            <a:off x="6678720" y="4762440"/>
            <a:ext cx="1041120" cy="687600"/>
          </a:xfrm>
          <a:prstGeom prst="rect">
            <a:avLst/>
          </a:prstGeom>
          <a:ln w="0">
            <a:noFill/>
          </a:ln>
        </p:spPr>
      </p:pic>
      <p:pic>
        <p:nvPicPr>
          <p:cNvPr id="4067" name="" descr=""/>
          <p:cNvPicPr/>
          <p:nvPr/>
        </p:nvPicPr>
        <p:blipFill>
          <a:blip r:embed="rId9"/>
          <a:stretch/>
        </p:blipFill>
        <p:spPr>
          <a:xfrm>
            <a:off x="5786280" y="5797440"/>
            <a:ext cx="357480" cy="792360"/>
          </a:xfrm>
          <a:prstGeom prst="rect">
            <a:avLst/>
          </a:prstGeom>
          <a:ln w="0">
            <a:noFill/>
          </a:ln>
        </p:spPr>
      </p:pic>
      <p:pic>
        <p:nvPicPr>
          <p:cNvPr id="4068" name="" descr=""/>
          <p:cNvPicPr/>
          <p:nvPr/>
        </p:nvPicPr>
        <p:blipFill>
          <a:blip r:embed="rId10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pic>
        <p:nvPicPr>
          <p:cNvPr id="4069" name="" descr=""/>
          <p:cNvPicPr/>
          <p:nvPr/>
        </p:nvPicPr>
        <p:blipFill>
          <a:blip r:embed="rId11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4070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4071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8083440" y="2039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8047080" y="88740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8093160" y="-77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1" name="" descr=""/>
          <p:cNvPicPr/>
          <p:nvPr/>
        </p:nvPicPr>
        <p:blipFill>
          <a:blip r:embed="rId12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grpSp>
        <p:nvGrpSpPr>
          <p:cNvPr id="4082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4083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3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2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fnyddiwch rifau negatif i gyfrifo uchder  a dyfnder y canlynol o lefel y 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 flipH="1">
            <a:off x="866520" y="123840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 flipH="1">
            <a:off x="3989160" y="410544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 flipH="1">
            <a:off x="3871800" y="2492280"/>
            <a:ext cx="71136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6640560" y="592200"/>
            <a:ext cx="669600" cy="5364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7278480" y="22478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7205400" y="46814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5954400" y="572436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901440" y="637848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 flipH="1">
            <a:off x="4259160" y="250920"/>
            <a:ext cx="71136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 flipH="1">
            <a:off x="1328400" y="355932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 flipH="1" flipV="1">
            <a:off x="2294280" y="59760"/>
            <a:ext cx="799200" cy="3124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4" name="" descr=""/>
          <p:cNvPicPr/>
          <p:nvPr/>
        </p:nvPicPr>
        <p:blipFill>
          <a:blip r:embed="rId13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4105" name=""/>
          <p:cNvSpPr/>
          <p:nvPr/>
        </p:nvSpPr>
        <p:spPr>
          <a:xfrm flipH="1">
            <a:off x="2911680" y="5916240"/>
            <a:ext cx="789840" cy="334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4308480" y="4335480"/>
            <a:ext cx="900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5918040" y="849240"/>
            <a:ext cx="900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5724360" y="4967280"/>
            <a:ext cx="900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4894200" y="5996160"/>
            <a:ext cx="900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2521080" y="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4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4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4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4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4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4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4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4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4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4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4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4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4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9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4120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185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7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4188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1886040" y="156672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fnyddiwch rifau negatif i gyfrifo uchder  a dyfnder y canlynol o lefel y 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 flipH="1">
            <a:off x="879840" y="422280"/>
            <a:ext cx="846360" cy="136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1058760" y="390600"/>
            <a:ext cx="754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4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4195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4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6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4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4205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e74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8083440" y="2039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8047080" y="88740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8093160" y="-77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5" name="" descr=""/>
          <p:cNvPicPr/>
          <p:nvPr/>
        </p:nvPicPr>
        <p:blipFill>
          <a:blip r:embed="rId4"/>
          <a:stretch/>
        </p:blipFill>
        <p:spPr>
          <a:xfrm>
            <a:off x="322092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4216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4217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4218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4219" name="" descr=""/>
          <p:cNvPicPr/>
          <p:nvPr/>
        </p:nvPicPr>
        <p:blipFill>
          <a:blip r:embed="rId8"/>
          <a:stretch/>
        </p:blipFill>
        <p:spPr>
          <a:xfrm>
            <a:off x="7342200" y="478008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4220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4221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4222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4223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4224" name="" descr=""/>
          <p:cNvPicPr/>
          <p:nvPr/>
        </p:nvPicPr>
        <p:blipFill>
          <a:blip r:embed="rId13"/>
          <a:stretch/>
        </p:blipFill>
        <p:spPr>
          <a:xfrm>
            <a:off x="6586560" y="3695760"/>
            <a:ext cx="1174680" cy="803160"/>
          </a:xfrm>
          <a:prstGeom prst="rect">
            <a:avLst/>
          </a:prstGeom>
          <a:ln w="0">
            <a:noFill/>
          </a:ln>
        </p:spPr>
      </p:pic>
      <p:pic>
        <p:nvPicPr>
          <p:cNvPr id="4225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4226" name="" descr=""/>
          <p:cNvPicPr/>
          <p:nvPr/>
        </p:nvPicPr>
        <p:blipFill>
          <a:blip r:embed="rId15"/>
          <a:stretch/>
        </p:blipFill>
        <p:spPr>
          <a:xfrm>
            <a:off x="7161120" y="622152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4227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8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4229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2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 flipH="1" flipV="1">
            <a:off x="715320" y="3965040"/>
            <a:ext cx="779040" cy="3600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1036800" y="397044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 flipH="1" flipV="1">
            <a:off x="3863520" y="1262880"/>
            <a:ext cx="778680" cy="3596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3973680" y="1343160"/>
            <a:ext cx="927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6514920" y="51228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6240600" y="36036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6348240" y="393336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5802480" y="3811680"/>
            <a:ext cx="927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2878560" y="3612240"/>
            <a:ext cx="85320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6708960" y="5132880"/>
            <a:ext cx="85248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6319800" y="487836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 flipH="1">
            <a:off x="4942800" y="2313360"/>
            <a:ext cx="814320" cy="269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 flipH="1">
            <a:off x="3228120" y="5420160"/>
            <a:ext cx="814320" cy="2689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3676680" y="545004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6568920" y="6529680"/>
            <a:ext cx="800640" cy="307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6240600" y="645156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 flipH="1" flipV="1">
            <a:off x="2526840" y="330480"/>
            <a:ext cx="794880" cy="323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2000"/>
                                        <p:tgtEl>
                                          <p:spTgt spid="4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0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4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4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4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4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0" fill="hold"/>
                                        <p:tgtEl>
                                          <p:spTgt spid="4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4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4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6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4277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1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342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3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4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4345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4346" name="" descr=""/>
          <p:cNvPicPr/>
          <p:nvPr/>
        </p:nvPicPr>
        <p:blipFill>
          <a:blip r:embed="rId4"/>
          <a:stretch/>
        </p:blipFill>
        <p:spPr>
          <a:xfrm>
            <a:off x="7265880" y="72720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4347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8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4349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0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1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2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3" name="" descr=""/>
          <p:cNvPicPr/>
          <p:nvPr/>
        </p:nvPicPr>
        <p:blipFill>
          <a:blip r:embed="rId8"/>
          <a:stretch/>
        </p:blipFill>
        <p:spPr>
          <a:xfrm>
            <a:off x="7288200" y="4762440"/>
            <a:ext cx="1041480" cy="687600"/>
          </a:xfrm>
          <a:prstGeom prst="rect">
            <a:avLst/>
          </a:prstGeom>
          <a:ln w="0">
            <a:noFill/>
          </a:ln>
        </p:spPr>
      </p:pic>
      <p:pic>
        <p:nvPicPr>
          <p:cNvPr id="4354" name="" descr=""/>
          <p:cNvPicPr/>
          <p:nvPr/>
        </p:nvPicPr>
        <p:blipFill>
          <a:blip r:embed="rId9"/>
          <a:stretch/>
        </p:blipFill>
        <p:spPr>
          <a:xfrm>
            <a:off x="6396120" y="5797440"/>
            <a:ext cx="357120" cy="792360"/>
          </a:xfrm>
          <a:prstGeom prst="rect">
            <a:avLst/>
          </a:prstGeom>
          <a:ln w="0">
            <a:noFill/>
          </a:ln>
        </p:spPr>
      </p:pic>
      <p:pic>
        <p:nvPicPr>
          <p:cNvPr id="4355" name="" descr=""/>
          <p:cNvPicPr/>
          <p:nvPr/>
        </p:nvPicPr>
        <p:blipFill>
          <a:blip r:embed="rId10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pic>
        <p:nvPicPr>
          <p:cNvPr id="4356" name="" descr=""/>
          <p:cNvPicPr/>
          <p:nvPr/>
        </p:nvPicPr>
        <p:blipFill>
          <a:blip r:embed="rId11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sp>
        <p:nvSpPr>
          <p:cNvPr id="4357" name=""/>
          <p:cNvSpPr/>
          <p:nvPr/>
        </p:nvSpPr>
        <p:spPr>
          <a:xfrm>
            <a:off x="163980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yfrifwch y gwahaniaeth rhwng uchder y canlyn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8" name="" descr=""/>
          <p:cNvPicPr/>
          <p:nvPr/>
        </p:nvPicPr>
        <p:blipFill>
          <a:blip r:embed="rId12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4359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4917960" y="4335480"/>
            <a:ext cx="9003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6321600" y="868320"/>
            <a:ext cx="900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6334200" y="496728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5504040" y="5996160"/>
            <a:ext cx="900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2368440" y="0"/>
            <a:ext cx="90036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167472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hofrennydd a’r goleu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232416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1571760" y="19591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dolffin a’r morlo (se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4" name="" descr=""/>
          <p:cNvPicPr/>
          <p:nvPr/>
        </p:nvPicPr>
        <p:blipFill>
          <a:blip r:embed="rId25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sp>
        <p:nvSpPr>
          <p:cNvPr id="4375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1552680" y="19843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lwn a’r cimwch (lobste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232092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598760" y="19843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gwch a’r pysg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1552680" y="19591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r adar a’r morfarch (sea-hors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2320920" y="94464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1579680" y="19591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dolffin a’r slefren for (jelly-fish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156204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cimwch (lobster) a’r ang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1579680" y="19843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slefren for (jelly-fish) a’r morfarchg (sea hors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232092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1552680" y="19843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r hofrennydd a’r ang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2286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4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4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4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4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4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4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8" dur="1" fill="hold"/>
                                  <p:tgtEl>
                                    <p:spTgt spid="4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1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4392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457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8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9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4460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971640" y="441360"/>
            <a:ext cx="753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4" name="" descr=""/>
          <p:cNvPicPr/>
          <p:nvPr/>
        </p:nvPicPr>
        <p:blipFill>
          <a:blip r:embed="rId4"/>
          <a:stretch/>
        </p:blipFill>
        <p:spPr>
          <a:xfrm>
            <a:off x="363528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4465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4466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4467" name="" descr=""/>
          <p:cNvPicPr/>
          <p:nvPr/>
        </p:nvPicPr>
        <p:blipFill>
          <a:blip r:embed="rId7"/>
          <a:stretch/>
        </p:blipFill>
        <p:spPr>
          <a:xfrm>
            <a:off x="2224080" y="5440320"/>
            <a:ext cx="1494000" cy="465120"/>
          </a:xfrm>
          <a:prstGeom prst="rect">
            <a:avLst/>
          </a:prstGeom>
          <a:ln w="0">
            <a:noFill/>
          </a:ln>
        </p:spPr>
      </p:pic>
      <p:pic>
        <p:nvPicPr>
          <p:cNvPr id="4468" name="" descr=""/>
          <p:cNvPicPr/>
          <p:nvPr/>
        </p:nvPicPr>
        <p:blipFill>
          <a:blip r:embed="rId8"/>
          <a:stretch/>
        </p:blipFill>
        <p:spPr>
          <a:xfrm>
            <a:off x="7875720" y="47624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4469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4470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4471" name="" descr=""/>
          <p:cNvPicPr/>
          <p:nvPr/>
        </p:nvPicPr>
        <p:blipFill>
          <a:blip r:embed="rId11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4472" name="" descr=""/>
          <p:cNvPicPr/>
          <p:nvPr/>
        </p:nvPicPr>
        <p:blipFill>
          <a:blip r:embed="rId12"/>
          <a:stretch/>
        </p:blipFill>
        <p:spPr>
          <a:xfrm>
            <a:off x="6853320" y="3678120"/>
            <a:ext cx="1174680" cy="803520"/>
          </a:xfrm>
          <a:prstGeom prst="rect">
            <a:avLst/>
          </a:prstGeom>
          <a:ln w="0">
            <a:noFill/>
          </a:ln>
        </p:spPr>
      </p:pic>
      <p:pic>
        <p:nvPicPr>
          <p:cNvPr id="4473" name="" descr=""/>
          <p:cNvPicPr/>
          <p:nvPr/>
        </p:nvPicPr>
        <p:blipFill>
          <a:blip r:embed="rId13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sp>
        <p:nvSpPr>
          <p:cNvPr id="4474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5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4476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9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955800" y="4073400"/>
            <a:ext cx="92700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4387680" y="1343160"/>
            <a:ext cx="927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6415200" y="34128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6053040" y="3672000"/>
            <a:ext cx="927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6853320" y="4861080"/>
            <a:ext cx="927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3800520" y="526716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5589720" y="643428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121752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yfrifwch y gwahaniaeth rhwng ucher y canlyn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rcutwr (hang glider) a’r awy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123192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rcud a’r wylan (seagul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rcud a’r deifiw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121752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lwn a’r octop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122544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wylan (seagull) a’r cimwch lob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122544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deifiwr a’r octop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122544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crwban a’r llong dan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122544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erl a’r llong dan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123336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deifiwr a’r pysgod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1349280" y="84780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1349280" y="84780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123336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lwn a’r be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121428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rcutwr (hang glider) a’r pysgod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143000" y="884160"/>
            <a:ext cx="19494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7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5" name="" descr=""/>
          <p:cNvPicPr/>
          <p:nvPr/>
        </p:nvPicPr>
        <p:blipFill>
          <a:blip r:embed="rId25"/>
          <a:stretch/>
        </p:blipFill>
        <p:spPr>
          <a:xfrm>
            <a:off x="6586560" y="6229440"/>
            <a:ext cx="1041480" cy="687240"/>
          </a:xfrm>
          <a:prstGeom prst="rect">
            <a:avLst/>
          </a:prstGeom>
          <a:ln w="0">
            <a:noFill/>
          </a:ln>
        </p:spPr>
      </p:pic>
      <p:pic>
        <p:nvPicPr>
          <p:cNvPr id="4536" name="" descr=""/>
          <p:cNvPicPr/>
          <p:nvPr/>
        </p:nvPicPr>
        <p:blipFill>
          <a:blip r:embed="rId26"/>
          <a:stretch/>
        </p:blipFill>
        <p:spPr>
          <a:xfrm>
            <a:off x="4727520" y="4602240"/>
            <a:ext cx="988920" cy="60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4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4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4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4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4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4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4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4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1000"/>
                                        <p:tgtEl>
                                          <p:spTgt spid="4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0" dur="1" fill="hold"/>
                                  <p:tgtEl>
                                    <p:spTgt spid="4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409680" y="14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Comic Sans MS"/>
              </a:rPr>
              <a:t>Rhifau Negatif ar y Llinell 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9" name=""/>
          <p:cNvGrpSpPr/>
          <p:nvPr/>
        </p:nvGrpSpPr>
        <p:grpSpPr>
          <a:xfrm>
            <a:off x="0" y="2997360"/>
            <a:ext cx="8989920" cy="460080"/>
            <a:chOff x="0" y="2997360"/>
            <a:chExt cx="8989920" cy="460080"/>
          </a:xfrm>
        </p:grpSpPr>
        <p:grpSp>
          <p:nvGrpSpPr>
            <p:cNvPr id="4540" name=""/>
            <p:cNvGrpSpPr/>
            <p:nvPr/>
          </p:nvGrpSpPr>
          <p:grpSpPr>
            <a:xfrm>
              <a:off x="409680" y="2997360"/>
              <a:ext cx="8227440" cy="79200"/>
              <a:chOff x="409680" y="2997360"/>
              <a:chExt cx="8227440" cy="79200"/>
            </a:xfrm>
          </p:grpSpPr>
          <p:grpSp>
            <p:nvGrpSpPr>
              <p:cNvPr id="4541" name=""/>
              <p:cNvGrpSpPr/>
              <p:nvPr/>
            </p:nvGrpSpPr>
            <p:grpSpPr>
              <a:xfrm>
                <a:off x="409680" y="2997360"/>
                <a:ext cx="4113360" cy="79200"/>
                <a:chOff x="409680" y="2997360"/>
                <a:chExt cx="4113360" cy="79200"/>
              </a:xfrm>
            </p:grpSpPr>
            <p:sp>
              <p:nvSpPr>
                <p:cNvPr id="4542" name=""/>
                <p:cNvSpPr/>
                <p:nvPr/>
              </p:nvSpPr>
              <p:spPr>
                <a:xfrm>
                  <a:off x="40968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82080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>
                  <a:off x="1233000" y="29973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164268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205488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>
                  <a:off x="246636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287784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3290040" y="29973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36997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411192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2" name=""/>
              <p:cNvGrpSpPr/>
              <p:nvPr/>
            </p:nvGrpSpPr>
            <p:grpSpPr>
              <a:xfrm>
                <a:off x="4523400" y="2997360"/>
                <a:ext cx="4113720" cy="79200"/>
                <a:chOff x="4523400" y="2997360"/>
                <a:chExt cx="4113720" cy="79200"/>
              </a:xfrm>
            </p:grpSpPr>
            <p:sp>
              <p:nvSpPr>
                <p:cNvPr id="4553" name=""/>
                <p:cNvSpPr/>
                <p:nvPr/>
              </p:nvSpPr>
              <p:spPr>
                <a:xfrm>
                  <a:off x="452340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49345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5347080" y="29973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575676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616896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>
                  <a:off x="658044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69919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7404120" y="29973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781380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>
                  <a:off x="822600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3" name=""/>
            <p:cNvSpPr/>
            <p:nvPr/>
          </p:nvSpPr>
          <p:spPr>
            <a:xfrm>
              <a:off x="417996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58640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99284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418000" y="3089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581832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6230880" y="3083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6669000" y="30765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708192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748188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788832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8288280" y="3083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753000" y="3086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3335400" y="3078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903400" y="30798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49084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077920" y="3078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679400" y="3075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252440" y="30765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853920" y="3073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46040" y="30798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16080" y="30225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016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936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89424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8827920" y="30193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8720280" y="30193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0" name=""/>
          <p:cNvSpPr/>
          <p:nvPr/>
        </p:nvSpPr>
        <p:spPr>
          <a:xfrm>
            <a:off x="324000" y="895320"/>
            <a:ext cx="853416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e rhifau negatif yn cael eu defnyddio wrth ddelio gyda rhifau sy’n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is na ser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Mae rhai enghreifftiau yn cynnwys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tymheredd a dyled 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e’r rhan sydd ar y llinell rif sydd yn cynnwys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rhifau cyfa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egatif neu positif, gan gynnwys sero, yn cael ei alw’n </a:t>
            </a: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integr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857160" y="3790800"/>
            <a:ext cx="752472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th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adio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hifau ar y llinell rif , cyfrwch i’r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d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2" name=""/>
          <p:cNvGrpSpPr/>
          <p:nvPr/>
        </p:nvGrpSpPr>
        <p:grpSpPr>
          <a:xfrm>
            <a:off x="0" y="5651640"/>
            <a:ext cx="8989920" cy="460080"/>
            <a:chOff x="0" y="5651640"/>
            <a:chExt cx="8989920" cy="460080"/>
          </a:xfrm>
        </p:grpSpPr>
        <p:grpSp>
          <p:nvGrpSpPr>
            <p:cNvPr id="4593" name=""/>
            <p:cNvGrpSpPr/>
            <p:nvPr/>
          </p:nvGrpSpPr>
          <p:grpSpPr>
            <a:xfrm>
              <a:off x="409680" y="5651640"/>
              <a:ext cx="8227440" cy="79200"/>
              <a:chOff x="409680" y="5651640"/>
              <a:chExt cx="8227440" cy="79200"/>
            </a:xfrm>
          </p:grpSpPr>
          <p:grpSp>
            <p:nvGrpSpPr>
              <p:cNvPr id="4594" name=""/>
              <p:cNvGrpSpPr/>
              <p:nvPr/>
            </p:nvGrpSpPr>
            <p:grpSpPr>
              <a:xfrm>
                <a:off x="409680" y="5651640"/>
                <a:ext cx="4113360" cy="79200"/>
                <a:chOff x="409680" y="5651640"/>
                <a:chExt cx="4113360" cy="79200"/>
              </a:xfrm>
            </p:grpSpPr>
            <p:sp>
              <p:nvSpPr>
                <p:cNvPr id="4595" name=""/>
                <p:cNvSpPr/>
                <p:nvPr/>
              </p:nvSpPr>
              <p:spPr>
                <a:xfrm>
                  <a:off x="40968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>
                  <a:off x="82080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>
                  <a:off x="1233000" y="56516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>
                  <a:off x="164268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>
                  <a:off x="205488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>
                  <a:off x="246636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1" name=""/>
                <p:cNvSpPr/>
                <p:nvPr/>
              </p:nvSpPr>
              <p:spPr>
                <a:xfrm>
                  <a:off x="287784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>
                  <a:off x="3290040" y="56516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3" name=""/>
                <p:cNvSpPr/>
                <p:nvPr/>
              </p:nvSpPr>
              <p:spPr>
                <a:xfrm>
                  <a:off x="36997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4" name=""/>
                <p:cNvSpPr/>
                <p:nvPr/>
              </p:nvSpPr>
              <p:spPr>
                <a:xfrm>
                  <a:off x="411192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5" name=""/>
              <p:cNvGrpSpPr/>
              <p:nvPr/>
            </p:nvGrpSpPr>
            <p:grpSpPr>
              <a:xfrm>
                <a:off x="4523400" y="5651640"/>
                <a:ext cx="4113720" cy="79200"/>
                <a:chOff x="4523400" y="5651640"/>
                <a:chExt cx="4113720" cy="79200"/>
              </a:xfrm>
            </p:grpSpPr>
            <p:sp>
              <p:nvSpPr>
                <p:cNvPr id="4606" name=""/>
                <p:cNvSpPr/>
                <p:nvPr/>
              </p:nvSpPr>
              <p:spPr>
                <a:xfrm>
                  <a:off x="452340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7" name=""/>
                <p:cNvSpPr/>
                <p:nvPr/>
              </p:nvSpPr>
              <p:spPr>
                <a:xfrm>
                  <a:off x="49345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5347080" y="56516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575676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0" name=""/>
                <p:cNvSpPr/>
                <p:nvPr/>
              </p:nvSpPr>
              <p:spPr>
                <a:xfrm>
                  <a:off x="616896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1" name=""/>
                <p:cNvSpPr/>
                <p:nvPr/>
              </p:nvSpPr>
              <p:spPr>
                <a:xfrm>
                  <a:off x="658044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>
                  <a:off x="69919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7404120" y="56516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>
                  <a:off x="781380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5" name=""/>
                <p:cNvSpPr/>
                <p:nvPr/>
              </p:nvSpPr>
              <p:spPr>
                <a:xfrm>
                  <a:off x="822600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16" name=""/>
            <p:cNvSpPr/>
            <p:nvPr/>
          </p:nvSpPr>
          <p:spPr>
            <a:xfrm>
              <a:off x="417996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58640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99284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5418000" y="5743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81832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6230880" y="5737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6669000" y="573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708192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748188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788832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8288280" y="5737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753000" y="5740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335400" y="573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903400" y="5734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49084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077920" y="573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679400" y="5729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252440" y="573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853920" y="5727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46040" y="5734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316080" y="567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2016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936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89424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8827920" y="56736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8720280" y="5673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2657520" y="4991040"/>
            <a:ext cx="5219640" cy="438120"/>
            <a:chOff x="2657520" y="4991040"/>
            <a:chExt cx="5219640" cy="438120"/>
          </a:xfrm>
        </p:grpSpPr>
        <p:sp>
          <p:nvSpPr>
            <p:cNvPr id="4644" name=""/>
            <p:cNvSpPr/>
            <p:nvPr/>
          </p:nvSpPr>
          <p:spPr>
            <a:xfrm>
              <a:off x="2657520" y="5429160"/>
              <a:ext cx="52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800600" y="499104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dio </a:t>
              </a:r>
              <a:r>
                <a:rPr b="0" lang="en-GB" sz="2000" spc="-1" strike="noStrike">
                  <a:solidFill>
                    <a:srgbClr val="6666ff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1387080" y="6064200"/>
            <a:ext cx="5219640" cy="398880"/>
            <a:chOff x="1387080" y="6064200"/>
            <a:chExt cx="5219640" cy="398880"/>
          </a:xfrm>
        </p:grpSpPr>
        <p:sp>
          <p:nvSpPr>
            <p:cNvPr id="4647" name=""/>
            <p:cNvSpPr/>
            <p:nvPr/>
          </p:nvSpPr>
          <p:spPr>
            <a:xfrm flipH="1">
              <a:off x="1387080" y="6445080"/>
              <a:ext cx="52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3454560" y="6064200"/>
              <a:ext cx="165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ynnu </a:t>
              </a:r>
              <a:r>
                <a:rPr b="0" lang="en-GB" sz="2000" spc="-1" strike="noStrike">
                  <a:solidFill>
                    <a:srgbClr val="6666ff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9" name=""/>
          <p:cNvSpPr/>
          <p:nvPr/>
        </p:nvSpPr>
        <p:spPr>
          <a:xfrm>
            <a:off x="806400" y="4464000"/>
            <a:ext cx="77533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th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dynnu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hifau ar y llinell rif , cyfrwch i’r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chw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4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80"/>
                                        <p:tgtEl>
                                          <p:spTgt spid="4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80"/>
                                        <p:tgtEl>
                                          <p:spTgt spid="4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20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8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80"/>
                                        <p:tgtEl>
                                          <p:spTgt spid="4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7" dur="20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0" name=""/>
          <p:cNvGrpSpPr/>
          <p:nvPr/>
        </p:nvGrpSpPr>
        <p:grpSpPr>
          <a:xfrm>
            <a:off x="-44280" y="1657440"/>
            <a:ext cx="8989920" cy="460080"/>
            <a:chOff x="-44280" y="1657440"/>
            <a:chExt cx="8989920" cy="460080"/>
          </a:xfrm>
        </p:grpSpPr>
        <p:grpSp>
          <p:nvGrpSpPr>
            <p:cNvPr id="4651" name=""/>
            <p:cNvGrpSpPr/>
            <p:nvPr/>
          </p:nvGrpSpPr>
          <p:grpSpPr>
            <a:xfrm>
              <a:off x="365400" y="1657440"/>
              <a:ext cx="8227440" cy="79200"/>
              <a:chOff x="365400" y="1657440"/>
              <a:chExt cx="8227440" cy="79200"/>
            </a:xfrm>
          </p:grpSpPr>
          <p:grpSp>
            <p:nvGrpSpPr>
              <p:cNvPr id="4652" name=""/>
              <p:cNvGrpSpPr/>
              <p:nvPr/>
            </p:nvGrpSpPr>
            <p:grpSpPr>
              <a:xfrm>
                <a:off x="365400" y="1657440"/>
                <a:ext cx="4113360" cy="79200"/>
                <a:chOff x="365400" y="1657440"/>
                <a:chExt cx="4113360" cy="79200"/>
              </a:xfrm>
            </p:grpSpPr>
            <p:sp>
              <p:nvSpPr>
                <p:cNvPr id="4653" name=""/>
                <p:cNvSpPr/>
                <p:nvPr/>
              </p:nvSpPr>
              <p:spPr>
                <a:xfrm>
                  <a:off x="3654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776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>
                  <a:off x="118872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159840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>
                  <a:off x="20106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>
                  <a:off x="24220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283356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>
                  <a:off x="324576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36554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>
                  <a:off x="406764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3" name=""/>
              <p:cNvGrpSpPr/>
              <p:nvPr/>
            </p:nvGrpSpPr>
            <p:grpSpPr>
              <a:xfrm>
                <a:off x="4479120" y="1657440"/>
                <a:ext cx="4113720" cy="79200"/>
                <a:chOff x="4479120" y="1657440"/>
                <a:chExt cx="4113720" cy="79200"/>
              </a:xfrm>
            </p:grpSpPr>
            <p:sp>
              <p:nvSpPr>
                <p:cNvPr id="4664" name=""/>
                <p:cNvSpPr/>
                <p:nvPr/>
              </p:nvSpPr>
              <p:spPr>
                <a:xfrm>
                  <a:off x="44791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>
                  <a:off x="48902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30280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>
                  <a:off x="571248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61246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>
                  <a:off x="653616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>
                  <a:off x="69476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735984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>
                  <a:off x="7769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>
                  <a:off x="81817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4" name=""/>
            <p:cNvSpPr/>
            <p:nvPr/>
          </p:nvSpPr>
          <p:spPr>
            <a:xfrm>
              <a:off x="413568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54212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94856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373720" y="1749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7740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61866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662472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0376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43760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84404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82440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708720" y="1746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3291120" y="1738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2859120" y="1739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244656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2033640" y="1738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635120" y="1735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20816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809640" y="1733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01760" y="1739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-4428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271800" y="16826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57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9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8981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8783640" y="16794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8676000" y="16794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1" name=""/>
          <p:cNvSpPr/>
          <p:nvPr/>
        </p:nvSpPr>
        <p:spPr>
          <a:xfrm>
            <a:off x="7223040" y="874800"/>
            <a:ext cx="13431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io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5261040" y="16556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3" name=""/>
          <p:cNvGrpSpPr/>
          <p:nvPr/>
        </p:nvGrpSpPr>
        <p:grpSpPr>
          <a:xfrm>
            <a:off x="5302080" y="1523880"/>
            <a:ext cx="2095560" cy="219240"/>
            <a:chOff x="5302080" y="1523880"/>
            <a:chExt cx="2095560" cy="219240"/>
          </a:xfrm>
        </p:grpSpPr>
        <p:grpSp>
          <p:nvGrpSpPr>
            <p:cNvPr id="4704" name=""/>
            <p:cNvGrpSpPr/>
            <p:nvPr/>
          </p:nvGrpSpPr>
          <p:grpSpPr>
            <a:xfrm>
              <a:off x="5302080" y="1528560"/>
              <a:ext cx="414360" cy="127080"/>
              <a:chOff x="5302080" y="1528560"/>
              <a:chExt cx="414360" cy="127080"/>
            </a:xfrm>
          </p:grpSpPr>
          <p:sp>
            <p:nvSpPr>
              <p:cNvPr id="4705" name=""/>
              <p:cNvSpPr/>
              <p:nvPr/>
            </p:nvSpPr>
            <p:spPr>
              <a:xfrm>
                <a:off x="5302080" y="152856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5563800" y="159012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H="1" flipV="1">
                <a:off x="5612760" y="154116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8" name=""/>
            <p:cNvGrpSpPr/>
            <p:nvPr/>
          </p:nvGrpSpPr>
          <p:grpSpPr>
            <a:xfrm>
              <a:off x="5716440" y="1530360"/>
              <a:ext cx="411120" cy="127080"/>
              <a:chOff x="5716440" y="1530360"/>
              <a:chExt cx="411120" cy="127080"/>
            </a:xfrm>
          </p:grpSpPr>
          <p:sp>
            <p:nvSpPr>
              <p:cNvPr id="4709" name=""/>
              <p:cNvSpPr/>
              <p:nvPr/>
            </p:nvSpPr>
            <p:spPr>
              <a:xfrm>
                <a:off x="5716440" y="15303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5976000" y="15919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H="1" flipV="1">
                <a:off x="6024960" y="15429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2" name=""/>
            <p:cNvGrpSpPr/>
            <p:nvPr/>
          </p:nvGrpSpPr>
          <p:grpSpPr>
            <a:xfrm>
              <a:off x="6126120" y="1523880"/>
              <a:ext cx="407880" cy="127080"/>
              <a:chOff x="6126120" y="1523880"/>
              <a:chExt cx="407880" cy="127080"/>
            </a:xfrm>
          </p:grpSpPr>
          <p:sp>
            <p:nvSpPr>
              <p:cNvPr id="4713" name=""/>
              <p:cNvSpPr/>
              <p:nvPr/>
            </p:nvSpPr>
            <p:spPr>
              <a:xfrm>
                <a:off x="6126120" y="1523880"/>
                <a:ext cx="40788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6383520" y="1585440"/>
                <a:ext cx="608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H="1" flipV="1">
                <a:off x="6432120" y="15364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6" name=""/>
            <p:cNvGrpSpPr/>
            <p:nvPr/>
          </p:nvGrpSpPr>
          <p:grpSpPr>
            <a:xfrm>
              <a:off x="6540480" y="1525680"/>
              <a:ext cx="403200" cy="126720"/>
              <a:chOff x="6540480" y="1525680"/>
              <a:chExt cx="403200" cy="126720"/>
            </a:xfrm>
          </p:grpSpPr>
          <p:sp>
            <p:nvSpPr>
              <p:cNvPr id="4717" name=""/>
              <p:cNvSpPr/>
              <p:nvPr/>
            </p:nvSpPr>
            <p:spPr>
              <a:xfrm>
                <a:off x="6540480" y="15256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6795000" y="15872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H="1" flipV="1">
                <a:off x="6842880" y="15375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0" name=""/>
            <p:cNvGrpSpPr/>
            <p:nvPr/>
          </p:nvGrpSpPr>
          <p:grpSpPr>
            <a:xfrm>
              <a:off x="6953040" y="1527120"/>
              <a:ext cx="403200" cy="127080"/>
              <a:chOff x="6953040" y="1527120"/>
              <a:chExt cx="403200" cy="127080"/>
            </a:xfrm>
          </p:grpSpPr>
          <p:sp>
            <p:nvSpPr>
              <p:cNvPr id="4721" name=""/>
              <p:cNvSpPr/>
              <p:nvPr/>
            </p:nvSpPr>
            <p:spPr>
              <a:xfrm>
                <a:off x="6953040" y="152712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7207560" y="158868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H="1" flipV="1">
                <a:off x="7255440" y="15397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4" name=""/>
            <p:cNvSpPr/>
            <p:nvPr/>
          </p:nvSpPr>
          <p:spPr>
            <a:xfrm>
              <a:off x="7308720" y="16542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5" name=""/>
          <p:cNvSpPr/>
          <p:nvPr/>
        </p:nvSpPr>
        <p:spPr>
          <a:xfrm>
            <a:off x="1670040" y="8794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+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3108240" y="87804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7" name=""/>
          <p:cNvGrpSpPr/>
          <p:nvPr/>
        </p:nvGrpSpPr>
        <p:grpSpPr>
          <a:xfrm>
            <a:off x="28440" y="2930400"/>
            <a:ext cx="8989920" cy="460080"/>
            <a:chOff x="28440" y="2930400"/>
            <a:chExt cx="8989920" cy="460080"/>
          </a:xfrm>
        </p:grpSpPr>
        <p:grpSp>
          <p:nvGrpSpPr>
            <p:cNvPr id="4728" name=""/>
            <p:cNvGrpSpPr/>
            <p:nvPr/>
          </p:nvGrpSpPr>
          <p:grpSpPr>
            <a:xfrm>
              <a:off x="438120" y="2930400"/>
              <a:ext cx="8227440" cy="79200"/>
              <a:chOff x="438120" y="2930400"/>
              <a:chExt cx="8227440" cy="79200"/>
            </a:xfrm>
          </p:grpSpPr>
          <p:grpSp>
            <p:nvGrpSpPr>
              <p:cNvPr id="4729" name=""/>
              <p:cNvGrpSpPr/>
              <p:nvPr/>
            </p:nvGrpSpPr>
            <p:grpSpPr>
              <a:xfrm>
                <a:off x="438120" y="2930400"/>
                <a:ext cx="4113360" cy="79200"/>
                <a:chOff x="438120" y="2930400"/>
                <a:chExt cx="4113360" cy="79200"/>
              </a:xfrm>
            </p:grpSpPr>
            <p:sp>
              <p:nvSpPr>
                <p:cNvPr id="4730" name=""/>
                <p:cNvSpPr/>
                <p:nvPr/>
              </p:nvSpPr>
              <p:spPr>
                <a:xfrm>
                  <a:off x="4381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"/>
                <p:cNvSpPr/>
                <p:nvPr/>
              </p:nvSpPr>
              <p:spPr>
                <a:xfrm>
                  <a:off x="849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2" name=""/>
                <p:cNvSpPr/>
                <p:nvPr/>
              </p:nvSpPr>
              <p:spPr>
                <a:xfrm>
                  <a:off x="126144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>
                  <a:off x="167112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4" name=""/>
                <p:cNvSpPr/>
                <p:nvPr/>
              </p:nvSpPr>
              <p:spPr>
                <a:xfrm>
                  <a:off x="20833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5" name=""/>
                <p:cNvSpPr/>
                <p:nvPr/>
              </p:nvSpPr>
              <p:spPr>
                <a:xfrm>
                  <a:off x="24948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>
                  <a:off x="290628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7" name=""/>
                <p:cNvSpPr/>
                <p:nvPr/>
              </p:nvSpPr>
              <p:spPr>
                <a:xfrm>
                  <a:off x="331848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>
                  <a:off x="37281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>
                  <a:off x="414036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0" name=""/>
              <p:cNvGrpSpPr/>
              <p:nvPr/>
            </p:nvGrpSpPr>
            <p:grpSpPr>
              <a:xfrm>
                <a:off x="4551840" y="2930400"/>
                <a:ext cx="4113720" cy="79200"/>
                <a:chOff x="4551840" y="2930400"/>
                <a:chExt cx="4113720" cy="79200"/>
              </a:xfrm>
            </p:grpSpPr>
            <p:sp>
              <p:nvSpPr>
                <p:cNvPr id="4741" name=""/>
                <p:cNvSpPr/>
                <p:nvPr/>
              </p:nvSpPr>
              <p:spPr>
                <a:xfrm>
                  <a:off x="45518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>
                  <a:off x="49629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>
                  <a:off x="537552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4" name=""/>
                <p:cNvSpPr/>
                <p:nvPr/>
              </p:nvSpPr>
              <p:spPr>
                <a:xfrm>
                  <a:off x="578520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>
                  <a:off x="61974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6" name=""/>
                <p:cNvSpPr/>
                <p:nvPr/>
              </p:nvSpPr>
              <p:spPr>
                <a:xfrm>
                  <a:off x="660888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7" name=""/>
                <p:cNvSpPr/>
                <p:nvPr/>
              </p:nvSpPr>
              <p:spPr>
                <a:xfrm>
                  <a:off x="70203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>
                  <a:off x="743256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7842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82544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1" name=""/>
            <p:cNvSpPr/>
            <p:nvPr/>
          </p:nvSpPr>
          <p:spPr>
            <a:xfrm>
              <a:off x="420840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1484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502128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5446440" y="302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58467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2593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669744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1103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751032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91676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83167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3781440" y="3019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3363840" y="3011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2931840" y="3012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251928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2106360" y="3011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1707840" y="3008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128088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882360" y="3006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4480" y="3012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2844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344520" y="295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230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122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89708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8856360" y="295236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8748720" y="29523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"/>
          <p:cNvSpPr/>
          <p:nvPr/>
        </p:nvSpPr>
        <p:spPr>
          <a:xfrm>
            <a:off x="1612800" y="21160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+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4508640" y="292572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0" name=""/>
          <p:cNvGrpSpPr/>
          <p:nvPr/>
        </p:nvGrpSpPr>
        <p:grpSpPr>
          <a:xfrm>
            <a:off x="4552920" y="2795760"/>
            <a:ext cx="2513160" cy="219960"/>
            <a:chOff x="4552920" y="2795760"/>
            <a:chExt cx="2513160" cy="219960"/>
          </a:xfrm>
        </p:grpSpPr>
        <p:sp>
          <p:nvSpPr>
            <p:cNvPr id="4781" name=""/>
            <p:cNvSpPr/>
            <p:nvPr/>
          </p:nvSpPr>
          <p:spPr>
            <a:xfrm>
              <a:off x="6977160" y="292716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2" name=""/>
            <p:cNvGrpSpPr/>
            <p:nvPr/>
          </p:nvGrpSpPr>
          <p:grpSpPr>
            <a:xfrm>
              <a:off x="4552920" y="2795760"/>
              <a:ext cx="2467080" cy="132840"/>
              <a:chOff x="4552920" y="2795760"/>
              <a:chExt cx="2467080" cy="132840"/>
            </a:xfrm>
          </p:grpSpPr>
          <p:grpSp>
            <p:nvGrpSpPr>
              <p:cNvPr id="4783" name=""/>
              <p:cNvGrpSpPr/>
              <p:nvPr/>
            </p:nvGrpSpPr>
            <p:grpSpPr>
              <a:xfrm>
                <a:off x="4552920" y="2800440"/>
                <a:ext cx="414360" cy="126360"/>
                <a:chOff x="4552920" y="2800440"/>
                <a:chExt cx="414360" cy="126360"/>
              </a:xfrm>
            </p:grpSpPr>
            <p:sp>
              <p:nvSpPr>
                <p:cNvPr id="4784" name=""/>
                <p:cNvSpPr/>
                <p:nvPr/>
              </p:nvSpPr>
              <p:spPr>
                <a:xfrm>
                  <a:off x="4552920" y="2800440"/>
                  <a:ext cx="414360" cy="12636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5" name=""/>
                <p:cNvSpPr/>
                <p:nvPr/>
              </p:nvSpPr>
              <p:spPr>
                <a:xfrm flipV="1">
                  <a:off x="4814640" y="2862000"/>
                  <a:ext cx="619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 flipH="1" flipV="1">
                  <a:off x="4863600" y="2812320"/>
                  <a:ext cx="1260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7" name=""/>
              <p:cNvGrpSpPr/>
              <p:nvPr/>
            </p:nvGrpSpPr>
            <p:grpSpPr>
              <a:xfrm>
                <a:off x="4967280" y="2801880"/>
                <a:ext cx="411120" cy="126720"/>
                <a:chOff x="4967280" y="2801880"/>
                <a:chExt cx="411120" cy="126720"/>
              </a:xfrm>
            </p:grpSpPr>
            <p:sp>
              <p:nvSpPr>
                <p:cNvPr id="4788" name=""/>
                <p:cNvSpPr/>
                <p:nvPr/>
              </p:nvSpPr>
              <p:spPr>
                <a:xfrm>
                  <a:off x="4967280" y="2801880"/>
                  <a:ext cx="41112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9" name=""/>
                <p:cNvSpPr/>
                <p:nvPr/>
              </p:nvSpPr>
              <p:spPr>
                <a:xfrm flipV="1">
                  <a:off x="5226840" y="2863440"/>
                  <a:ext cx="6120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0" name=""/>
                <p:cNvSpPr/>
                <p:nvPr/>
              </p:nvSpPr>
              <p:spPr>
                <a:xfrm flipH="1" flipV="1">
                  <a:off x="5275800" y="281376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1" name=""/>
              <p:cNvGrpSpPr/>
              <p:nvPr/>
            </p:nvGrpSpPr>
            <p:grpSpPr>
              <a:xfrm>
                <a:off x="5376960" y="2795760"/>
                <a:ext cx="407880" cy="126720"/>
                <a:chOff x="5376960" y="2795760"/>
                <a:chExt cx="407880" cy="126720"/>
              </a:xfrm>
            </p:grpSpPr>
            <p:sp>
              <p:nvSpPr>
                <p:cNvPr id="4792" name=""/>
                <p:cNvSpPr/>
                <p:nvPr/>
              </p:nvSpPr>
              <p:spPr>
                <a:xfrm>
                  <a:off x="5376960" y="2795760"/>
                  <a:ext cx="40788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 flipV="1">
                  <a:off x="5634360" y="2857320"/>
                  <a:ext cx="608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 flipH="1" flipV="1">
                  <a:off x="5682960" y="280764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5" name=""/>
              <p:cNvGrpSpPr/>
              <p:nvPr/>
            </p:nvGrpSpPr>
            <p:grpSpPr>
              <a:xfrm>
                <a:off x="5791320" y="2797200"/>
                <a:ext cx="403200" cy="126360"/>
                <a:chOff x="5791320" y="2797200"/>
                <a:chExt cx="403200" cy="126360"/>
              </a:xfrm>
            </p:grpSpPr>
            <p:sp>
              <p:nvSpPr>
                <p:cNvPr id="4796" name=""/>
                <p:cNvSpPr/>
                <p:nvPr/>
              </p:nvSpPr>
              <p:spPr>
                <a:xfrm>
                  <a:off x="5791320" y="2797200"/>
                  <a:ext cx="403200" cy="12636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 flipV="1">
                  <a:off x="6045840" y="285876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 flipH="1" flipV="1">
                  <a:off x="6093720" y="280908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9" name=""/>
              <p:cNvGrpSpPr/>
              <p:nvPr/>
            </p:nvGrpSpPr>
            <p:grpSpPr>
              <a:xfrm>
                <a:off x="6203880" y="2798640"/>
                <a:ext cx="403200" cy="126720"/>
                <a:chOff x="6203880" y="2798640"/>
                <a:chExt cx="403200" cy="126720"/>
              </a:xfrm>
            </p:grpSpPr>
            <p:sp>
              <p:nvSpPr>
                <p:cNvPr id="4800" name=""/>
                <p:cNvSpPr/>
                <p:nvPr/>
              </p:nvSpPr>
              <p:spPr>
                <a:xfrm>
                  <a:off x="6203880" y="279864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 flipV="1">
                  <a:off x="6458400" y="286020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 flipH="1" flipV="1">
                  <a:off x="6506280" y="28105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3" name=""/>
              <p:cNvGrpSpPr/>
              <p:nvPr/>
            </p:nvGrpSpPr>
            <p:grpSpPr>
              <a:xfrm>
                <a:off x="6607080" y="2798640"/>
                <a:ext cx="412920" cy="126720"/>
                <a:chOff x="6607080" y="2798640"/>
                <a:chExt cx="412920" cy="126720"/>
              </a:xfrm>
            </p:grpSpPr>
            <p:sp>
              <p:nvSpPr>
                <p:cNvPr id="4804" name=""/>
                <p:cNvSpPr/>
                <p:nvPr/>
              </p:nvSpPr>
              <p:spPr>
                <a:xfrm>
                  <a:off x="6607080" y="2798640"/>
                  <a:ext cx="41292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 flipV="1">
                  <a:off x="6867720" y="2860200"/>
                  <a:ext cx="6156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 flipH="1" flipV="1">
                  <a:off x="6917040" y="28105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07" name=""/>
          <p:cNvSpPr/>
          <p:nvPr/>
        </p:nvSpPr>
        <p:spPr>
          <a:xfrm>
            <a:off x="3060720" y="211608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"/>
          <p:cNvGrpSpPr/>
          <p:nvPr/>
        </p:nvGrpSpPr>
        <p:grpSpPr>
          <a:xfrm>
            <a:off x="79200" y="4197240"/>
            <a:ext cx="8989920" cy="460080"/>
            <a:chOff x="79200" y="4197240"/>
            <a:chExt cx="8989920" cy="460080"/>
          </a:xfrm>
        </p:grpSpPr>
        <p:grpSp>
          <p:nvGrpSpPr>
            <p:cNvPr id="4809" name=""/>
            <p:cNvGrpSpPr/>
            <p:nvPr/>
          </p:nvGrpSpPr>
          <p:grpSpPr>
            <a:xfrm>
              <a:off x="488880" y="4197240"/>
              <a:ext cx="8227440" cy="79200"/>
              <a:chOff x="488880" y="4197240"/>
              <a:chExt cx="8227440" cy="79200"/>
            </a:xfrm>
          </p:grpSpPr>
          <p:grpSp>
            <p:nvGrpSpPr>
              <p:cNvPr id="4810" name=""/>
              <p:cNvGrpSpPr/>
              <p:nvPr/>
            </p:nvGrpSpPr>
            <p:grpSpPr>
              <a:xfrm>
                <a:off x="488880" y="4197240"/>
                <a:ext cx="4113360" cy="79200"/>
                <a:chOff x="488880" y="4197240"/>
                <a:chExt cx="4113360" cy="79200"/>
              </a:xfrm>
            </p:grpSpPr>
            <p:sp>
              <p:nvSpPr>
                <p:cNvPr id="4811" name=""/>
                <p:cNvSpPr/>
                <p:nvPr/>
              </p:nvSpPr>
              <p:spPr>
                <a:xfrm>
                  <a:off x="4888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900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>
                  <a:off x="131220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>
                  <a:off x="172188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21340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>
                  <a:off x="25455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>
                  <a:off x="295704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336924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>
                  <a:off x="37789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>
                  <a:off x="419112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1" name=""/>
              <p:cNvGrpSpPr/>
              <p:nvPr/>
            </p:nvGrpSpPr>
            <p:grpSpPr>
              <a:xfrm>
                <a:off x="4602600" y="4197240"/>
                <a:ext cx="4113720" cy="79200"/>
                <a:chOff x="4602600" y="4197240"/>
                <a:chExt cx="4113720" cy="79200"/>
              </a:xfrm>
            </p:grpSpPr>
            <p:sp>
              <p:nvSpPr>
                <p:cNvPr id="4822" name=""/>
                <p:cNvSpPr/>
                <p:nvPr/>
              </p:nvSpPr>
              <p:spPr>
                <a:xfrm>
                  <a:off x="46026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50137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542628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583596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62481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665964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70711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748332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7893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83052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32" name=""/>
            <p:cNvSpPr/>
            <p:nvPr/>
          </p:nvSpPr>
          <p:spPr>
            <a:xfrm>
              <a:off x="425916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466560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7204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497200" y="428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58975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63100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674820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1611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756108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796752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83674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3832200" y="4286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3414600" y="4277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2982600" y="42796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257004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2157120" y="4277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758600" y="4275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33164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933120" y="4273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25240" y="42796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7920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395280" y="4222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80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72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90216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8907120" y="42192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8799480" y="42192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9" name=""/>
          <p:cNvSpPr/>
          <p:nvPr/>
        </p:nvSpPr>
        <p:spPr>
          <a:xfrm>
            <a:off x="1635120" y="344340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 +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3325680" y="41940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1" name=""/>
          <p:cNvGrpSpPr/>
          <p:nvPr/>
        </p:nvGrpSpPr>
        <p:grpSpPr>
          <a:xfrm>
            <a:off x="3370320" y="4065480"/>
            <a:ext cx="2922480" cy="220680"/>
            <a:chOff x="3370320" y="4065480"/>
            <a:chExt cx="2922480" cy="220680"/>
          </a:xfrm>
        </p:grpSpPr>
        <p:sp>
          <p:nvSpPr>
            <p:cNvPr id="4862" name=""/>
            <p:cNvSpPr/>
            <p:nvPr/>
          </p:nvSpPr>
          <p:spPr>
            <a:xfrm>
              <a:off x="6203880" y="419724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3" name=""/>
            <p:cNvGrpSpPr/>
            <p:nvPr/>
          </p:nvGrpSpPr>
          <p:grpSpPr>
            <a:xfrm>
              <a:off x="3370320" y="4070160"/>
              <a:ext cx="414360" cy="127080"/>
              <a:chOff x="3370320" y="4070160"/>
              <a:chExt cx="414360" cy="127080"/>
            </a:xfrm>
          </p:grpSpPr>
          <p:sp>
            <p:nvSpPr>
              <p:cNvPr id="4864" name=""/>
              <p:cNvSpPr/>
              <p:nvPr/>
            </p:nvSpPr>
            <p:spPr>
              <a:xfrm>
                <a:off x="3370320" y="407016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 flipV="1">
                <a:off x="3632040" y="413172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 flipH="1" flipV="1">
                <a:off x="3681000" y="408276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7" name=""/>
            <p:cNvGrpSpPr/>
            <p:nvPr/>
          </p:nvGrpSpPr>
          <p:grpSpPr>
            <a:xfrm>
              <a:off x="3784680" y="4071600"/>
              <a:ext cx="411120" cy="127080"/>
              <a:chOff x="3784680" y="4071600"/>
              <a:chExt cx="411120" cy="127080"/>
            </a:xfrm>
          </p:grpSpPr>
          <p:sp>
            <p:nvSpPr>
              <p:cNvPr id="4868" name=""/>
              <p:cNvSpPr/>
              <p:nvPr/>
            </p:nvSpPr>
            <p:spPr>
              <a:xfrm>
                <a:off x="3784680" y="407160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 flipV="1">
                <a:off x="4044240" y="413316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 flipH="1" flipV="1">
                <a:off x="4093200" y="408420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1" name=""/>
            <p:cNvGrpSpPr/>
            <p:nvPr/>
          </p:nvGrpSpPr>
          <p:grpSpPr>
            <a:xfrm>
              <a:off x="4194000" y="4065480"/>
              <a:ext cx="408240" cy="126720"/>
              <a:chOff x="4194000" y="4065480"/>
              <a:chExt cx="408240" cy="126720"/>
            </a:xfrm>
          </p:grpSpPr>
          <p:sp>
            <p:nvSpPr>
              <p:cNvPr id="4872" name=""/>
              <p:cNvSpPr/>
              <p:nvPr/>
            </p:nvSpPr>
            <p:spPr>
              <a:xfrm>
                <a:off x="4194000" y="406548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 flipV="1">
                <a:off x="4451760" y="412704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 flipH="1" flipV="1">
                <a:off x="450036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5" name=""/>
            <p:cNvGrpSpPr/>
            <p:nvPr/>
          </p:nvGrpSpPr>
          <p:grpSpPr>
            <a:xfrm>
              <a:off x="4608360" y="4066920"/>
              <a:ext cx="403200" cy="127080"/>
              <a:chOff x="4608360" y="4066920"/>
              <a:chExt cx="403200" cy="127080"/>
            </a:xfrm>
          </p:grpSpPr>
          <p:sp>
            <p:nvSpPr>
              <p:cNvPr id="4876" name=""/>
              <p:cNvSpPr/>
              <p:nvPr/>
            </p:nvSpPr>
            <p:spPr>
              <a:xfrm>
                <a:off x="4608360" y="406692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 flipV="1">
                <a:off x="4862880" y="412848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 flipH="1" flipV="1">
                <a:off x="4910760" y="40795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9" name=""/>
            <p:cNvGrpSpPr/>
            <p:nvPr/>
          </p:nvGrpSpPr>
          <p:grpSpPr>
            <a:xfrm>
              <a:off x="5021280" y="4068720"/>
              <a:ext cx="403200" cy="126720"/>
              <a:chOff x="5021280" y="4068720"/>
              <a:chExt cx="403200" cy="126720"/>
            </a:xfrm>
          </p:grpSpPr>
          <p:sp>
            <p:nvSpPr>
              <p:cNvPr id="4880" name=""/>
              <p:cNvSpPr/>
              <p:nvPr/>
            </p:nvSpPr>
            <p:spPr>
              <a:xfrm>
                <a:off x="5021280" y="406872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 flipV="1">
                <a:off x="5275800" y="413028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 flipH="1" flipV="1">
                <a:off x="5323680" y="4080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"/>
            <p:cNvGrpSpPr/>
            <p:nvPr/>
          </p:nvGrpSpPr>
          <p:grpSpPr>
            <a:xfrm>
              <a:off x="5424480" y="4068720"/>
              <a:ext cx="412920" cy="126720"/>
              <a:chOff x="5424480" y="4068720"/>
              <a:chExt cx="412920" cy="126720"/>
            </a:xfrm>
          </p:grpSpPr>
          <p:sp>
            <p:nvSpPr>
              <p:cNvPr id="4884" name=""/>
              <p:cNvSpPr/>
              <p:nvPr/>
            </p:nvSpPr>
            <p:spPr>
              <a:xfrm>
                <a:off x="5424480" y="406872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 flipV="1">
                <a:off x="5685120" y="413028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 flipH="1" flipV="1">
                <a:off x="5734440" y="4080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7" name=""/>
            <p:cNvGrpSpPr/>
            <p:nvPr/>
          </p:nvGrpSpPr>
          <p:grpSpPr>
            <a:xfrm>
              <a:off x="5840280" y="4066920"/>
              <a:ext cx="412920" cy="127080"/>
              <a:chOff x="5840280" y="4066920"/>
              <a:chExt cx="412920" cy="127080"/>
            </a:xfrm>
          </p:grpSpPr>
          <p:sp>
            <p:nvSpPr>
              <p:cNvPr id="4888" name=""/>
              <p:cNvSpPr/>
              <p:nvPr/>
            </p:nvSpPr>
            <p:spPr>
              <a:xfrm>
                <a:off x="5840280" y="406692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 flipV="1">
                <a:off x="6100920" y="412848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 flipH="1" flipV="1">
                <a:off x="6150240" y="40795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1" name=""/>
          <p:cNvSpPr/>
          <p:nvPr/>
        </p:nvSpPr>
        <p:spPr>
          <a:xfrm>
            <a:off x="3084480" y="34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"/>
          <p:cNvGrpSpPr/>
          <p:nvPr/>
        </p:nvGrpSpPr>
        <p:grpSpPr>
          <a:xfrm>
            <a:off x="133200" y="5308560"/>
            <a:ext cx="8989920" cy="460080"/>
            <a:chOff x="133200" y="5308560"/>
            <a:chExt cx="8989920" cy="460080"/>
          </a:xfrm>
        </p:grpSpPr>
        <p:grpSp>
          <p:nvGrpSpPr>
            <p:cNvPr id="4893" name=""/>
            <p:cNvGrpSpPr/>
            <p:nvPr/>
          </p:nvGrpSpPr>
          <p:grpSpPr>
            <a:xfrm>
              <a:off x="542880" y="5308560"/>
              <a:ext cx="8227440" cy="79200"/>
              <a:chOff x="542880" y="5308560"/>
              <a:chExt cx="8227440" cy="79200"/>
            </a:xfrm>
          </p:grpSpPr>
          <p:grpSp>
            <p:nvGrpSpPr>
              <p:cNvPr id="4894" name=""/>
              <p:cNvGrpSpPr/>
              <p:nvPr/>
            </p:nvGrpSpPr>
            <p:grpSpPr>
              <a:xfrm>
                <a:off x="542880" y="5308560"/>
                <a:ext cx="4113360" cy="79200"/>
                <a:chOff x="542880" y="5308560"/>
                <a:chExt cx="4113360" cy="79200"/>
              </a:xfrm>
            </p:grpSpPr>
            <p:sp>
              <p:nvSpPr>
                <p:cNvPr id="4895" name=""/>
                <p:cNvSpPr/>
                <p:nvPr/>
              </p:nvSpPr>
              <p:spPr>
                <a:xfrm>
                  <a:off x="5428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>
                  <a:off x="954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136620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177588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>
                  <a:off x="21880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25995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1" name=""/>
                <p:cNvSpPr/>
                <p:nvPr/>
              </p:nvSpPr>
              <p:spPr>
                <a:xfrm>
                  <a:off x="301104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342324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38329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4" name=""/>
                <p:cNvSpPr/>
                <p:nvPr/>
              </p:nvSpPr>
              <p:spPr>
                <a:xfrm>
                  <a:off x="424512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5" name=""/>
              <p:cNvGrpSpPr/>
              <p:nvPr/>
            </p:nvGrpSpPr>
            <p:grpSpPr>
              <a:xfrm>
                <a:off x="4656600" y="5308560"/>
                <a:ext cx="4113720" cy="79200"/>
                <a:chOff x="4656600" y="5308560"/>
                <a:chExt cx="4113720" cy="79200"/>
              </a:xfrm>
            </p:grpSpPr>
            <p:sp>
              <p:nvSpPr>
                <p:cNvPr id="4906" name=""/>
                <p:cNvSpPr/>
                <p:nvPr/>
              </p:nvSpPr>
              <p:spPr>
                <a:xfrm>
                  <a:off x="46566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"/>
                <p:cNvSpPr/>
                <p:nvPr/>
              </p:nvSpPr>
              <p:spPr>
                <a:xfrm>
                  <a:off x="50677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8" name=""/>
                <p:cNvSpPr/>
                <p:nvPr/>
              </p:nvSpPr>
              <p:spPr>
                <a:xfrm>
                  <a:off x="548028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9" name=""/>
                <p:cNvSpPr/>
                <p:nvPr/>
              </p:nvSpPr>
              <p:spPr>
                <a:xfrm>
                  <a:off x="588996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0" name=""/>
                <p:cNvSpPr/>
                <p:nvPr/>
              </p:nvSpPr>
              <p:spPr>
                <a:xfrm>
                  <a:off x="63021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1" name=""/>
                <p:cNvSpPr/>
                <p:nvPr/>
              </p:nvSpPr>
              <p:spPr>
                <a:xfrm>
                  <a:off x="671364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"/>
                <p:cNvSpPr/>
                <p:nvPr/>
              </p:nvSpPr>
              <p:spPr>
                <a:xfrm>
                  <a:off x="71251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3" name=""/>
                <p:cNvSpPr/>
                <p:nvPr/>
              </p:nvSpPr>
              <p:spPr>
                <a:xfrm>
                  <a:off x="753732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4" name=""/>
                <p:cNvSpPr/>
                <p:nvPr/>
              </p:nvSpPr>
              <p:spPr>
                <a:xfrm>
                  <a:off x="7947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>
                  <a:off x="83592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6" name=""/>
            <p:cNvSpPr/>
            <p:nvPr/>
          </p:nvSpPr>
          <p:spPr>
            <a:xfrm>
              <a:off x="431316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71960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512604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5551200" y="5400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59515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63640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680220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72151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761508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802152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84214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886200" y="53974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468600" y="5389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036600" y="5391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62404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2211120" y="5389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812600" y="5386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38564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987120" y="5384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79240" y="5391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3320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449280" y="5333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334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226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90756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8961120" y="53305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8853480" y="5330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3" name=""/>
          <p:cNvSpPr/>
          <p:nvPr/>
        </p:nvSpPr>
        <p:spPr>
          <a:xfrm>
            <a:off x="1660680" y="464040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 +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2546280" y="530532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5" name=""/>
          <p:cNvGrpSpPr/>
          <p:nvPr/>
        </p:nvGrpSpPr>
        <p:grpSpPr>
          <a:xfrm>
            <a:off x="2600280" y="5178600"/>
            <a:ext cx="2095560" cy="218520"/>
            <a:chOff x="2600280" y="5178600"/>
            <a:chExt cx="2095560" cy="218520"/>
          </a:xfrm>
        </p:grpSpPr>
        <p:grpSp>
          <p:nvGrpSpPr>
            <p:cNvPr id="4946" name=""/>
            <p:cNvGrpSpPr/>
            <p:nvPr/>
          </p:nvGrpSpPr>
          <p:grpSpPr>
            <a:xfrm>
              <a:off x="2600280" y="5182920"/>
              <a:ext cx="414360" cy="126720"/>
              <a:chOff x="2600280" y="5182920"/>
              <a:chExt cx="414360" cy="126720"/>
            </a:xfrm>
          </p:grpSpPr>
          <p:sp>
            <p:nvSpPr>
              <p:cNvPr id="4947" name=""/>
              <p:cNvSpPr/>
              <p:nvPr/>
            </p:nvSpPr>
            <p:spPr>
              <a:xfrm>
                <a:off x="2600280" y="5182920"/>
                <a:ext cx="41436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2862000" y="5244480"/>
                <a:ext cx="6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H="1" flipV="1">
                <a:off x="2910960" y="5194800"/>
                <a:ext cx="126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0" name=""/>
            <p:cNvGrpSpPr/>
            <p:nvPr/>
          </p:nvGrpSpPr>
          <p:grpSpPr>
            <a:xfrm>
              <a:off x="3014640" y="5184720"/>
              <a:ext cx="411120" cy="126720"/>
              <a:chOff x="3014640" y="5184720"/>
              <a:chExt cx="411120" cy="126720"/>
            </a:xfrm>
          </p:grpSpPr>
          <p:sp>
            <p:nvSpPr>
              <p:cNvPr id="4951" name=""/>
              <p:cNvSpPr/>
              <p:nvPr/>
            </p:nvSpPr>
            <p:spPr>
              <a:xfrm>
                <a:off x="3014640" y="5184720"/>
                <a:ext cx="4111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3274200" y="5246280"/>
                <a:ext cx="6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H="1" flipV="1">
                <a:off x="3323160" y="5196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4" name=""/>
            <p:cNvGrpSpPr/>
            <p:nvPr/>
          </p:nvGrpSpPr>
          <p:grpSpPr>
            <a:xfrm>
              <a:off x="3424320" y="5178600"/>
              <a:ext cx="407880" cy="126720"/>
              <a:chOff x="3424320" y="5178600"/>
              <a:chExt cx="407880" cy="126720"/>
            </a:xfrm>
          </p:grpSpPr>
          <p:sp>
            <p:nvSpPr>
              <p:cNvPr id="4955" name=""/>
              <p:cNvSpPr/>
              <p:nvPr/>
            </p:nvSpPr>
            <p:spPr>
              <a:xfrm>
                <a:off x="3424320" y="5178600"/>
                <a:ext cx="40788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 flipV="1">
                <a:off x="3681720" y="524016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 flipH="1" flipV="1">
                <a:off x="3730320" y="519048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8" name=""/>
            <p:cNvGrpSpPr/>
            <p:nvPr/>
          </p:nvGrpSpPr>
          <p:grpSpPr>
            <a:xfrm>
              <a:off x="3838680" y="5180040"/>
              <a:ext cx="403200" cy="126360"/>
              <a:chOff x="3838680" y="5180040"/>
              <a:chExt cx="403200" cy="126360"/>
            </a:xfrm>
          </p:grpSpPr>
          <p:sp>
            <p:nvSpPr>
              <p:cNvPr id="4959" name=""/>
              <p:cNvSpPr/>
              <p:nvPr/>
            </p:nvSpPr>
            <p:spPr>
              <a:xfrm>
                <a:off x="3838680" y="5180040"/>
                <a:ext cx="403200" cy="12636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 flipV="1">
                <a:off x="4093200" y="524160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 flipH="1" flipV="1">
                <a:off x="4141080" y="51919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2" name=""/>
            <p:cNvGrpSpPr/>
            <p:nvPr/>
          </p:nvGrpSpPr>
          <p:grpSpPr>
            <a:xfrm>
              <a:off x="4251240" y="5181480"/>
              <a:ext cx="403200" cy="126720"/>
              <a:chOff x="4251240" y="5181480"/>
              <a:chExt cx="403200" cy="126720"/>
            </a:xfrm>
          </p:grpSpPr>
          <p:sp>
            <p:nvSpPr>
              <p:cNvPr id="4963" name=""/>
              <p:cNvSpPr/>
              <p:nvPr/>
            </p:nvSpPr>
            <p:spPr>
              <a:xfrm>
                <a:off x="4251240" y="51814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V="1">
                <a:off x="4505760" y="52430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flipH="1" flipV="1">
                <a:off x="4553640" y="5193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6" name=""/>
            <p:cNvSpPr/>
            <p:nvPr/>
          </p:nvSpPr>
          <p:spPr>
            <a:xfrm>
              <a:off x="4606920" y="530856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7" name=""/>
          <p:cNvSpPr/>
          <p:nvPr/>
        </p:nvSpPr>
        <p:spPr>
          <a:xfrm>
            <a:off x="3108240" y="464040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8" name=""/>
          <p:cNvGrpSpPr/>
          <p:nvPr/>
        </p:nvGrpSpPr>
        <p:grpSpPr>
          <a:xfrm>
            <a:off x="101520" y="6356520"/>
            <a:ext cx="8989920" cy="460080"/>
            <a:chOff x="101520" y="6356520"/>
            <a:chExt cx="8989920" cy="460080"/>
          </a:xfrm>
        </p:grpSpPr>
        <p:grpSp>
          <p:nvGrpSpPr>
            <p:cNvPr id="4969" name=""/>
            <p:cNvGrpSpPr/>
            <p:nvPr/>
          </p:nvGrpSpPr>
          <p:grpSpPr>
            <a:xfrm>
              <a:off x="511200" y="6356520"/>
              <a:ext cx="8227440" cy="79200"/>
              <a:chOff x="511200" y="6356520"/>
              <a:chExt cx="8227440" cy="79200"/>
            </a:xfrm>
          </p:grpSpPr>
          <p:grpSp>
            <p:nvGrpSpPr>
              <p:cNvPr id="4970" name=""/>
              <p:cNvGrpSpPr/>
              <p:nvPr/>
            </p:nvGrpSpPr>
            <p:grpSpPr>
              <a:xfrm>
                <a:off x="511200" y="6356520"/>
                <a:ext cx="4113360" cy="79200"/>
                <a:chOff x="511200" y="6356520"/>
                <a:chExt cx="4113360" cy="79200"/>
              </a:xfrm>
            </p:grpSpPr>
            <p:sp>
              <p:nvSpPr>
                <p:cNvPr id="4971" name=""/>
                <p:cNvSpPr/>
                <p:nvPr/>
              </p:nvSpPr>
              <p:spPr>
                <a:xfrm>
                  <a:off x="5112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2" name=""/>
                <p:cNvSpPr/>
                <p:nvPr/>
              </p:nvSpPr>
              <p:spPr>
                <a:xfrm>
                  <a:off x="922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3" name=""/>
                <p:cNvSpPr/>
                <p:nvPr/>
              </p:nvSpPr>
              <p:spPr>
                <a:xfrm>
                  <a:off x="133452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>
                  <a:off x="174420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21564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25678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297936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339156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38012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421344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"/>
              <p:cNvGrpSpPr/>
              <p:nvPr/>
            </p:nvGrpSpPr>
            <p:grpSpPr>
              <a:xfrm>
                <a:off x="4624920" y="6356520"/>
                <a:ext cx="4113720" cy="79200"/>
                <a:chOff x="4624920" y="6356520"/>
                <a:chExt cx="4113720" cy="79200"/>
              </a:xfrm>
            </p:grpSpPr>
            <p:sp>
              <p:nvSpPr>
                <p:cNvPr id="4982" name=""/>
                <p:cNvSpPr/>
                <p:nvPr/>
              </p:nvSpPr>
              <p:spPr>
                <a:xfrm>
                  <a:off x="46249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50360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544860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"/>
                <p:cNvSpPr/>
                <p:nvPr/>
              </p:nvSpPr>
              <p:spPr>
                <a:xfrm>
                  <a:off x="585828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"/>
                <p:cNvSpPr/>
                <p:nvPr/>
              </p:nvSpPr>
              <p:spPr>
                <a:xfrm>
                  <a:off x="62704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>
                  <a:off x="668196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>
                  <a:off x="70934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9" name=""/>
                <p:cNvSpPr/>
                <p:nvPr/>
              </p:nvSpPr>
              <p:spPr>
                <a:xfrm>
                  <a:off x="750564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>
                  <a:off x="7915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83275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92" name=""/>
            <p:cNvSpPr/>
            <p:nvPr/>
          </p:nvSpPr>
          <p:spPr>
            <a:xfrm>
              <a:off x="428148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68792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09436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519520" y="6448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9198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63324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677052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71834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58340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798984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83898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854520" y="6445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436920" y="6437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004920" y="64389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59236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179440" y="6437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780920" y="6434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35396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955440" y="64324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47560" y="64389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0152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417600" y="63817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03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95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90439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8929440" y="637848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8821800" y="63784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9" name=""/>
          <p:cNvSpPr/>
          <p:nvPr/>
        </p:nvSpPr>
        <p:spPr>
          <a:xfrm>
            <a:off x="1649520" y="575136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4 +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"/>
          <p:cNvSpPr/>
          <p:nvPr/>
        </p:nvSpPr>
        <p:spPr>
          <a:xfrm>
            <a:off x="2922480" y="63500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1" name=""/>
          <p:cNvGrpSpPr/>
          <p:nvPr/>
        </p:nvGrpSpPr>
        <p:grpSpPr>
          <a:xfrm>
            <a:off x="2975040" y="6227640"/>
            <a:ext cx="2922480" cy="220680"/>
            <a:chOff x="2975040" y="6227640"/>
            <a:chExt cx="2922480" cy="220680"/>
          </a:xfrm>
        </p:grpSpPr>
        <p:sp>
          <p:nvSpPr>
            <p:cNvPr id="5022" name=""/>
            <p:cNvSpPr/>
            <p:nvPr/>
          </p:nvSpPr>
          <p:spPr>
            <a:xfrm>
              <a:off x="5808600" y="63594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3" name=""/>
            <p:cNvGrpSpPr/>
            <p:nvPr/>
          </p:nvGrpSpPr>
          <p:grpSpPr>
            <a:xfrm>
              <a:off x="2975040" y="6232320"/>
              <a:ext cx="414360" cy="127080"/>
              <a:chOff x="2975040" y="6232320"/>
              <a:chExt cx="414360" cy="127080"/>
            </a:xfrm>
          </p:grpSpPr>
          <p:sp>
            <p:nvSpPr>
              <p:cNvPr id="5024" name=""/>
              <p:cNvSpPr/>
              <p:nvPr/>
            </p:nvSpPr>
            <p:spPr>
              <a:xfrm>
                <a:off x="2975040" y="623232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 flipV="1">
                <a:off x="3236760" y="629388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 flipH="1" flipV="1">
                <a:off x="3285720" y="624492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7" name=""/>
            <p:cNvGrpSpPr/>
            <p:nvPr/>
          </p:nvGrpSpPr>
          <p:grpSpPr>
            <a:xfrm>
              <a:off x="3389400" y="6233760"/>
              <a:ext cx="411120" cy="127080"/>
              <a:chOff x="3389400" y="6233760"/>
              <a:chExt cx="411120" cy="127080"/>
            </a:xfrm>
          </p:grpSpPr>
          <p:sp>
            <p:nvSpPr>
              <p:cNvPr id="5028" name=""/>
              <p:cNvSpPr/>
              <p:nvPr/>
            </p:nvSpPr>
            <p:spPr>
              <a:xfrm>
                <a:off x="3389400" y="62337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 flipV="1">
                <a:off x="3648960" y="62953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H="1" flipV="1">
                <a:off x="3697920" y="62463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1" name=""/>
            <p:cNvGrpSpPr/>
            <p:nvPr/>
          </p:nvGrpSpPr>
          <p:grpSpPr>
            <a:xfrm>
              <a:off x="3798720" y="6227640"/>
              <a:ext cx="408240" cy="126720"/>
              <a:chOff x="3798720" y="6227640"/>
              <a:chExt cx="408240" cy="126720"/>
            </a:xfrm>
          </p:grpSpPr>
          <p:sp>
            <p:nvSpPr>
              <p:cNvPr id="5032" name=""/>
              <p:cNvSpPr/>
              <p:nvPr/>
            </p:nvSpPr>
            <p:spPr>
              <a:xfrm>
                <a:off x="3798720" y="622764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 flipV="1">
                <a:off x="4056480" y="628920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 flipH="1" flipV="1">
                <a:off x="4105080" y="62395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5" name=""/>
            <p:cNvGrpSpPr/>
            <p:nvPr/>
          </p:nvGrpSpPr>
          <p:grpSpPr>
            <a:xfrm>
              <a:off x="4213080" y="6229080"/>
              <a:ext cx="403200" cy="127080"/>
              <a:chOff x="4213080" y="6229080"/>
              <a:chExt cx="403200" cy="127080"/>
            </a:xfrm>
          </p:grpSpPr>
          <p:sp>
            <p:nvSpPr>
              <p:cNvPr id="5036" name=""/>
              <p:cNvSpPr/>
              <p:nvPr/>
            </p:nvSpPr>
            <p:spPr>
              <a:xfrm>
                <a:off x="4213080" y="622908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 flipV="1">
                <a:off x="4467600" y="629064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 flipH="1" flipV="1">
                <a:off x="4515480" y="62416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9" name=""/>
            <p:cNvGrpSpPr/>
            <p:nvPr/>
          </p:nvGrpSpPr>
          <p:grpSpPr>
            <a:xfrm>
              <a:off x="4626000" y="6230880"/>
              <a:ext cx="403200" cy="126720"/>
              <a:chOff x="4626000" y="6230880"/>
              <a:chExt cx="403200" cy="126720"/>
            </a:xfrm>
          </p:grpSpPr>
          <p:sp>
            <p:nvSpPr>
              <p:cNvPr id="5040" name=""/>
              <p:cNvSpPr/>
              <p:nvPr/>
            </p:nvSpPr>
            <p:spPr>
              <a:xfrm>
                <a:off x="4626000" y="62308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 flipV="1">
                <a:off x="4880520" y="62924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 flipH="1" flipV="1">
                <a:off x="4928400" y="62427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3" name=""/>
            <p:cNvGrpSpPr/>
            <p:nvPr/>
          </p:nvGrpSpPr>
          <p:grpSpPr>
            <a:xfrm>
              <a:off x="5029200" y="6230880"/>
              <a:ext cx="412920" cy="126720"/>
              <a:chOff x="5029200" y="6230880"/>
              <a:chExt cx="412920" cy="126720"/>
            </a:xfrm>
          </p:grpSpPr>
          <p:sp>
            <p:nvSpPr>
              <p:cNvPr id="5044" name=""/>
              <p:cNvSpPr/>
              <p:nvPr/>
            </p:nvSpPr>
            <p:spPr>
              <a:xfrm>
                <a:off x="5029200" y="623088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 flipV="1">
                <a:off x="5289840" y="629244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 flipH="1" flipV="1">
                <a:off x="5339160" y="62427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7" name=""/>
            <p:cNvGrpSpPr/>
            <p:nvPr/>
          </p:nvGrpSpPr>
          <p:grpSpPr>
            <a:xfrm>
              <a:off x="5445000" y="6229080"/>
              <a:ext cx="412920" cy="127080"/>
              <a:chOff x="5445000" y="6229080"/>
              <a:chExt cx="412920" cy="127080"/>
            </a:xfrm>
          </p:grpSpPr>
          <p:sp>
            <p:nvSpPr>
              <p:cNvPr id="5048" name=""/>
              <p:cNvSpPr/>
              <p:nvPr/>
            </p:nvSpPr>
            <p:spPr>
              <a:xfrm>
                <a:off x="5445000" y="622908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 flipV="1">
                <a:off x="5705640" y="629064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 flipH="1" flipV="1">
                <a:off x="5754960" y="62416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1" name=""/>
          <p:cNvSpPr/>
          <p:nvPr/>
        </p:nvSpPr>
        <p:spPr>
          <a:xfrm>
            <a:off x="3090960" y="5751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Comic Sans MS"/>
              </a:rPr>
              <a:t>Rhifau Negatif ar y Llinell 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30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3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4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4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3000"/>
                                        <p:tgtEl>
                                          <p:spTgt spid="4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4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4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3000"/>
                                        <p:tgtEl>
                                          <p:spTgt spid="4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4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9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3000"/>
                                        <p:tgtEl>
                                          <p:spTgt spid="5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5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3" name=""/>
          <p:cNvSpPr/>
          <p:nvPr/>
        </p:nvSpPr>
        <p:spPr>
          <a:xfrm>
            <a:off x="3327480" y="2727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4" name=""/>
          <p:cNvGrpSpPr/>
          <p:nvPr/>
        </p:nvGrpSpPr>
        <p:grpSpPr>
          <a:xfrm>
            <a:off x="563400" y="2727360"/>
            <a:ext cx="2764080" cy="459720"/>
            <a:chOff x="563400" y="2727360"/>
            <a:chExt cx="2764080" cy="459720"/>
          </a:xfrm>
        </p:grpSpPr>
        <p:sp>
          <p:nvSpPr>
            <p:cNvPr id="5055" name=""/>
            <p:cNvSpPr/>
            <p:nvPr/>
          </p:nvSpPr>
          <p:spPr>
            <a:xfrm>
              <a:off x="1359000" y="27273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 +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63400" y="27273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563400" y="3193920"/>
            <a:ext cx="2764080" cy="459720"/>
            <a:chOff x="563400" y="3193920"/>
            <a:chExt cx="2764080" cy="459720"/>
          </a:xfrm>
        </p:grpSpPr>
        <p:sp>
          <p:nvSpPr>
            <p:cNvPr id="5058" name=""/>
            <p:cNvSpPr/>
            <p:nvPr/>
          </p:nvSpPr>
          <p:spPr>
            <a:xfrm>
              <a:off x="1359000" y="31939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4 + 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63400" y="31939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0" name=""/>
          <p:cNvGrpSpPr/>
          <p:nvPr/>
        </p:nvGrpSpPr>
        <p:grpSpPr>
          <a:xfrm>
            <a:off x="563400" y="3660840"/>
            <a:ext cx="2764080" cy="459720"/>
            <a:chOff x="563400" y="3660840"/>
            <a:chExt cx="2764080" cy="459720"/>
          </a:xfrm>
        </p:grpSpPr>
        <p:sp>
          <p:nvSpPr>
            <p:cNvPr id="5061" name=""/>
            <p:cNvSpPr/>
            <p:nvPr/>
          </p:nvSpPr>
          <p:spPr>
            <a:xfrm>
              <a:off x="1359000" y="366084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6 + 9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63400" y="366084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3" name=""/>
          <p:cNvGrpSpPr/>
          <p:nvPr/>
        </p:nvGrpSpPr>
        <p:grpSpPr>
          <a:xfrm>
            <a:off x="563400" y="4127400"/>
            <a:ext cx="2764080" cy="459720"/>
            <a:chOff x="563400" y="4127400"/>
            <a:chExt cx="2764080" cy="459720"/>
          </a:xfrm>
        </p:grpSpPr>
        <p:sp>
          <p:nvSpPr>
            <p:cNvPr id="5064" name=""/>
            <p:cNvSpPr/>
            <p:nvPr/>
          </p:nvSpPr>
          <p:spPr>
            <a:xfrm>
              <a:off x="1359000" y="412740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7 + 1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63400" y="412740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6" name=""/>
          <p:cNvGrpSpPr/>
          <p:nvPr/>
        </p:nvGrpSpPr>
        <p:grpSpPr>
          <a:xfrm>
            <a:off x="563400" y="4594320"/>
            <a:ext cx="2764080" cy="459720"/>
            <a:chOff x="563400" y="4594320"/>
            <a:chExt cx="2764080" cy="459720"/>
          </a:xfrm>
        </p:grpSpPr>
        <p:sp>
          <p:nvSpPr>
            <p:cNvPr id="5067" name=""/>
            <p:cNvSpPr/>
            <p:nvPr/>
          </p:nvSpPr>
          <p:spPr>
            <a:xfrm>
              <a:off x="1359000" y="45943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6 + 1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63400" y="45943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9" name=""/>
          <p:cNvGrpSpPr/>
          <p:nvPr/>
        </p:nvGrpSpPr>
        <p:grpSpPr>
          <a:xfrm>
            <a:off x="4975200" y="2727360"/>
            <a:ext cx="2763360" cy="459720"/>
            <a:chOff x="4975200" y="2727360"/>
            <a:chExt cx="2763360" cy="459720"/>
          </a:xfrm>
        </p:grpSpPr>
        <p:sp>
          <p:nvSpPr>
            <p:cNvPr id="5070" name=""/>
            <p:cNvSpPr/>
            <p:nvPr/>
          </p:nvSpPr>
          <p:spPr>
            <a:xfrm>
              <a:off x="5770440" y="27273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8 +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4975200" y="27273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2" name=""/>
          <p:cNvGrpSpPr/>
          <p:nvPr/>
        </p:nvGrpSpPr>
        <p:grpSpPr>
          <a:xfrm>
            <a:off x="4975200" y="3193920"/>
            <a:ext cx="2763360" cy="459720"/>
            <a:chOff x="4975200" y="3193920"/>
            <a:chExt cx="2763360" cy="459720"/>
          </a:xfrm>
        </p:grpSpPr>
        <p:sp>
          <p:nvSpPr>
            <p:cNvPr id="5073" name=""/>
            <p:cNvSpPr/>
            <p:nvPr/>
          </p:nvSpPr>
          <p:spPr>
            <a:xfrm>
              <a:off x="5770440" y="31939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9 + 6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4975200" y="31939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5" name=""/>
          <p:cNvGrpSpPr/>
          <p:nvPr/>
        </p:nvGrpSpPr>
        <p:grpSpPr>
          <a:xfrm>
            <a:off x="4975200" y="3660840"/>
            <a:ext cx="2763360" cy="459720"/>
            <a:chOff x="4975200" y="3660840"/>
            <a:chExt cx="2763360" cy="459720"/>
          </a:xfrm>
        </p:grpSpPr>
        <p:sp>
          <p:nvSpPr>
            <p:cNvPr id="5076" name=""/>
            <p:cNvSpPr/>
            <p:nvPr/>
          </p:nvSpPr>
          <p:spPr>
            <a:xfrm>
              <a:off x="5770440" y="366084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5 + 4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975200" y="366084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8" name=""/>
          <p:cNvGrpSpPr/>
          <p:nvPr/>
        </p:nvGrpSpPr>
        <p:grpSpPr>
          <a:xfrm>
            <a:off x="4975200" y="4127400"/>
            <a:ext cx="2763360" cy="459720"/>
            <a:chOff x="4975200" y="4127400"/>
            <a:chExt cx="2763360" cy="459720"/>
          </a:xfrm>
        </p:grpSpPr>
        <p:sp>
          <p:nvSpPr>
            <p:cNvPr id="5079" name=""/>
            <p:cNvSpPr/>
            <p:nvPr/>
          </p:nvSpPr>
          <p:spPr>
            <a:xfrm>
              <a:off x="5770440" y="412740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0 + 2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975200" y="412740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4975200" y="4594320"/>
            <a:ext cx="2763360" cy="459720"/>
            <a:chOff x="4975200" y="4594320"/>
            <a:chExt cx="2763360" cy="459720"/>
          </a:xfrm>
        </p:grpSpPr>
        <p:sp>
          <p:nvSpPr>
            <p:cNvPr id="5082" name=""/>
            <p:cNvSpPr/>
            <p:nvPr/>
          </p:nvSpPr>
          <p:spPr>
            <a:xfrm>
              <a:off x="5770440" y="45943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5 +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4975200" y="45943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4" name=""/>
          <p:cNvSpPr/>
          <p:nvPr/>
        </p:nvSpPr>
        <p:spPr>
          <a:xfrm>
            <a:off x="3327480" y="3193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/>
          <p:nvPr/>
        </p:nvSpPr>
        <p:spPr>
          <a:xfrm>
            <a:off x="3327480" y="3660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>
            <a:off x="3327480" y="4127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3327480" y="45943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>
            <a:off x="7738920" y="272736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>
            <a:off x="7738920" y="319392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/>
          <p:nvPr/>
        </p:nvSpPr>
        <p:spPr>
          <a:xfrm>
            <a:off x="7738920" y="366084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>
            <a:off x="7738920" y="412740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>
            <a:off x="7738920" y="459432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3" name=""/>
          <p:cNvGrpSpPr/>
          <p:nvPr/>
        </p:nvGrpSpPr>
        <p:grpSpPr>
          <a:xfrm>
            <a:off x="-44280" y="228600"/>
            <a:ext cx="8989920" cy="1888920"/>
            <a:chOff x="-44280" y="228600"/>
            <a:chExt cx="8989920" cy="1888920"/>
          </a:xfrm>
        </p:grpSpPr>
        <p:grpSp>
          <p:nvGrpSpPr>
            <p:cNvPr id="5094" name=""/>
            <p:cNvGrpSpPr/>
            <p:nvPr/>
          </p:nvGrpSpPr>
          <p:grpSpPr>
            <a:xfrm>
              <a:off x="-44280" y="1657440"/>
              <a:ext cx="8989920" cy="460080"/>
              <a:chOff x="-44280" y="1657440"/>
              <a:chExt cx="8989920" cy="460080"/>
            </a:xfrm>
          </p:grpSpPr>
          <p:grpSp>
            <p:nvGrpSpPr>
              <p:cNvPr id="5095" name=""/>
              <p:cNvGrpSpPr/>
              <p:nvPr/>
            </p:nvGrpSpPr>
            <p:grpSpPr>
              <a:xfrm>
                <a:off x="365400" y="1657440"/>
                <a:ext cx="8227440" cy="79200"/>
                <a:chOff x="365400" y="1657440"/>
                <a:chExt cx="8227440" cy="79200"/>
              </a:xfrm>
            </p:grpSpPr>
            <p:grpSp>
              <p:nvGrpSpPr>
                <p:cNvPr id="5096" name=""/>
                <p:cNvGrpSpPr/>
                <p:nvPr/>
              </p:nvGrpSpPr>
              <p:grpSpPr>
                <a:xfrm>
                  <a:off x="365400" y="1657440"/>
                  <a:ext cx="4113360" cy="79200"/>
                  <a:chOff x="365400" y="1657440"/>
                  <a:chExt cx="4113360" cy="79200"/>
                </a:xfrm>
              </p:grpSpPr>
              <p:sp>
                <p:nvSpPr>
                  <p:cNvPr id="5097" name=""/>
                  <p:cNvSpPr/>
                  <p:nvPr/>
                </p:nvSpPr>
                <p:spPr>
                  <a:xfrm>
                    <a:off x="36540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8" name=""/>
                  <p:cNvSpPr/>
                  <p:nvPr/>
                </p:nvSpPr>
                <p:spPr>
                  <a:xfrm>
                    <a:off x="77652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9" name=""/>
                  <p:cNvSpPr/>
                  <p:nvPr/>
                </p:nvSpPr>
                <p:spPr>
                  <a:xfrm>
                    <a:off x="1188720" y="1657440"/>
                    <a:ext cx="4093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0" name=""/>
                  <p:cNvSpPr/>
                  <p:nvPr/>
                </p:nvSpPr>
                <p:spPr>
                  <a:xfrm>
                    <a:off x="159840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1" name=""/>
                  <p:cNvSpPr/>
                  <p:nvPr/>
                </p:nvSpPr>
                <p:spPr>
                  <a:xfrm>
                    <a:off x="201060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2" name=""/>
                  <p:cNvSpPr/>
                  <p:nvPr/>
                </p:nvSpPr>
                <p:spPr>
                  <a:xfrm>
                    <a:off x="242208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3" name=""/>
                  <p:cNvSpPr/>
                  <p:nvPr/>
                </p:nvSpPr>
                <p:spPr>
                  <a:xfrm>
                    <a:off x="283356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4" name=""/>
                  <p:cNvSpPr/>
                  <p:nvPr/>
                </p:nvSpPr>
                <p:spPr>
                  <a:xfrm>
                    <a:off x="3245760" y="1657440"/>
                    <a:ext cx="4093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>
                    <a:off x="36554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6" name=""/>
                  <p:cNvSpPr/>
                  <p:nvPr/>
                </p:nvSpPr>
                <p:spPr>
                  <a:xfrm>
                    <a:off x="406764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7" name=""/>
                <p:cNvGrpSpPr/>
                <p:nvPr/>
              </p:nvGrpSpPr>
              <p:grpSpPr>
                <a:xfrm>
                  <a:off x="4479120" y="1657440"/>
                  <a:ext cx="4113720" cy="79200"/>
                  <a:chOff x="4479120" y="1657440"/>
                  <a:chExt cx="4113720" cy="79200"/>
                </a:xfrm>
              </p:grpSpPr>
              <p:sp>
                <p:nvSpPr>
                  <p:cNvPr id="5108" name=""/>
                  <p:cNvSpPr/>
                  <p:nvPr/>
                </p:nvSpPr>
                <p:spPr>
                  <a:xfrm>
                    <a:off x="447912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9" name=""/>
                  <p:cNvSpPr/>
                  <p:nvPr/>
                </p:nvSpPr>
                <p:spPr>
                  <a:xfrm>
                    <a:off x="48902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0" name=""/>
                  <p:cNvSpPr/>
                  <p:nvPr/>
                </p:nvSpPr>
                <p:spPr>
                  <a:xfrm>
                    <a:off x="5302800" y="1657440"/>
                    <a:ext cx="40968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1" name=""/>
                  <p:cNvSpPr/>
                  <p:nvPr/>
                </p:nvSpPr>
                <p:spPr>
                  <a:xfrm>
                    <a:off x="571248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2" name=""/>
                  <p:cNvSpPr/>
                  <p:nvPr/>
                </p:nvSpPr>
                <p:spPr>
                  <a:xfrm>
                    <a:off x="612468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3" name=""/>
                  <p:cNvSpPr/>
                  <p:nvPr/>
                </p:nvSpPr>
                <p:spPr>
                  <a:xfrm>
                    <a:off x="653616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4" name=""/>
                  <p:cNvSpPr/>
                  <p:nvPr/>
                </p:nvSpPr>
                <p:spPr>
                  <a:xfrm>
                    <a:off x="69476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5" name=""/>
                  <p:cNvSpPr/>
                  <p:nvPr/>
                </p:nvSpPr>
                <p:spPr>
                  <a:xfrm>
                    <a:off x="7359840" y="1657440"/>
                    <a:ext cx="40968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6" name=""/>
                  <p:cNvSpPr/>
                  <p:nvPr/>
                </p:nvSpPr>
                <p:spPr>
                  <a:xfrm>
                    <a:off x="776952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7" name=""/>
                  <p:cNvSpPr/>
                  <p:nvPr/>
                </p:nvSpPr>
                <p:spPr>
                  <a:xfrm>
                    <a:off x="818172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8" name=""/>
              <p:cNvSpPr/>
              <p:nvPr/>
            </p:nvSpPr>
            <p:spPr>
              <a:xfrm>
                <a:off x="413568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66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454212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494856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5373720" y="17492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77404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186600" y="174312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624720" y="17366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03764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43760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84404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8244000" y="174312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708720" y="174636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291120" y="173808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2859120" y="173988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244656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2033640" y="173808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1635120" y="17352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1208160" y="17366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809640" y="17334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01760" y="173988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-4428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271800" y="168264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1573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93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88981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783640" y="1679400"/>
                <a:ext cx="4788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676000" y="167940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7554960" y="763560"/>
              <a:ext cx="1342800" cy="398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dio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401760" y="1077840"/>
              <a:ext cx="790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fnyddiwch y llinell rif i’ch helpu i ateb y canlynol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387440" y="228600"/>
              <a:ext cx="6500880" cy="45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66ff"/>
                  </a:solidFill>
                  <a:latin typeface="Comic Sans MS"/>
                </a:rPr>
                <a:t>Rhifau Negatif ar y Llinell R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5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5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5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5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8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33400" y="3174840"/>
            <a:ext cx="190800" cy="23749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1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8" name=""/>
          <p:cNvGrpSpPr/>
          <p:nvPr/>
        </p:nvGrpSpPr>
        <p:grpSpPr>
          <a:xfrm>
            <a:off x="-44280" y="1657440"/>
            <a:ext cx="8989920" cy="460080"/>
            <a:chOff x="-44280" y="1657440"/>
            <a:chExt cx="8989920" cy="460080"/>
          </a:xfrm>
        </p:grpSpPr>
        <p:grpSp>
          <p:nvGrpSpPr>
            <p:cNvPr id="5149" name=""/>
            <p:cNvGrpSpPr/>
            <p:nvPr/>
          </p:nvGrpSpPr>
          <p:grpSpPr>
            <a:xfrm>
              <a:off x="365400" y="1657440"/>
              <a:ext cx="8227440" cy="79200"/>
              <a:chOff x="365400" y="1657440"/>
              <a:chExt cx="8227440" cy="79200"/>
            </a:xfrm>
          </p:grpSpPr>
          <p:grpSp>
            <p:nvGrpSpPr>
              <p:cNvPr id="5150" name=""/>
              <p:cNvGrpSpPr/>
              <p:nvPr/>
            </p:nvGrpSpPr>
            <p:grpSpPr>
              <a:xfrm>
                <a:off x="365400" y="1657440"/>
                <a:ext cx="4113360" cy="79200"/>
                <a:chOff x="365400" y="1657440"/>
                <a:chExt cx="4113360" cy="79200"/>
              </a:xfrm>
            </p:grpSpPr>
            <p:sp>
              <p:nvSpPr>
                <p:cNvPr id="5151" name=""/>
                <p:cNvSpPr/>
                <p:nvPr/>
              </p:nvSpPr>
              <p:spPr>
                <a:xfrm>
                  <a:off x="3654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>
                  <a:off x="776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118872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>
                  <a:off x="159840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>
                  <a:off x="20106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24220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283356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>
                  <a:off x="324576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>
                  <a:off x="36554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>
                  <a:off x="406764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1" name=""/>
              <p:cNvGrpSpPr/>
              <p:nvPr/>
            </p:nvGrpSpPr>
            <p:grpSpPr>
              <a:xfrm>
                <a:off x="4479120" y="1657440"/>
                <a:ext cx="4113720" cy="79200"/>
                <a:chOff x="4479120" y="1657440"/>
                <a:chExt cx="4113720" cy="79200"/>
              </a:xfrm>
            </p:grpSpPr>
            <p:sp>
              <p:nvSpPr>
                <p:cNvPr id="5162" name=""/>
                <p:cNvSpPr/>
                <p:nvPr/>
              </p:nvSpPr>
              <p:spPr>
                <a:xfrm>
                  <a:off x="44791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>
                  <a:off x="48902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>
                  <a:off x="530280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571248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>
                  <a:off x="61246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>
                  <a:off x="653616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>
                  <a:off x="69476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>
                  <a:off x="735984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>
                  <a:off x="7769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>
                  <a:off x="81817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2" name=""/>
            <p:cNvSpPr/>
            <p:nvPr/>
          </p:nvSpPr>
          <p:spPr>
            <a:xfrm>
              <a:off x="413568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54212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94856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373720" y="1749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7740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61866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662472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70376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743760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784404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82440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3708720" y="1746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291120" y="1738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859120" y="1739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44656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033640" y="1738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635120" y="1735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20816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809640" y="1733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01760" y="1739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-4428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271800" y="16826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157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49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88981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8783640" y="16794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8676000" y="16794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9" name=""/>
          <p:cNvSpPr/>
          <p:nvPr/>
        </p:nvSpPr>
        <p:spPr>
          <a:xfrm>
            <a:off x="824040" y="898560"/>
            <a:ext cx="1962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ynnu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7310520" y="165096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5256000" y="1523880"/>
            <a:ext cx="2101680" cy="214560"/>
            <a:chOff x="5256000" y="1523880"/>
            <a:chExt cx="2101680" cy="214560"/>
          </a:xfrm>
        </p:grpSpPr>
        <p:grpSp>
          <p:nvGrpSpPr>
            <p:cNvPr id="5202" name=""/>
            <p:cNvGrpSpPr/>
            <p:nvPr/>
          </p:nvGrpSpPr>
          <p:grpSpPr>
            <a:xfrm>
              <a:off x="5303880" y="1523880"/>
              <a:ext cx="2053800" cy="133560"/>
              <a:chOff x="5303880" y="1523880"/>
              <a:chExt cx="2053800" cy="133560"/>
            </a:xfrm>
          </p:grpSpPr>
          <p:grpSp>
            <p:nvGrpSpPr>
              <p:cNvPr id="5203" name=""/>
              <p:cNvGrpSpPr/>
              <p:nvPr/>
            </p:nvGrpSpPr>
            <p:grpSpPr>
              <a:xfrm>
                <a:off x="6943320" y="1528560"/>
                <a:ext cx="414360" cy="127080"/>
                <a:chOff x="6943320" y="1528560"/>
                <a:chExt cx="414360" cy="127080"/>
              </a:xfrm>
            </p:grpSpPr>
            <p:sp>
              <p:nvSpPr>
                <p:cNvPr id="5204" name=""/>
                <p:cNvSpPr/>
                <p:nvPr/>
              </p:nvSpPr>
              <p:spPr>
                <a:xfrm flipH="1">
                  <a:off x="6942960" y="1528560"/>
                  <a:ext cx="41436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5" name=""/>
                <p:cNvSpPr/>
                <p:nvPr/>
              </p:nvSpPr>
              <p:spPr>
                <a:xfrm flipH="1" flipV="1">
                  <a:off x="7034040" y="1590120"/>
                  <a:ext cx="61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7034400" y="1541160"/>
                  <a:ext cx="1260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7" name=""/>
              <p:cNvGrpSpPr/>
              <p:nvPr/>
            </p:nvGrpSpPr>
            <p:grpSpPr>
              <a:xfrm>
                <a:off x="6532560" y="1530360"/>
                <a:ext cx="411120" cy="127080"/>
                <a:chOff x="6532560" y="1530360"/>
                <a:chExt cx="411120" cy="127080"/>
              </a:xfrm>
            </p:grpSpPr>
            <p:sp>
              <p:nvSpPr>
                <p:cNvPr id="5208" name=""/>
                <p:cNvSpPr/>
                <p:nvPr/>
              </p:nvSpPr>
              <p:spPr>
                <a:xfrm flipH="1">
                  <a:off x="6532560" y="1530360"/>
                  <a:ext cx="4111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9" name=""/>
                <p:cNvSpPr/>
                <p:nvPr/>
              </p:nvSpPr>
              <p:spPr>
                <a:xfrm flipH="1" flipV="1">
                  <a:off x="6622920" y="1591920"/>
                  <a:ext cx="61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0" name=""/>
                <p:cNvSpPr/>
                <p:nvPr/>
              </p:nvSpPr>
              <p:spPr>
                <a:xfrm flipV="1">
                  <a:off x="6622920" y="154296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1" name=""/>
              <p:cNvGrpSpPr/>
              <p:nvPr/>
            </p:nvGrpSpPr>
            <p:grpSpPr>
              <a:xfrm>
                <a:off x="6125760" y="1523880"/>
                <a:ext cx="407880" cy="127080"/>
                <a:chOff x="6125760" y="1523880"/>
                <a:chExt cx="407880" cy="127080"/>
              </a:xfrm>
            </p:grpSpPr>
            <p:sp>
              <p:nvSpPr>
                <p:cNvPr id="5212" name=""/>
                <p:cNvSpPr/>
                <p:nvPr/>
              </p:nvSpPr>
              <p:spPr>
                <a:xfrm flipH="1">
                  <a:off x="6125400" y="1523880"/>
                  <a:ext cx="40788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3" name=""/>
                <p:cNvSpPr/>
                <p:nvPr/>
              </p:nvSpPr>
              <p:spPr>
                <a:xfrm flipH="1" flipV="1">
                  <a:off x="6215400" y="1585440"/>
                  <a:ext cx="6084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 flipV="1">
                  <a:off x="6215400" y="1536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5" name=""/>
              <p:cNvGrpSpPr/>
              <p:nvPr/>
            </p:nvGrpSpPr>
            <p:grpSpPr>
              <a:xfrm>
                <a:off x="5716440" y="1525680"/>
                <a:ext cx="403200" cy="126720"/>
                <a:chOff x="5716440" y="1525680"/>
                <a:chExt cx="403200" cy="126720"/>
              </a:xfrm>
            </p:grpSpPr>
            <p:sp>
              <p:nvSpPr>
                <p:cNvPr id="5216" name=""/>
                <p:cNvSpPr/>
                <p:nvPr/>
              </p:nvSpPr>
              <p:spPr>
                <a:xfrm flipH="1">
                  <a:off x="5716440" y="152568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 flipH="1" flipV="1">
                  <a:off x="5805000" y="158724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 flipV="1">
                  <a:off x="5805000" y="153756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9" name=""/>
              <p:cNvGrpSpPr/>
              <p:nvPr/>
            </p:nvGrpSpPr>
            <p:grpSpPr>
              <a:xfrm>
                <a:off x="5303880" y="1527120"/>
                <a:ext cx="403200" cy="127080"/>
                <a:chOff x="5303880" y="1527120"/>
                <a:chExt cx="403200" cy="127080"/>
              </a:xfrm>
            </p:grpSpPr>
            <p:sp>
              <p:nvSpPr>
                <p:cNvPr id="5220" name=""/>
                <p:cNvSpPr/>
                <p:nvPr/>
              </p:nvSpPr>
              <p:spPr>
                <a:xfrm flipH="1">
                  <a:off x="5303880" y="1527120"/>
                  <a:ext cx="40320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 flipH="1" flipV="1">
                  <a:off x="5392440" y="1588680"/>
                  <a:ext cx="601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 flipV="1">
                  <a:off x="5392440" y="153972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23" name=""/>
            <p:cNvSpPr/>
            <p:nvPr/>
          </p:nvSpPr>
          <p:spPr>
            <a:xfrm flipH="1">
              <a:off x="5255640" y="164952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4" name=""/>
          <p:cNvSpPr/>
          <p:nvPr/>
        </p:nvSpPr>
        <p:spPr>
          <a:xfrm>
            <a:off x="6566040" y="87948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-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"/>
          <p:cNvSpPr/>
          <p:nvPr/>
        </p:nvSpPr>
        <p:spPr>
          <a:xfrm>
            <a:off x="8004240" y="8780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"/>
          <p:cNvGrpSpPr/>
          <p:nvPr/>
        </p:nvGrpSpPr>
        <p:grpSpPr>
          <a:xfrm>
            <a:off x="28440" y="2930400"/>
            <a:ext cx="8989920" cy="460080"/>
            <a:chOff x="28440" y="2930400"/>
            <a:chExt cx="8989920" cy="460080"/>
          </a:xfrm>
        </p:grpSpPr>
        <p:grpSp>
          <p:nvGrpSpPr>
            <p:cNvPr id="5227" name=""/>
            <p:cNvGrpSpPr/>
            <p:nvPr/>
          </p:nvGrpSpPr>
          <p:grpSpPr>
            <a:xfrm>
              <a:off x="438120" y="2930400"/>
              <a:ext cx="8227440" cy="79200"/>
              <a:chOff x="438120" y="2930400"/>
              <a:chExt cx="8227440" cy="79200"/>
            </a:xfrm>
          </p:grpSpPr>
          <p:grpSp>
            <p:nvGrpSpPr>
              <p:cNvPr id="5228" name=""/>
              <p:cNvGrpSpPr/>
              <p:nvPr/>
            </p:nvGrpSpPr>
            <p:grpSpPr>
              <a:xfrm>
                <a:off x="438120" y="2930400"/>
                <a:ext cx="4113360" cy="79200"/>
                <a:chOff x="438120" y="2930400"/>
                <a:chExt cx="4113360" cy="79200"/>
              </a:xfrm>
            </p:grpSpPr>
            <p:sp>
              <p:nvSpPr>
                <p:cNvPr id="5229" name=""/>
                <p:cNvSpPr/>
                <p:nvPr/>
              </p:nvSpPr>
              <p:spPr>
                <a:xfrm>
                  <a:off x="4381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849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126144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167112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20833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24948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290628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331848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37281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414036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9" name=""/>
              <p:cNvGrpSpPr/>
              <p:nvPr/>
            </p:nvGrpSpPr>
            <p:grpSpPr>
              <a:xfrm>
                <a:off x="4551840" y="2930400"/>
                <a:ext cx="4113720" cy="79200"/>
                <a:chOff x="4551840" y="2930400"/>
                <a:chExt cx="4113720" cy="79200"/>
              </a:xfrm>
            </p:grpSpPr>
            <p:sp>
              <p:nvSpPr>
                <p:cNvPr id="5240" name=""/>
                <p:cNvSpPr/>
                <p:nvPr/>
              </p:nvSpPr>
              <p:spPr>
                <a:xfrm>
                  <a:off x="45518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49629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537552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578520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61974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660888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70203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743256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7842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82544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0" name=""/>
            <p:cNvSpPr/>
            <p:nvPr/>
          </p:nvSpPr>
          <p:spPr>
            <a:xfrm>
              <a:off x="420840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61484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02128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446440" y="302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8467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2593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669744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71103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751032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91676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83167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781440" y="3019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363840" y="3011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931840" y="3012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51928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2106360" y="3011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1707840" y="3008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128088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882360" y="3006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474480" y="3012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844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344520" y="295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30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122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89708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8856360" y="295236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8748720" y="29523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7" name=""/>
          <p:cNvSpPr/>
          <p:nvPr/>
        </p:nvSpPr>
        <p:spPr>
          <a:xfrm>
            <a:off x="6508800" y="21160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-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"/>
          <p:cNvSpPr/>
          <p:nvPr/>
        </p:nvSpPr>
        <p:spPr>
          <a:xfrm>
            <a:off x="6977160" y="29084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9" name=""/>
          <p:cNvGrpSpPr/>
          <p:nvPr/>
        </p:nvGrpSpPr>
        <p:grpSpPr>
          <a:xfrm>
            <a:off x="4498560" y="2798640"/>
            <a:ext cx="2513160" cy="220680"/>
            <a:chOff x="4498560" y="2798640"/>
            <a:chExt cx="2513160" cy="220680"/>
          </a:xfrm>
        </p:grpSpPr>
        <p:sp>
          <p:nvSpPr>
            <p:cNvPr id="5280" name=""/>
            <p:cNvSpPr/>
            <p:nvPr/>
          </p:nvSpPr>
          <p:spPr>
            <a:xfrm flipH="1">
              <a:off x="4498200" y="29304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1" name=""/>
            <p:cNvGrpSpPr/>
            <p:nvPr/>
          </p:nvGrpSpPr>
          <p:grpSpPr>
            <a:xfrm>
              <a:off x="4544640" y="2798640"/>
              <a:ext cx="2467080" cy="133560"/>
              <a:chOff x="4544640" y="2798640"/>
              <a:chExt cx="2467080" cy="133560"/>
            </a:xfrm>
          </p:grpSpPr>
          <p:grpSp>
            <p:nvGrpSpPr>
              <p:cNvPr id="5282" name=""/>
              <p:cNvGrpSpPr/>
              <p:nvPr/>
            </p:nvGrpSpPr>
            <p:grpSpPr>
              <a:xfrm>
                <a:off x="6597360" y="2803680"/>
                <a:ext cx="414360" cy="126720"/>
                <a:chOff x="6597360" y="2803680"/>
                <a:chExt cx="414360" cy="126720"/>
              </a:xfrm>
            </p:grpSpPr>
            <p:sp>
              <p:nvSpPr>
                <p:cNvPr id="5283" name=""/>
                <p:cNvSpPr/>
                <p:nvPr/>
              </p:nvSpPr>
              <p:spPr>
                <a:xfrm flipH="1">
                  <a:off x="6597000" y="2803680"/>
                  <a:ext cx="41436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 flipH="1" flipV="1">
                  <a:off x="6688080" y="2865240"/>
                  <a:ext cx="619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V="1">
                  <a:off x="6688440" y="2815560"/>
                  <a:ext cx="1260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6" name=""/>
              <p:cNvGrpSpPr/>
              <p:nvPr/>
            </p:nvGrpSpPr>
            <p:grpSpPr>
              <a:xfrm>
                <a:off x="6186240" y="2805120"/>
                <a:ext cx="411120" cy="127080"/>
                <a:chOff x="6186240" y="2805120"/>
                <a:chExt cx="411120" cy="127080"/>
              </a:xfrm>
            </p:grpSpPr>
            <p:sp>
              <p:nvSpPr>
                <p:cNvPr id="5287" name=""/>
                <p:cNvSpPr/>
                <p:nvPr/>
              </p:nvSpPr>
              <p:spPr>
                <a:xfrm flipH="1">
                  <a:off x="6186240" y="2805120"/>
                  <a:ext cx="4111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 flipH="1" flipV="1">
                  <a:off x="6276600" y="2866680"/>
                  <a:ext cx="61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 flipV="1">
                  <a:off x="6276600" y="281772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0" name=""/>
              <p:cNvGrpSpPr/>
              <p:nvPr/>
            </p:nvGrpSpPr>
            <p:grpSpPr>
              <a:xfrm>
                <a:off x="5779800" y="2798640"/>
                <a:ext cx="407880" cy="127080"/>
                <a:chOff x="5779800" y="2798640"/>
                <a:chExt cx="407880" cy="127080"/>
              </a:xfrm>
            </p:grpSpPr>
            <p:sp>
              <p:nvSpPr>
                <p:cNvPr id="5291" name=""/>
                <p:cNvSpPr/>
                <p:nvPr/>
              </p:nvSpPr>
              <p:spPr>
                <a:xfrm flipH="1">
                  <a:off x="5779440" y="2798640"/>
                  <a:ext cx="40788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 flipH="1" flipV="1">
                  <a:off x="5869440" y="2860200"/>
                  <a:ext cx="6084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 flipV="1">
                  <a:off x="5869440" y="281124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4" name=""/>
              <p:cNvGrpSpPr/>
              <p:nvPr/>
            </p:nvGrpSpPr>
            <p:grpSpPr>
              <a:xfrm>
                <a:off x="5370120" y="2800440"/>
                <a:ext cx="403200" cy="126720"/>
                <a:chOff x="5370120" y="2800440"/>
                <a:chExt cx="403200" cy="126720"/>
              </a:xfrm>
            </p:grpSpPr>
            <p:sp>
              <p:nvSpPr>
                <p:cNvPr id="5295" name=""/>
                <p:cNvSpPr/>
                <p:nvPr/>
              </p:nvSpPr>
              <p:spPr>
                <a:xfrm flipH="1">
                  <a:off x="5370120" y="280044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 flipH="1" flipV="1">
                  <a:off x="5458680" y="286200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 flipV="1">
                  <a:off x="5458680" y="28123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8" name=""/>
              <p:cNvGrpSpPr/>
              <p:nvPr/>
            </p:nvGrpSpPr>
            <p:grpSpPr>
              <a:xfrm>
                <a:off x="4957560" y="2801880"/>
                <a:ext cx="403200" cy="127080"/>
                <a:chOff x="4957560" y="2801880"/>
                <a:chExt cx="403200" cy="127080"/>
              </a:xfrm>
            </p:grpSpPr>
            <p:sp>
              <p:nvSpPr>
                <p:cNvPr id="5299" name=""/>
                <p:cNvSpPr/>
                <p:nvPr/>
              </p:nvSpPr>
              <p:spPr>
                <a:xfrm flipH="1">
                  <a:off x="4957560" y="2801880"/>
                  <a:ext cx="40320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 flipH="1" flipV="1">
                  <a:off x="5046120" y="2863440"/>
                  <a:ext cx="601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 flipV="1">
                  <a:off x="5046120" y="2814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2" name=""/>
              <p:cNvGrpSpPr/>
              <p:nvPr/>
            </p:nvGrpSpPr>
            <p:grpSpPr>
              <a:xfrm>
                <a:off x="4544640" y="2801880"/>
                <a:ext cx="412920" cy="127080"/>
                <a:chOff x="4544640" y="2801880"/>
                <a:chExt cx="412920" cy="127080"/>
              </a:xfrm>
            </p:grpSpPr>
            <p:sp>
              <p:nvSpPr>
                <p:cNvPr id="5303" name=""/>
                <p:cNvSpPr/>
                <p:nvPr/>
              </p:nvSpPr>
              <p:spPr>
                <a:xfrm flipH="1">
                  <a:off x="4544280" y="2801880"/>
                  <a:ext cx="4129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 flipH="1" flipV="1">
                  <a:off x="4635360" y="2863440"/>
                  <a:ext cx="615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 flipV="1">
                  <a:off x="4635360" y="2814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06" name=""/>
          <p:cNvSpPr/>
          <p:nvPr/>
        </p:nvSpPr>
        <p:spPr>
          <a:xfrm>
            <a:off x="7956720" y="211608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7" name=""/>
          <p:cNvGrpSpPr/>
          <p:nvPr/>
        </p:nvGrpSpPr>
        <p:grpSpPr>
          <a:xfrm>
            <a:off x="79200" y="4197240"/>
            <a:ext cx="8989920" cy="460080"/>
            <a:chOff x="79200" y="4197240"/>
            <a:chExt cx="8989920" cy="460080"/>
          </a:xfrm>
        </p:grpSpPr>
        <p:grpSp>
          <p:nvGrpSpPr>
            <p:cNvPr id="5308" name=""/>
            <p:cNvGrpSpPr/>
            <p:nvPr/>
          </p:nvGrpSpPr>
          <p:grpSpPr>
            <a:xfrm>
              <a:off x="488880" y="4197240"/>
              <a:ext cx="8227440" cy="79200"/>
              <a:chOff x="488880" y="4197240"/>
              <a:chExt cx="8227440" cy="79200"/>
            </a:xfrm>
          </p:grpSpPr>
          <p:grpSp>
            <p:nvGrpSpPr>
              <p:cNvPr id="5309" name=""/>
              <p:cNvGrpSpPr/>
              <p:nvPr/>
            </p:nvGrpSpPr>
            <p:grpSpPr>
              <a:xfrm>
                <a:off x="488880" y="4197240"/>
                <a:ext cx="4113360" cy="79200"/>
                <a:chOff x="488880" y="4197240"/>
                <a:chExt cx="4113360" cy="79200"/>
              </a:xfrm>
            </p:grpSpPr>
            <p:sp>
              <p:nvSpPr>
                <p:cNvPr id="5310" name=""/>
                <p:cNvSpPr/>
                <p:nvPr/>
              </p:nvSpPr>
              <p:spPr>
                <a:xfrm>
                  <a:off x="4888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900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131220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>
                  <a:off x="172188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21340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25455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>
                  <a:off x="295704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>
                  <a:off x="336924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>
                  <a:off x="37789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419112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0" name=""/>
              <p:cNvGrpSpPr/>
              <p:nvPr/>
            </p:nvGrpSpPr>
            <p:grpSpPr>
              <a:xfrm>
                <a:off x="4602600" y="4197240"/>
                <a:ext cx="4113720" cy="79200"/>
                <a:chOff x="4602600" y="4197240"/>
                <a:chExt cx="4113720" cy="79200"/>
              </a:xfrm>
            </p:grpSpPr>
            <p:sp>
              <p:nvSpPr>
                <p:cNvPr id="5321" name=""/>
                <p:cNvSpPr/>
                <p:nvPr/>
              </p:nvSpPr>
              <p:spPr>
                <a:xfrm>
                  <a:off x="46026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>
                  <a:off x="50137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542628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>
                  <a:off x="583596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>
                  <a:off x="62481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>
                  <a:off x="665964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>
                  <a:off x="70711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748332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7893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83052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1" name=""/>
            <p:cNvSpPr/>
            <p:nvPr/>
          </p:nvSpPr>
          <p:spPr>
            <a:xfrm>
              <a:off x="425916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466560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07204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5497200" y="428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58975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3100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74820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71611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756108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96752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83674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832200" y="4286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414600" y="4277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982600" y="42796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57004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157120" y="4277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1758600" y="4275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133164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933120" y="4273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25240" y="42796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7920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395280" y="4222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80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72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90216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8907120" y="42192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8799480" y="42192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8" name=""/>
          <p:cNvSpPr/>
          <p:nvPr/>
        </p:nvSpPr>
        <p:spPr>
          <a:xfrm>
            <a:off x="6531120" y="344340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-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"/>
          <p:cNvSpPr/>
          <p:nvPr/>
        </p:nvSpPr>
        <p:spPr>
          <a:xfrm>
            <a:off x="6197760" y="41940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3325680" y="4062240"/>
            <a:ext cx="2922480" cy="220680"/>
            <a:chOff x="3325680" y="4062240"/>
            <a:chExt cx="2922480" cy="220680"/>
          </a:xfrm>
        </p:grpSpPr>
        <p:sp>
          <p:nvSpPr>
            <p:cNvPr id="5361" name=""/>
            <p:cNvSpPr/>
            <p:nvPr/>
          </p:nvSpPr>
          <p:spPr>
            <a:xfrm flipH="1">
              <a:off x="3325320" y="41940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2" name=""/>
            <p:cNvGrpSpPr/>
            <p:nvPr/>
          </p:nvGrpSpPr>
          <p:grpSpPr>
            <a:xfrm>
              <a:off x="5833800" y="4066920"/>
              <a:ext cx="414360" cy="127080"/>
              <a:chOff x="5833800" y="4066920"/>
              <a:chExt cx="414360" cy="127080"/>
            </a:xfrm>
          </p:grpSpPr>
          <p:sp>
            <p:nvSpPr>
              <p:cNvPr id="5363" name=""/>
              <p:cNvSpPr/>
              <p:nvPr/>
            </p:nvSpPr>
            <p:spPr>
              <a:xfrm flipH="1">
                <a:off x="5833440" y="406692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H="1" flipV="1">
                <a:off x="5924520" y="412848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 flipV="1">
                <a:off x="5924880" y="407952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6" name=""/>
            <p:cNvGrpSpPr/>
            <p:nvPr/>
          </p:nvGrpSpPr>
          <p:grpSpPr>
            <a:xfrm>
              <a:off x="5422680" y="4068360"/>
              <a:ext cx="411120" cy="127080"/>
              <a:chOff x="5422680" y="4068360"/>
              <a:chExt cx="411120" cy="127080"/>
            </a:xfrm>
          </p:grpSpPr>
          <p:sp>
            <p:nvSpPr>
              <p:cNvPr id="5367" name=""/>
              <p:cNvSpPr/>
              <p:nvPr/>
            </p:nvSpPr>
            <p:spPr>
              <a:xfrm flipH="1">
                <a:off x="5422680" y="40683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 flipH="1" flipV="1">
                <a:off x="5513040" y="41299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V="1">
                <a:off x="5513040" y="40809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0" name=""/>
            <p:cNvGrpSpPr/>
            <p:nvPr/>
          </p:nvGrpSpPr>
          <p:grpSpPr>
            <a:xfrm>
              <a:off x="5016240" y="4062240"/>
              <a:ext cx="408240" cy="126720"/>
              <a:chOff x="5016240" y="4062240"/>
              <a:chExt cx="408240" cy="126720"/>
            </a:xfrm>
          </p:grpSpPr>
          <p:sp>
            <p:nvSpPr>
              <p:cNvPr id="5371" name=""/>
              <p:cNvSpPr/>
              <p:nvPr/>
            </p:nvSpPr>
            <p:spPr>
              <a:xfrm flipH="1">
                <a:off x="5016240" y="406224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 flipH="1" flipV="1">
                <a:off x="5105880" y="412380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 flipV="1">
                <a:off x="5105880" y="40741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4" name=""/>
            <p:cNvGrpSpPr/>
            <p:nvPr/>
          </p:nvGrpSpPr>
          <p:grpSpPr>
            <a:xfrm>
              <a:off x="4606920" y="4063680"/>
              <a:ext cx="403200" cy="127080"/>
              <a:chOff x="4606920" y="4063680"/>
              <a:chExt cx="403200" cy="127080"/>
            </a:xfrm>
          </p:grpSpPr>
          <p:sp>
            <p:nvSpPr>
              <p:cNvPr id="5375" name=""/>
              <p:cNvSpPr/>
              <p:nvPr/>
            </p:nvSpPr>
            <p:spPr>
              <a:xfrm flipH="1">
                <a:off x="4606920" y="406368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 flipH="1" flipV="1">
                <a:off x="4695480" y="412524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 flipV="1">
                <a:off x="4695480" y="40762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8" name=""/>
            <p:cNvGrpSpPr/>
            <p:nvPr/>
          </p:nvGrpSpPr>
          <p:grpSpPr>
            <a:xfrm>
              <a:off x="4194000" y="4065480"/>
              <a:ext cx="403200" cy="126720"/>
              <a:chOff x="4194000" y="4065480"/>
              <a:chExt cx="403200" cy="126720"/>
            </a:xfrm>
          </p:grpSpPr>
          <p:sp>
            <p:nvSpPr>
              <p:cNvPr id="5379" name=""/>
              <p:cNvSpPr/>
              <p:nvPr/>
            </p:nvSpPr>
            <p:spPr>
              <a:xfrm flipH="1">
                <a:off x="4194000" y="40654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H="1" flipV="1">
                <a:off x="4282560" y="41270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 flipV="1">
                <a:off x="428256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2" name=""/>
            <p:cNvGrpSpPr/>
            <p:nvPr/>
          </p:nvGrpSpPr>
          <p:grpSpPr>
            <a:xfrm>
              <a:off x="3781080" y="4065480"/>
              <a:ext cx="412920" cy="126720"/>
              <a:chOff x="3781080" y="4065480"/>
              <a:chExt cx="412920" cy="126720"/>
            </a:xfrm>
          </p:grpSpPr>
          <p:sp>
            <p:nvSpPr>
              <p:cNvPr id="5383" name=""/>
              <p:cNvSpPr/>
              <p:nvPr/>
            </p:nvSpPr>
            <p:spPr>
              <a:xfrm flipH="1">
                <a:off x="3780720" y="406548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 flipH="1" flipV="1">
                <a:off x="3871800" y="412704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 flipV="1">
                <a:off x="387180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6" name=""/>
            <p:cNvGrpSpPr/>
            <p:nvPr/>
          </p:nvGrpSpPr>
          <p:grpSpPr>
            <a:xfrm>
              <a:off x="3365280" y="4063680"/>
              <a:ext cx="412920" cy="127080"/>
              <a:chOff x="3365280" y="4063680"/>
              <a:chExt cx="412920" cy="127080"/>
            </a:xfrm>
          </p:grpSpPr>
          <p:sp>
            <p:nvSpPr>
              <p:cNvPr id="5387" name=""/>
              <p:cNvSpPr/>
              <p:nvPr/>
            </p:nvSpPr>
            <p:spPr>
              <a:xfrm flipH="1">
                <a:off x="3364920" y="406368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 flipH="1" flipV="1">
                <a:off x="3456000" y="412524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 flipV="1">
                <a:off x="3456000" y="40762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0" name=""/>
          <p:cNvSpPr/>
          <p:nvPr/>
        </p:nvSpPr>
        <p:spPr>
          <a:xfrm>
            <a:off x="7980480" y="34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1" name=""/>
          <p:cNvGrpSpPr/>
          <p:nvPr/>
        </p:nvGrpSpPr>
        <p:grpSpPr>
          <a:xfrm>
            <a:off x="133200" y="5308560"/>
            <a:ext cx="8989920" cy="460080"/>
            <a:chOff x="133200" y="5308560"/>
            <a:chExt cx="8989920" cy="460080"/>
          </a:xfrm>
        </p:grpSpPr>
        <p:grpSp>
          <p:nvGrpSpPr>
            <p:cNvPr id="5392" name=""/>
            <p:cNvGrpSpPr/>
            <p:nvPr/>
          </p:nvGrpSpPr>
          <p:grpSpPr>
            <a:xfrm>
              <a:off x="542880" y="5308560"/>
              <a:ext cx="8227440" cy="79200"/>
              <a:chOff x="542880" y="5308560"/>
              <a:chExt cx="8227440" cy="79200"/>
            </a:xfrm>
          </p:grpSpPr>
          <p:grpSp>
            <p:nvGrpSpPr>
              <p:cNvPr id="5393" name=""/>
              <p:cNvGrpSpPr/>
              <p:nvPr/>
            </p:nvGrpSpPr>
            <p:grpSpPr>
              <a:xfrm>
                <a:off x="542880" y="5308560"/>
                <a:ext cx="4113360" cy="79200"/>
                <a:chOff x="542880" y="5308560"/>
                <a:chExt cx="4113360" cy="79200"/>
              </a:xfrm>
            </p:grpSpPr>
            <p:sp>
              <p:nvSpPr>
                <p:cNvPr id="5394" name=""/>
                <p:cNvSpPr/>
                <p:nvPr/>
              </p:nvSpPr>
              <p:spPr>
                <a:xfrm>
                  <a:off x="5428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>
                  <a:off x="954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>
                  <a:off x="136620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7" name=""/>
                <p:cNvSpPr/>
                <p:nvPr/>
              </p:nvSpPr>
              <p:spPr>
                <a:xfrm>
                  <a:off x="177588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8" name=""/>
                <p:cNvSpPr/>
                <p:nvPr/>
              </p:nvSpPr>
              <p:spPr>
                <a:xfrm>
                  <a:off x="21880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>
                  <a:off x="25995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0" name=""/>
                <p:cNvSpPr/>
                <p:nvPr/>
              </p:nvSpPr>
              <p:spPr>
                <a:xfrm>
                  <a:off x="301104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1" name=""/>
                <p:cNvSpPr/>
                <p:nvPr/>
              </p:nvSpPr>
              <p:spPr>
                <a:xfrm>
                  <a:off x="342324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2" name=""/>
                <p:cNvSpPr/>
                <p:nvPr/>
              </p:nvSpPr>
              <p:spPr>
                <a:xfrm>
                  <a:off x="38329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3" name=""/>
                <p:cNvSpPr/>
                <p:nvPr/>
              </p:nvSpPr>
              <p:spPr>
                <a:xfrm>
                  <a:off x="424512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4" name=""/>
              <p:cNvGrpSpPr/>
              <p:nvPr/>
            </p:nvGrpSpPr>
            <p:grpSpPr>
              <a:xfrm>
                <a:off x="4656600" y="5308560"/>
                <a:ext cx="4113720" cy="79200"/>
                <a:chOff x="4656600" y="5308560"/>
                <a:chExt cx="4113720" cy="79200"/>
              </a:xfrm>
            </p:grpSpPr>
            <p:sp>
              <p:nvSpPr>
                <p:cNvPr id="5405" name=""/>
                <p:cNvSpPr/>
                <p:nvPr/>
              </p:nvSpPr>
              <p:spPr>
                <a:xfrm>
                  <a:off x="46566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6" name=""/>
                <p:cNvSpPr/>
                <p:nvPr/>
              </p:nvSpPr>
              <p:spPr>
                <a:xfrm>
                  <a:off x="50677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7" name=""/>
                <p:cNvSpPr/>
                <p:nvPr/>
              </p:nvSpPr>
              <p:spPr>
                <a:xfrm>
                  <a:off x="548028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>
                  <a:off x="588996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9" name=""/>
                <p:cNvSpPr/>
                <p:nvPr/>
              </p:nvSpPr>
              <p:spPr>
                <a:xfrm>
                  <a:off x="63021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0" name=""/>
                <p:cNvSpPr/>
                <p:nvPr/>
              </p:nvSpPr>
              <p:spPr>
                <a:xfrm>
                  <a:off x="671364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1" name=""/>
                <p:cNvSpPr/>
                <p:nvPr/>
              </p:nvSpPr>
              <p:spPr>
                <a:xfrm>
                  <a:off x="71251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2" name=""/>
                <p:cNvSpPr/>
                <p:nvPr/>
              </p:nvSpPr>
              <p:spPr>
                <a:xfrm>
                  <a:off x="753732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3" name=""/>
                <p:cNvSpPr/>
                <p:nvPr/>
              </p:nvSpPr>
              <p:spPr>
                <a:xfrm>
                  <a:off x="7947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4" name=""/>
                <p:cNvSpPr/>
                <p:nvPr/>
              </p:nvSpPr>
              <p:spPr>
                <a:xfrm>
                  <a:off x="83592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15" name=""/>
            <p:cNvSpPr/>
            <p:nvPr/>
          </p:nvSpPr>
          <p:spPr>
            <a:xfrm>
              <a:off x="431316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71960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12604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5551200" y="5400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59515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3640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80220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72151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761508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802152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84214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886200" y="53974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468600" y="5389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036600" y="5391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62404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211120" y="5389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1812600" y="5386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138564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987120" y="5384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79240" y="5391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13320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49280" y="5333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34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26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90756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8961120" y="53305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8853480" y="5330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2" name=""/>
          <p:cNvSpPr/>
          <p:nvPr/>
        </p:nvSpPr>
        <p:spPr>
          <a:xfrm>
            <a:off x="6556320" y="464040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-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/>
          <p:nvPr/>
        </p:nvSpPr>
        <p:spPr>
          <a:xfrm>
            <a:off x="4587840" y="53118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4" name=""/>
          <p:cNvGrpSpPr/>
          <p:nvPr/>
        </p:nvGrpSpPr>
        <p:grpSpPr>
          <a:xfrm>
            <a:off x="2561760" y="5175360"/>
            <a:ext cx="2095560" cy="218520"/>
            <a:chOff x="2561760" y="5175360"/>
            <a:chExt cx="2095560" cy="218520"/>
          </a:xfrm>
        </p:grpSpPr>
        <p:grpSp>
          <p:nvGrpSpPr>
            <p:cNvPr id="5445" name=""/>
            <p:cNvGrpSpPr/>
            <p:nvPr/>
          </p:nvGrpSpPr>
          <p:grpSpPr>
            <a:xfrm>
              <a:off x="4242960" y="5179680"/>
              <a:ext cx="414360" cy="126720"/>
              <a:chOff x="4242960" y="5179680"/>
              <a:chExt cx="414360" cy="126720"/>
            </a:xfrm>
          </p:grpSpPr>
          <p:sp>
            <p:nvSpPr>
              <p:cNvPr id="5446" name=""/>
              <p:cNvSpPr/>
              <p:nvPr/>
            </p:nvSpPr>
            <p:spPr>
              <a:xfrm flipH="1">
                <a:off x="4242600" y="5179680"/>
                <a:ext cx="41436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H="1" flipV="1">
                <a:off x="4333680" y="5241240"/>
                <a:ext cx="6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 flipV="1">
                <a:off x="4334040" y="5191560"/>
                <a:ext cx="126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9" name=""/>
            <p:cNvGrpSpPr/>
            <p:nvPr/>
          </p:nvGrpSpPr>
          <p:grpSpPr>
            <a:xfrm>
              <a:off x="3831840" y="5181480"/>
              <a:ext cx="411120" cy="126720"/>
              <a:chOff x="3831840" y="5181480"/>
              <a:chExt cx="411120" cy="126720"/>
            </a:xfrm>
          </p:grpSpPr>
          <p:sp>
            <p:nvSpPr>
              <p:cNvPr id="5450" name=""/>
              <p:cNvSpPr/>
              <p:nvPr/>
            </p:nvSpPr>
            <p:spPr>
              <a:xfrm flipH="1">
                <a:off x="3831840" y="5181480"/>
                <a:ext cx="4111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H="1" flipV="1">
                <a:off x="3922200" y="5243040"/>
                <a:ext cx="6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V="1">
                <a:off x="3922200" y="5193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3" name=""/>
            <p:cNvGrpSpPr/>
            <p:nvPr/>
          </p:nvGrpSpPr>
          <p:grpSpPr>
            <a:xfrm>
              <a:off x="3425400" y="5175360"/>
              <a:ext cx="407880" cy="126720"/>
              <a:chOff x="3425400" y="5175360"/>
              <a:chExt cx="407880" cy="126720"/>
            </a:xfrm>
          </p:grpSpPr>
          <p:sp>
            <p:nvSpPr>
              <p:cNvPr id="5454" name=""/>
              <p:cNvSpPr/>
              <p:nvPr/>
            </p:nvSpPr>
            <p:spPr>
              <a:xfrm flipH="1">
                <a:off x="3425040" y="5175360"/>
                <a:ext cx="40788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 flipH="1" flipV="1">
                <a:off x="3515040" y="523692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V="1">
                <a:off x="3515040" y="51872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7" name=""/>
            <p:cNvGrpSpPr/>
            <p:nvPr/>
          </p:nvGrpSpPr>
          <p:grpSpPr>
            <a:xfrm>
              <a:off x="3015720" y="5176800"/>
              <a:ext cx="403200" cy="126360"/>
              <a:chOff x="3015720" y="5176800"/>
              <a:chExt cx="403200" cy="126360"/>
            </a:xfrm>
          </p:grpSpPr>
          <p:sp>
            <p:nvSpPr>
              <p:cNvPr id="5458" name=""/>
              <p:cNvSpPr/>
              <p:nvPr/>
            </p:nvSpPr>
            <p:spPr>
              <a:xfrm flipH="1">
                <a:off x="3015720" y="5176800"/>
                <a:ext cx="403200" cy="12636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H="1" flipV="1">
                <a:off x="3104280" y="523836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 flipV="1">
                <a:off x="3104280" y="518868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1" name=""/>
            <p:cNvGrpSpPr/>
            <p:nvPr/>
          </p:nvGrpSpPr>
          <p:grpSpPr>
            <a:xfrm>
              <a:off x="2603160" y="5178240"/>
              <a:ext cx="403200" cy="126720"/>
              <a:chOff x="2603160" y="5178240"/>
              <a:chExt cx="403200" cy="126720"/>
            </a:xfrm>
          </p:grpSpPr>
          <p:sp>
            <p:nvSpPr>
              <p:cNvPr id="5462" name=""/>
              <p:cNvSpPr/>
              <p:nvPr/>
            </p:nvSpPr>
            <p:spPr>
              <a:xfrm flipH="1">
                <a:off x="2603160" y="517824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 flipV="1">
                <a:off x="2691720" y="523980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 flipV="1">
                <a:off x="2691720" y="51901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5" name=""/>
            <p:cNvSpPr/>
            <p:nvPr/>
          </p:nvSpPr>
          <p:spPr>
            <a:xfrm flipH="1">
              <a:off x="2561400" y="530532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6" name=""/>
          <p:cNvSpPr/>
          <p:nvPr/>
        </p:nvSpPr>
        <p:spPr>
          <a:xfrm>
            <a:off x="8004240" y="4640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7" name=""/>
          <p:cNvGrpSpPr/>
          <p:nvPr/>
        </p:nvGrpSpPr>
        <p:grpSpPr>
          <a:xfrm>
            <a:off x="101520" y="6356520"/>
            <a:ext cx="8989920" cy="460080"/>
            <a:chOff x="101520" y="6356520"/>
            <a:chExt cx="8989920" cy="460080"/>
          </a:xfrm>
        </p:grpSpPr>
        <p:grpSp>
          <p:nvGrpSpPr>
            <p:cNvPr id="5468" name=""/>
            <p:cNvGrpSpPr/>
            <p:nvPr/>
          </p:nvGrpSpPr>
          <p:grpSpPr>
            <a:xfrm>
              <a:off x="511200" y="6356520"/>
              <a:ext cx="8227440" cy="79200"/>
              <a:chOff x="511200" y="6356520"/>
              <a:chExt cx="8227440" cy="79200"/>
            </a:xfrm>
          </p:grpSpPr>
          <p:grpSp>
            <p:nvGrpSpPr>
              <p:cNvPr id="5469" name=""/>
              <p:cNvGrpSpPr/>
              <p:nvPr/>
            </p:nvGrpSpPr>
            <p:grpSpPr>
              <a:xfrm>
                <a:off x="511200" y="6356520"/>
                <a:ext cx="4113360" cy="79200"/>
                <a:chOff x="511200" y="6356520"/>
                <a:chExt cx="4113360" cy="79200"/>
              </a:xfrm>
            </p:grpSpPr>
            <p:sp>
              <p:nvSpPr>
                <p:cNvPr id="5470" name=""/>
                <p:cNvSpPr/>
                <p:nvPr/>
              </p:nvSpPr>
              <p:spPr>
                <a:xfrm>
                  <a:off x="5112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1" name=""/>
                <p:cNvSpPr/>
                <p:nvPr/>
              </p:nvSpPr>
              <p:spPr>
                <a:xfrm>
                  <a:off x="922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2" name=""/>
                <p:cNvSpPr/>
                <p:nvPr/>
              </p:nvSpPr>
              <p:spPr>
                <a:xfrm>
                  <a:off x="133452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3" name=""/>
                <p:cNvSpPr/>
                <p:nvPr/>
              </p:nvSpPr>
              <p:spPr>
                <a:xfrm>
                  <a:off x="174420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>
                  <a:off x="21564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5" name=""/>
                <p:cNvSpPr/>
                <p:nvPr/>
              </p:nvSpPr>
              <p:spPr>
                <a:xfrm>
                  <a:off x="25678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6" name=""/>
                <p:cNvSpPr/>
                <p:nvPr/>
              </p:nvSpPr>
              <p:spPr>
                <a:xfrm>
                  <a:off x="297936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339156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38012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9" name=""/>
                <p:cNvSpPr/>
                <p:nvPr/>
              </p:nvSpPr>
              <p:spPr>
                <a:xfrm>
                  <a:off x="421344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0" name=""/>
              <p:cNvGrpSpPr/>
              <p:nvPr/>
            </p:nvGrpSpPr>
            <p:grpSpPr>
              <a:xfrm>
                <a:off x="4624920" y="6356520"/>
                <a:ext cx="4113720" cy="79200"/>
                <a:chOff x="4624920" y="6356520"/>
                <a:chExt cx="4113720" cy="79200"/>
              </a:xfrm>
            </p:grpSpPr>
            <p:sp>
              <p:nvSpPr>
                <p:cNvPr id="5481" name=""/>
                <p:cNvSpPr/>
                <p:nvPr/>
              </p:nvSpPr>
              <p:spPr>
                <a:xfrm>
                  <a:off x="46249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>
                  <a:off x="50360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3" name=""/>
                <p:cNvSpPr/>
                <p:nvPr/>
              </p:nvSpPr>
              <p:spPr>
                <a:xfrm>
                  <a:off x="544860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4" name=""/>
                <p:cNvSpPr/>
                <p:nvPr/>
              </p:nvSpPr>
              <p:spPr>
                <a:xfrm>
                  <a:off x="585828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5" name=""/>
                <p:cNvSpPr/>
                <p:nvPr/>
              </p:nvSpPr>
              <p:spPr>
                <a:xfrm>
                  <a:off x="62704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6" name=""/>
                <p:cNvSpPr/>
                <p:nvPr/>
              </p:nvSpPr>
              <p:spPr>
                <a:xfrm>
                  <a:off x="668196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"/>
                <p:cNvSpPr/>
                <p:nvPr/>
              </p:nvSpPr>
              <p:spPr>
                <a:xfrm>
                  <a:off x="70934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8" name=""/>
                <p:cNvSpPr/>
                <p:nvPr/>
              </p:nvSpPr>
              <p:spPr>
                <a:xfrm>
                  <a:off x="750564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9" name=""/>
                <p:cNvSpPr/>
                <p:nvPr/>
              </p:nvSpPr>
              <p:spPr>
                <a:xfrm>
                  <a:off x="7915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"/>
                <p:cNvSpPr/>
                <p:nvPr/>
              </p:nvSpPr>
              <p:spPr>
                <a:xfrm>
                  <a:off x="83275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1" name=""/>
            <p:cNvSpPr/>
            <p:nvPr/>
          </p:nvSpPr>
          <p:spPr>
            <a:xfrm>
              <a:off x="428148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68792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509436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5519520" y="6448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9198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324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77052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71834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758340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798984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83898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3854520" y="6445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6920" y="6437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004920" y="64389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59236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2179440" y="6437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1780920" y="6434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135396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955440" y="64324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547560" y="64389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10152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17600" y="63817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303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195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90439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8929440" y="637848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8821800" y="63784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8" name=""/>
          <p:cNvSpPr/>
          <p:nvPr/>
        </p:nvSpPr>
        <p:spPr>
          <a:xfrm>
            <a:off x="6545160" y="575136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 –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>
            <a:off x="3745080" y="6350040"/>
            <a:ext cx="8856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0" name=""/>
          <p:cNvGrpSpPr/>
          <p:nvPr/>
        </p:nvGrpSpPr>
        <p:grpSpPr>
          <a:xfrm>
            <a:off x="882720" y="6221520"/>
            <a:ext cx="2922480" cy="220680"/>
            <a:chOff x="882720" y="6221520"/>
            <a:chExt cx="2922480" cy="220680"/>
          </a:xfrm>
        </p:grpSpPr>
        <p:sp>
          <p:nvSpPr>
            <p:cNvPr id="5521" name=""/>
            <p:cNvSpPr/>
            <p:nvPr/>
          </p:nvSpPr>
          <p:spPr>
            <a:xfrm flipH="1">
              <a:off x="882360" y="635328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2" name=""/>
            <p:cNvGrpSpPr/>
            <p:nvPr/>
          </p:nvGrpSpPr>
          <p:grpSpPr>
            <a:xfrm>
              <a:off x="3390840" y="6226200"/>
              <a:ext cx="414360" cy="127080"/>
              <a:chOff x="3390840" y="6226200"/>
              <a:chExt cx="414360" cy="127080"/>
            </a:xfrm>
          </p:grpSpPr>
          <p:sp>
            <p:nvSpPr>
              <p:cNvPr id="5523" name=""/>
              <p:cNvSpPr/>
              <p:nvPr/>
            </p:nvSpPr>
            <p:spPr>
              <a:xfrm flipH="1">
                <a:off x="3390480" y="622620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 flipH="1" flipV="1">
                <a:off x="3481560" y="628776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 flipV="1">
                <a:off x="3481920" y="623880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6" name=""/>
            <p:cNvGrpSpPr/>
            <p:nvPr/>
          </p:nvGrpSpPr>
          <p:grpSpPr>
            <a:xfrm>
              <a:off x="2979720" y="6227640"/>
              <a:ext cx="411120" cy="127080"/>
              <a:chOff x="2979720" y="6227640"/>
              <a:chExt cx="411120" cy="127080"/>
            </a:xfrm>
          </p:grpSpPr>
          <p:sp>
            <p:nvSpPr>
              <p:cNvPr id="5527" name=""/>
              <p:cNvSpPr/>
              <p:nvPr/>
            </p:nvSpPr>
            <p:spPr>
              <a:xfrm flipH="1">
                <a:off x="2979720" y="622764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 flipH="1" flipV="1">
                <a:off x="3070080" y="628920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 flipV="1">
                <a:off x="3070080" y="624024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0" name=""/>
            <p:cNvGrpSpPr/>
            <p:nvPr/>
          </p:nvGrpSpPr>
          <p:grpSpPr>
            <a:xfrm>
              <a:off x="2573280" y="6221520"/>
              <a:ext cx="408240" cy="126720"/>
              <a:chOff x="2573280" y="6221520"/>
              <a:chExt cx="408240" cy="126720"/>
            </a:xfrm>
          </p:grpSpPr>
          <p:sp>
            <p:nvSpPr>
              <p:cNvPr id="5531" name=""/>
              <p:cNvSpPr/>
              <p:nvPr/>
            </p:nvSpPr>
            <p:spPr>
              <a:xfrm flipH="1">
                <a:off x="2573280" y="622152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 flipH="1" flipV="1">
                <a:off x="2662920" y="628308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 flipV="1">
                <a:off x="2662920" y="62334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4" name=""/>
            <p:cNvGrpSpPr/>
            <p:nvPr/>
          </p:nvGrpSpPr>
          <p:grpSpPr>
            <a:xfrm>
              <a:off x="2163960" y="6222960"/>
              <a:ext cx="403200" cy="127080"/>
              <a:chOff x="2163960" y="6222960"/>
              <a:chExt cx="403200" cy="127080"/>
            </a:xfrm>
          </p:grpSpPr>
          <p:sp>
            <p:nvSpPr>
              <p:cNvPr id="5535" name=""/>
              <p:cNvSpPr/>
              <p:nvPr/>
            </p:nvSpPr>
            <p:spPr>
              <a:xfrm flipH="1">
                <a:off x="2163960" y="622296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 flipH="1" flipV="1">
                <a:off x="2252520" y="628452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 flipV="1">
                <a:off x="2252520" y="62355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8" name=""/>
            <p:cNvGrpSpPr/>
            <p:nvPr/>
          </p:nvGrpSpPr>
          <p:grpSpPr>
            <a:xfrm>
              <a:off x="1751040" y="6224760"/>
              <a:ext cx="403200" cy="126720"/>
              <a:chOff x="1751040" y="6224760"/>
              <a:chExt cx="403200" cy="126720"/>
            </a:xfrm>
          </p:grpSpPr>
          <p:sp>
            <p:nvSpPr>
              <p:cNvPr id="5539" name=""/>
              <p:cNvSpPr/>
              <p:nvPr/>
            </p:nvSpPr>
            <p:spPr>
              <a:xfrm flipH="1">
                <a:off x="1751040" y="622476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 flipH="1" flipV="1">
                <a:off x="1839600" y="628632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 flipV="1">
                <a:off x="1839600" y="62366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2" name=""/>
            <p:cNvGrpSpPr/>
            <p:nvPr/>
          </p:nvGrpSpPr>
          <p:grpSpPr>
            <a:xfrm>
              <a:off x="1338120" y="6224760"/>
              <a:ext cx="412920" cy="126720"/>
              <a:chOff x="1338120" y="6224760"/>
              <a:chExt cx="412920" cy="126720"/>
            </a:xfrm>
          </p:grpSpPr>
          <p:sp>
            <p:nvSpPr>
              <p:cNvPr id="5543" name=""/>
              <p:cNvSpPr/>
              <p:nvPr/>
            </p:nvSpPr>
            <p:spPr>
              <a:xfrm flipH="1">
                <a:off x="1337760" y="622476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H="1" flipV="1">
                <a:off x="1428840" y="628632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V="1">
                <a:off x="1428840" y="62366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6" name=""/>
            <p:cNvGrpSpPr/>
            <p:nvPr/>
          </p:nvGrpSpPr>
          <p:grpSpPr>
            <a:xfrm>
              <a:off x="922320" y="6222960"/>
              <a:ext cx="412920" cy="127080"/>
              <a:chOff x="922320" y="6222960"/>
              <a:chExt cx="412920" cy="127080"/>
            </a:xfrm>
          </p:grpSpPr>
          <p:sp>
            <p:nvSpPr>
              <p:cNvPr id="5547" name=""/>
              <p:cNvSpPr/>
              <p:nvPr/>
            </p:nvSpPr>
            <p:spPr>
              <a:xfrm flipH="1">
                <a:off x="921960" y="622296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 flipH="1" flipV="1">
                <a:off x="1013040" y="628452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 flipV="1">
                <a:off x="1013040" y="62355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0" name=""/>
          <p:cNvSpPr/>
          <p:nvPr/>
        </p:nvSpPr>
        <p:spPr>
          <a:xfrm>
            <a:off x="7986600" y="575136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Comic Sans MS"/>
              </a:rPr>
              <a:t>Rhifau Negatif ar y Llinell 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8" dur="3000"/>
                                        <p:tgtEl>
                                          <p:spTgt spid="5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5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8" dur="500"/>
                                        <p:tgtEl>
                                          <p:spTgt spid="5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5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3" dur="3000"/>
                                        <p:tgtEl>
                                          <p:spTgt spid="5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3" dur="500"/>
                                        <p:tgtEl>
                                          <p:spTgt spid="5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5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3000"/>
                                        <p:tgtEl>
                                          <p:spTgt spid="5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5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" dur="500"/>
                                        <p:tgtEl>
                                          <p:spTgt spid="5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5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3" dur="3000"/>
                                        <p:tgtEl>
                                          <p:spTgt spid="5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3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5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8" dur="3000"/>
                                        <p:tgtEl>
                                          <p:spTgt spid="5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5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2" name=""/>
          <p:cNvGrpSpPr/>
          <p:nvPr/>
        </p:nvGrpSpPr>
        <p:grpSpPr>
          <a:xfrm>
            <a:off x="171360" y="1873080"/>
            <a:ext cx="8989920" cy="460080"/>
            <a:chOff x="171360" y="1873080"/>
            <a:chExt cx="8989920" cy="460080"/>
          </a:xfrm>
        </p:grpSpPr>
        <p:grpSp>
          <p:nvGrpSpPr>
            <p:cNvPr id="5553" name=""/>
            <p:cNvGrpSpPr/>
            <p:nvPr/>
          </p:nvGrpSpPr>
          <p:grpSpPr>
            <a:xfrm>
              <a:off x="581040" y="1873080"/>
              <a:ext cx="8227440" cy="79200"/>
              <a:chOff x="581040" y="1873080"/>
              <a:chExt cx="8227440" cy="79200"/>
            </a:xfrm>
          </p:grpSpPr>
          <p:grpSp>
            <p:nvGrpSpPr>
              <p:cNvPr id="5554" name=""/>
              <p:cNvGrpSpPr/>
              <p:nvPr/>
            </p:nvGrpSpPr>
            <p:grpSpPr>
              <a:xfrm>
                <a:off x="581040" y="1873080"/>
                <a:ext cx="4113360" cy="79200"/>
                <a:chOff x="581040" y="1873080"/>
                <a:chExt cx="4113360" cy="79200"/>
              </a:xfrm>
            </p:grpSpPr>
            <p:sp>
              <p:nvSpPr>
                <p:cNvPr id="5555" name=""/>
                <p:cNvSpPr/>
                <p:nvPr/>
              </p:nvSpPr>
              <p:spPr>
                <a:xfrm>
                  <a:off x="58104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"/>
                <p:cNvSpPr/>
                <p:nvPr/>
              </p:nvSpPr>
              <p:spPr>
                <a:xfrm>
                  <a:off x="99216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1404360" y="187308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>
                  <a:off x="181404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9" name=""/>
                <p:cNvSpPr/>
                <p:nvPr/>
              </p:nvSpPr>
              <p:spPr>
                <a:xfrm>
                  <a:off x="222624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0" name=""/>
                <p:cNvSpPr/>
                <p:nvPr/>
              </p:nvSpPr>
              <p:spPr>
                <a:xfrm>
                  <a:off x="263772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>
                  <a:off x="304920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>
                  <a:off x="3461400" y="187308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3" name=""/>
                <p:cNvSpPr/>
                <p:nvPr/>
              </p:nvSpPr>
              <p:spPr>
                <a:xfrm>
                  <a:off x="38710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>
                  <a:off x="428328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5" name=""/>
              <p:cNvGrpSpPr/>
              <p:nvPr/>
            </p:nvGrpSpPr>
            <p:grpSpPr>
              <a:xfrm>
                <a:off x="4694760" y="1873080"/>
                <a:ext cx="4113720" cy="79200"/>
                <a:chOff x="4694760" y="1873080"/>
                <a:chExt cx="4113720" cy="79200"/>
              </a:xfrm>
            </p:grpSpPr>
            <p:sp>
              <p:nvSpPr>
                <p:cNvPr id="5566" name=""/>
                <p:cNvSpPr/>
                <p:nvPr/>
              </p:nvSpPr>
              <p:spPr>
                <a:xfrm>
                  <a:off x="469476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>
                  <a:off x="51058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>
                  <a:off x="5518440" y="187308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>
                  <a:off x="592812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>
                  <a:off x="634032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>
                  <a:off x="675180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>
                  <a:off x="71632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>
                  <a:off x="7575480" y="187308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798516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839736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6" name=""/>
            <p:cNvSpPr/>
            <p:nvPr/>
          </p:nvSpPr>
          <p:spPr>
            <a:xfrm>
              <a:off x="435132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475776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516420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589360" y="1964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98968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402240" y="1958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840360" y="195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725328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65324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805968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8459640" y="1958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3924360" y="1962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3506760" y="1953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3074760" y="1955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66220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249280" y="1953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1850760" y="195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1423800" y="195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1025280" y="194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17400" y="19555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17136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487440" y="1898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3729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649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91137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8999280" y="1895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8891640" y="189504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3" name=""/>
          <p:cNvSpPr/>
          <p:nvPr/>
        </p:nvSpPr>
        <p:spPr>
          <a:xfrm>
            <a:off x="264960" y="887400"/>
            <a:ext cx="24814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ynnu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>
            <a:off x="617400" y="1293840"/>
            <a:ext cx="79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nyddiwch y llinell rif i’ch helpu i ateb y canlyn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>
            <a:off x="3543480" y="2943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6" name=""/>
          <p:cNvGrpSpPr/>
          <p:nvPr/>
        </p:nvGrpSpPr>
        <p:grpSpPr>
          <a:xfrm>
            <a:off x="779400" y="2943360"/>
            <a:ext cx="2764080" cy="459720"/>
            <a:chOff x="779400" y="2943360"/>
            <a:chExt cx="2764080" cy="459720"/>
          </a:xfrm>
        </p:grpSpPr>
        <p:sp>
          <p:nvSpPr>
            <p:cNvPr id="5607" name=""/>
            <p:cNvSpPr/>
            <p:nvPr/>
          </p:nvSpPr>
          <p:spPr>
            <a:xfrm>
              <a:off x="1575000" y="29433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79400" y="29433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79400" y="3409920"/>
            <a:ext cx="2764080" cy="459720"/>
            <a:chOff x="779400" y="3409920"/>
            <a:chExt cx="2764080" cy="459720"/>
          </a:xfrm>
        </p:grpSpPr>
        <p:sp>
          <p:nvSpPr>
            <p:cNvPr id="5610" name=""/>
            <p:cNvSpPr/>
            <p:nvPr/>
          </p:nvSpPr>
          <p:spPr>
            <a:xfrm>
              <a:off x="1575000" y="34099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 - 4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79400" y="34099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79400" y="3876840"/>
            <a:ext cx="2764080" cy="459720"/>
            <a:chOff x="779400" y="3876840"/>
            <a:chExt cx="2764080" cy="459720"/>
          </a:xfrm>
        </p:grpSpPr>
        <p:sp>
          <p:nvSpPr>
            <p:cNvPr id="5613" name=""/>
            <p:cNvSpPr/>
            <p:nvPr/>
          </p:nvSpPr>
          <p:spPr>
            <a:xfrm>
              <a:off x="1575000" y="387684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 - 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79400" y="387684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79400" y="4343400"/>
            <a:ext cx="2764080" cy="459720"/>
            <a:chOff x="779400" y="4343400"/>
            <a:chExt cx="2764080" cy="459720"/>
          </a:xfrm>
        </p:grpSpPr>
        <p:sp>
          <p:nvSpPr>
            <p:cNvPr id="5616" name=""/>
            <p:cNvSpPr/>
            <p:nvPr/>
          </p:nvSpPr>
          <p:spPr>
            <a:xfrm>
              <a:off x="1575000" y="434340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 -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79400" y="434340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79400" y="4809960"/>
            <a:ext cx="2764080" cy="459720"/>
            <a:chOff x="779400" y="4809960"/>
            <a:chExt cx="2764080" cy="459720"/>
          </a:xfrm>
        </p:grpSpPr>
        <p:sp>
          <p:nvSpPr>
            <p:cNvPr id="5619" name=""/>
            <p:cNvSpPr/>
            <p:nvPr/>
          </p:nvSpPr>
          <p:spPr>
            <a:xfrm>
              <a:off x="1575000" y="48099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 - 6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79400" y="48099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5191200" y="2943360"/>
            <a:ext cx="2763360" cy="459720"/>
            <a:chOff x="5191200" y="2943360"/>
            <a:chExt cx="2763360" cy="459720"/>
          </a:xfrm>
        </p:grpSpPr>
        <p:sp>
          <p:nvSpPr>
            <p:cNvPr id="5622" name=""/>
            <p:cNvSpPr/>
            <p:nvPr/>
          </p:nvSpPr>
          <p:spPr>
            <a:xfrm>
              <a:off x="5986440" y="29433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 - 1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5191200" y="29433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5191200" y="3409920"/>
            <a:ext cx="2763360" cy="459720"/>
            <a:chOff x="5191200" y="3409920"/>
            <a:chExt cx="2763360" cy="459720"/>
          </a:xfrm>
        </p:grpSpPr>
        <p:sp>
          <p:nvSpPr>
            <p:cNvPr id="5625" name=""/>
            <p:cNvSpPr/>
            <p:nvPr/>
          </p:nvSpPr>
          <p:spPr>
            <a:xfrm>
              <a:off x="5986440" y="34099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2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5191200" y="34099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5191200" y="3876840"/>
            <a:ext cx="2763360" cy="459720"/>
            <a:chOff x="5191200" y="3876840"/>
            <a:chExt cx="2763360" cy="459720"/>
          </a:xfrm>
        </p:grpSpPr>
        <p:sp>
          <p:nvSpPr>
            <p:cNvPr id="5628" name=""/>
            <p:cNvSpPr/>
            <p:nvPr/>
          </p:nvSpPr>
          <p:spPr>
            <a:xfrm>
              <a:off x="5986440" y="387684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5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5191200" y="387684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5191200" y="4343400"/>
            <a:ext cx="2763360" cy="459720"/>
            <a:chOff x="5191200" y="4343400"/>
            <a:chExt cx="2763360" cy="459720"/>
          </a:xfrm>
        </p:grpSpPr>
        <p:sp>
          <p:nvSpPr>
            <p:cNvPr id="5631" name=""/>
            <p:cNvSpPr/>
            <p:nvPr/>
          </p:nvSpPr>
          <p:spPr>
            <a:xfrm>
              <a:off x="5986440" y="434340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7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5191200" y="434340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5191200" y="4809960"/>
            <a:ext cx="2763360" cy="459720"/>
            <a:chOff x="5191200" y="4809960"/>
            <a:chExt cx="2763360" cy="459720"/>
          </a:xfrm>
        </p:grpSpPr>
        <p:sp>
          <p:nvSpPr>
            <p:cNvPr id="5634" name=""/>
            <p:cNvSpPr/>
            <p:nvPr/>
          </p:nvSpPr>
          <p:spPr>
            <a:xfrm>
              <a:off x="5986440" y="48099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3 - 1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5191200" y="48099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3543480" y="3409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>
            <a:off x="3543480" y="3876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>
            <a:off x="3543480" y="43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>
            <a:off x="3543480" y="48099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/>
          <p:nvPr/>
        </p:nvSpPr>
        <p:spPr>
          <a:xfrm>
            <a:off x="7954920" y="2943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>
            <a:off x="7954920" y="3409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>
            <a:off x="7954920" y="3876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>
            <a:off x="7954920" y="43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>
            <a:off x="7954920" y="48099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Comic Sans MS"/>
              </a:rPr>
              <a:t>Rhifau Negatif ar y Llinell 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5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5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5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5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5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5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5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Sca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8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5649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3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5714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5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6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5717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5718" name="" descr=""/>
          <p:cNvPicPr/>
          <p:nvPr/>
        </p:nvPicPr>
        <p:blipFill>
          <a:blip r:embed="rId4"/>
          <a:stretch/>
        </p:blipFill>
        <p:spPr>
          <a:xfrm>
            <a:off x="6862680" y="70812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5719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0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5721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2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3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4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5" name="" descr=""/>
          <p:cNvPicPr/>
          <p:nvPr/>
        </p:nvPicPr>
        <p:blipFill>
          <a:blip r:embed="rId8"/>
          <a:stretch/>
        </p:blipFill>
        <p:spPr>
          <a:xfrm>
            <a:off x="6678720" y="4762440"/>
            <a:ext cx="1041120" cy="687600"/>
          </a:xfrm>
          <a:prstGeom prst="rect">
            <a:avLst/>
          </a:prstGeom>
          <a:ln w="0">
            <a:noFill/>
          </a:ln>
        </p:spPr>
      </p:pic>
      <p:pic>
        <p:nvPicPr>
          <p:cNvPr id="5726" name="" descr=""/>
          <p:cNvPicPr/>
          <p:nvPr/>
        </p:nvPicPr>
        <p:blipFill>
          <a:blip r:embed="rId9"/>
          <a:stretch/>
        </p:blipFill>
        <p:spPr>
          <a:xfrm>
            <a:off x="5786280" y="5797440"/>
            <a:ext cx="357480" cy="792360"/>
          </a:xfrm>
          <a:prstGeom prst="rect">
            <a:avLst/>
          </a:prstGeom>
          <a:ln w="0">
            <a:noFill/>
          </a:ln>
        </p:spPr>
      </p:pic>
      <p:pic>
        <p:nvPicPr>
          <p:cNvPr id="5727" name="" descr=""/>
          <p:cNvPicPr/>
          <p:nvPr/>
        </p:nvPicPr>
        <p:blipFill>
          <a:blip r:embed="rId10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pic>
        <p:nvPicPr>
          <p:cNvPr id="5728" name="" descr=""/>
          <p:cNvPicPr/>
          <p:nvPr/>
        </p:nvPicPr>
        <p:blipFill>
          <a:blip r:embed="rId11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5729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5730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8083440" y="2039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8047080" y="88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8093160" y="-77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40" name="" descr=""/>
          <p:cNvPicPr/>
          <p:nvPr/>
        </p:nvPicPr>
        <p:blipFill>
          <a:blip r:embed="rId12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grpSp>
        <p:nvGrpSpPr>
          <p:cNvPr id="5741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5742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1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fnyddiwch rifau negatif i gyfrifo uchder  a dyfnder y canlynol o lefel y 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"/>
          <p:cNvSpPr/>
          <p:nvPr/>
        </p:nvSpPr>
        <p:spPr>
          <a:xfrm flipH="1">
            <a:off x="866520" y="123840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"/>
          <p:cNvSpPr/>
          <p:nvPr/>
        </p:nvSpPr>
        <p:spPr>
          <a:xfrm flipH="1">
            <a:off x="3989160" y="410544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"/>
          <p:cNvSpPr/>
          <p:nvPr/>
        </p:nvSpPr>
        <p:spPr>
          <a:xfrm flipH="1">
            <a:off x="3871800" y="2492280"/>
            <a:ext cx="71136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"/>
          <p:cNvSpPr/>
          <p:nvPr/>
        </p:nvSpPr>
        <p:spPr>
          <a:xfrm>
            <a:off x="6640560" y="592200"/>
            <a:ext cx="669600" cy="5364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"/>
          <p:cNvSpPr/>
          <p:nvPr/>
        </p:nvSpPr>
        <p:spPr>
          <a:xfrm flipH="1">
            <a:off x="7278480" y="22478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"/>
          <p:cNvSpPr/>
          <p:nvPr/>
        </p:nvSpPr>
        <p:spPr>
          <a:xfrm flipH="1">
            <a:off x="7205400" y="46814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"/>
          <p:cNvSpPr/>
          <p:nvPr/>
        </p:nvSpPr>
        <p:spPr>
          <a:xfrm flipH="1">
            <a:off x="5954400" y="572436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"/>
          <p:cNvSpPr/>
          <p:nvPr/>
        </p:nvSpPr>
        <p:spPr>
          <a:xfrm flipH="1">
            <a:off x="901440" y="637848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"/>
          <p:cNvSpPr/>
          <p:nvPr/>
        </p:nvSpPr>
        <p:spPr>
          <a:xfrm flipH="1">
            <a:off x="4259160" y="250920"/>
            <a:ext cx="71136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"/>
          <p:cNvSpPr/>
          <p:nvPr/>
        </p:nvSpPr>
        <p:spPr>
          <a:xfrm flipH="1">
            <a:off x="1328400" y="355932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 flipH="1" flipV="1">
            <a:off x="2294280" y="59760"/>
            <a:ext cx="799200" cy="3124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3" name="" descr=""/>
          <p:cNvPicPr/>
          <p:nvPr/>
        </p:nvPicPr>
        <p:blipFill>
          <a:blip r:embed="rId13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5764" name=""/>
          <p:cNvSpPr/>
          <p:nvPr/>
        </p:nvSpPr>
        <p:spPr>
          <a:xfrm flipH="1">
            <a:off x="2911680" y="5916240"/>
            <a:ext cx="789840" cy="334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"/>
          <p:cNvSpPr/>
          <p:nvPr/>
        </p:nvSpPr>
        <p:spPr>
          <a:xfrm>
            <a:off x="4308480" y="4335480"/>
            <a:ext cx="900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"/>
          <p:cNvSpPr/>
          <p:nvPr/>
        </p:nvSpPr>
        <p:spPr>
          <a:xfrm>
            <a:off x="5918040" y="849240"/>
            <a:ext cx="900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"/>
          <p:cNvSpPr/>
          <p:nvPr/>
        </p:nvSpPr>
        <p:spPr>
          <a:xfrm>
            <a:off x="5724360" y="4967280"/>
            <a:ext cx="900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4894200" y="5996160"/>
            <a:ext cx="900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"/>
          <p:cNvSpPr/>
          <p:nvPr/>
        </p:nvSpPr>
        <p:spPr>
          <a:xfrm>
            <a:off x="2521080" y="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2000"/>
                                        <p:tgtEl>
                                          <p:spTgt spid="5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5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5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5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5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500"/>
                                        <p:tgtEl>
                                          <p:spTgt spid="5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0" dur="500"/>
                                        <p:tgtEl>
                                          <p:spTgt spid="5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5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1" dur="500"/>
                                        <p:tgtEl>
                                          <p:spTgt spid="5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5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500"/>
                                        <p:tgtEl>
                                          <p:spTgt spid="5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3" dur="500"/>
                                        <p:tgtEl>
                                          <p:spTgt spid="5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4" dur="500"/>
                                        <p:tgtEl>
                                          <p:spTgt spid="5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5" dur="500"/>
                                        <p:tgtEl>
                                          <p:spTgt spid="5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6" dur="500"/>
                                        <p:tgtEl>
                                          <p:spTgt spid="5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7" dur="500"/>
                                        <p:tgtEl>
                                          <p:spTgt spid="5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8" dur="500"/>
                                        <p:tgtEl>
                                          <p:spTgt spid="5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0" fill="hold"/>
                                        <p:tgtEl>
                                          <p:spTgt spid="5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0" fill="hold"/>
                                        <p:tgtEl>
                                          <p:spTgt spid="5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5" dur="500"/>
                                        <p:tgtEl>
                                          <p:spTgt spid="5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5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Sca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9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5780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5845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6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7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5848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"/>
          <p:cNvSpPr/>
          <p:nvPr/>
        </p:nvSpPr>
        <p:spPr>
          <a:xfrm>
            <a:off x="1806480" y="154944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fnyddiwch rifau negatif i gyfrifo uchder  a dyfnder y canlynol o lefel y 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879840" y="422280"/>
            <a:ext cx="846360" cy="136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1" name=""/>
          <p:cNvSpPr/>
          <p:nvPr/>
        </p:nvSpPr>
        <p:spPr>
          <a:xfrm>
            <a:off x="1058760" y="390600"/>
            <a:ext cx="754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4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5855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4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5865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e74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8083440" y="2039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8047080" y="88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8093160" y="-77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5" name="" descr=""/>
          <p:cNvPicPr/>
          <p:nvPr/>
        </p:nvPicPr>
        <p:blipFill>
          <a:blip r:embed="rId4"/>
          <a:stretch/>
        </p:blipFill>
        <p:spPr>
          <a:xfrm>
            <a:off x="322092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5876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5877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5878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5879" name="" descr=""/>
          <p:cNvPicPr/>
          <p:nvPr/>
        </p:nvPicPr>
        <p:blipFill>
          <a:blip r:embed="rId8"/>
          <a:stretch/>
        </p:blipFill>
        <p:spPr>
          <a:xfrm>
            <a:off x="7342200" y="478008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5880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5881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5882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5883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5884" name="" descr=""/>
          <p:cNvPicPr/>
          <p:nvPr/>
        </p:nvPicPr>
        <p:blipFill>
          <a:blip r:embed="rId13"/>
          <a:stretch/>
        </p:blipFill>
        <p:spPr>
          <a:xfrm>
            <a:off x="6586560" y="3695760"/>
            <a:ext cx="1174680" cy="803160"/>
          </a:xfrm>
          <a:prstGeom prst="rect">
            <a:avLst/>
          </a:prstGeom>
          <a:ln w="0">
            <a:noFill/>
          </a:ln>
        </p:spPr>
      </p:pic>
      <p:pic>
        <p:nvPicPr>
          <p:cNvPr id="5885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5886" name="" descr=""/>
          <p:cNvPicPr/>
          <p:nvPr/>
        </p:nvPicPr>
        <p:blipFill>
          <a:blip r:embed="rId15"/>
          <a:stretch/>
        </p:blipFill>
        <p:spPr>
          <a:xfrm>
            <a:off x="7161120" y="622152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5887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5889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2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"/>
          <p:cNvSpPr/>
          <p:nvPr/>
        </p:nvSpPr>
        <p:spPr>
          <a:xfrm flipH="1" flipV="1">
            <a:off x="715320" y="3965040"/>
            <a:ext cx="779040" cy="3600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"/>
          <p:cNvSpPr/>
          <p:nvPr/>
        </p:nvSpPr>
        <p:spPr>
          <a:xfrm>
            <a:off x="1036800" y="397044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"/>
          <p:cNvSpPr/>
          <p:nvPr/>
        </p:nvSpPr>
        <p:spPr>
          <a:xfrm flipH="1" flipV="1">
            <a:off x="3863520" y="1262880"/>
            <a:ext cx="778680" cy="3596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/>
          <p:nvPr/>
        </p:nvSpPr>
        <p:spPr>
          <a:xfrm>
            <a:off x="3973680" y="1343160"/>
            <a:ext cx="927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"/>
          <p:cNvSpPr/>
          <p:nvPr/>
        </p:nvSpPr>
        <p:spPr>
          <a:xfrm>
            <a:off x="6514920" y="51228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8" name=""/>
          <p:cNvSpPr/>
          <p:nvPr/>
        </p:nvSpPr>
        <p:spPr>
          <a:xfrm>
            <a:off x="6240600" y="36036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"/>
          <p:cNvSpPr/>
          <p:nvPr/>
        </p:nvSpPr>
        <p:spPr>
          <a:xfrm>
            <a:off x="6348240" y="393336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"/>
          <p:cNvSpPr/>
          <p:nvPr/>
        </p:nvSpPr>
        <p:spPr>
          <a:xfrm>
            <a:off x="5802480" y="3811680"/>
            <a:ext cx="927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"/>
          <p:cNvSpPr/>
          <p:nvPr/>
        </p:nvSpPr>
        <p:spPr>
          <a:xfrm>
            <a:off x="2878560" y="3612240"/>
            <a:ext cx="85320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"/>
          <p:cNvSpPr/>
          <p:nvPr/>
        </p:nvSpPr>
        <p:spPr>
          <a:xfrm>
            <a:off x="6708960" y="5132880"/>
            <a:ext cx="85248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"/>
          <p:cNvSpPr/>
          <p:nvPr/>
        </p:nvSpPr>
        <p:spPr>
          <a:xfrm>
            <a:off x="6319800" y="487836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5" name=""/>
          <p:cNvSpPr/>
          <p:nvPr/>
        </p:nvSpPr>
        <p:spPr>
          <a:xfrm flipH="1">
            <a:off x="4942800" y="2313360"/>
            <a:ext cx="814320" cy="269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6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7" name=""/>
          <p:cNvSpPr/>
          <p:nvPr/>
        </p:nvSpPr>
        <p:spPr>
          <a:xfrm flipH="1">
            <a:off x="3228120" y="5420160"/>
            <a:ext cx="814320" cy="2689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8" name=""/>
          <p:cNvSpPr/>
          <p:nvPr/>
        </p:nvSpPr>
        <p:spPr>
          <a:xfrm>
            <a:off x="3676680" y="545004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9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0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"/>
          <p:cNvSpPr/>
          <p:nvPr/>
        </p:nvSpPr>
        <p:spPr>
          <a:xfrm>
            <a:off x="6568920" y="6529680"/>
            <a:ext cx="800640" cy="307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"/>
          <p:cNvSpPr/>
          <p:nvPr/>
        </p:nvSpPr>
        <p:spPr>
          <a:xfrm>
            <a:off x="6240600" y="645156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"/>
          <p:cNvSpPr/>
          <p:nvPr/>
        </p:nvSpPr>
        <p:spPr>
          <a:xfrm flipH="1" flipV="1">
            <a:off x="2526840" y="330480"/>
            <a:ext cx="794880" cy="323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000"/>
                                        <p:tgtEl>
                                          <p:spTgt spid="5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2000"/>
                                        <p:tgtEl>
                                          <p:spTgt spid="5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5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5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6" dur="500"/>
                                        <p:tgtEl>
                                          <p:spTgt spid="5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5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5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5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5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1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5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2" dur="500"/>
                                        <p:tgtEl>
                                          <p:spTgt spid="5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5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5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5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0" fill="hold"/>
                                        <p:tgtEl>
                                          <p:spTgt spid="5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0" fill="hold"/>
                                        <p:tgtEl>
                                          <p:spTgt spid="5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500"/>
                                        <p:tgtEl>
                                          <p:spTgt spid="5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differenc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7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5938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2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003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4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5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6006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6007" name="" descr=""/>
          <p:cNvPicPr/>
          <p:nvPr/>
        </p:nvPicPr>
        <p:blipFill>
          <a:blip r:embed="rId4"/>
          <a:stretch/>
        </p:blipFill>
        <p:spPr>
          <a:xfrm>
            <a:off x="7265880" y="72720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6008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9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6010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1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2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3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4" name="" descr=""/>
          <p:cNvPicPr/>
          <p:nvPr/>
        </p:nvPicPr>
        <p:blipFill>
          <a:blip r:embed="rId8"/>
          <a:stretch/>
        </p:blipFill>
        <p:spPr>
          <a:xfrm>
            <a:off x="7288200" y="4762440"/>
            <a:ext cx="1041480" cy="687600"/>
          </a:xfrm>
          <a:prstGeom prst="rect">
            <a:avLst/>
          </a:prstGeom>
          <a:ln w="0">
            <a:noFill/>
          </a:ln>
        </p:spPr>
      </p:pic>
      <p:pic>
        <p:nvPicPr>
          <p:cNvPr id="6015" name="" descr=""/>
          <p:cNvPicPr/>
          <p:nvPr/>
        </p:nvPicPr>
        <p:blipFill>
          <a:blip r:embed="rId9"/>
          <a:stretch/>
        </p:blipFill>
        <p:spPr>
          <a:xfrm>
            <a:off x="6396120" y="5797440"/>
            <a:ext cx="357120" cy="792360"/>
          </a:xfrm>
          <a:prstGeom prst="rect">
            <a:avLst/>
          </a:prstGeom>
          <a:ln w="0">
            <a:noFill/>
          </a:ln>
        </p:spPr>
      </p:pic>
      <p:pic>
        <p:nvPicPr>
          <p:cNvPr id="6016" name="" descr=""/>
          <p:cNvPicPr/>
          <p:nvPr/>
        </p:nvPicPr>
        <p:blipFill>
          <a:blip r:embed="rId10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pic>
        <p:nvPicPr>
          <p:cNvPr id="6017" name="" descr=""/>
          <p:cNvPicPr/>
          <p:nvPr/>
        </p:nvPicPr>
        <p:blipFill>
          <a:blip r:embed="rId11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pic>
        <p:nvPicPr>
          <p:cNvPr id="6018" name="" descr=""/>
          <p:cNvPicPr/>
          <p:nvPr/>
        </p:nvPicPr>
        <p:blipFill>
          <a:blip r:embed="rId12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6019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0" name=""/>
          <p:cNvSpPr/>
          <p:nvPr/>
        </p:nvSpPr>
        <p:spPr>
          <a:xfrm>
            <a:off x="4917960" y="4335480"/>
            <a:ext cx="9003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1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"/>
          <p:cNvSpPr/>
          <p:nvPr/>
        </p:nvSpPr>
        <p:spPr>
          <a:xfrm>
            <a:off x="6321600" y="868320"/>
            <a:ext cx="900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4" name=""/>
          <p:cNvSpPr/>
          <p:nvPr/>
        </p:nvSpPr>
        <p:spPr>
          <a:xfrm>
            <a:off x="6334200" y="496728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"/>
          <p:cNvSpPr/>
          <p:nvPr/>
        </p:nvSpPr>
        <p:spPr>
          <a:xfrm>
            <a:off x="5504040" y="5996160"/>
            <a:ext cx="900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8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"/>
          <p:cNvSpPr/>
          <p:nvPr/>
        </p:nvSpPr>
        <p:spPr>
          <a:xfrm>
            <a:off x="2368440" y="0"/>
            <a:ext cx="90036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0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1" name="" descr=""/>
          <p:cNvPicPr/>
          <p:nvPr/>
        </p:nvPicPr>
        <p:blipFill>
          <a:blip r:embed="rId25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differenc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3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4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6035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9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100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1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2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6103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"/>
          <p:cNvSpPr/>
          <p:nvPr/>
        </p:nvSpPr>
        <p:spPr>
          <a:xfrm>
            <a:off x="971640" y="441360"/>
            <a:ext cx="753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5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7" name="" descr=""/>
          <p:cNvPicPr/>
          <p:nvPr/>
        </p:nvPicPr>
        <p:blipFill>
          <a:blip r:embed="rId4"/>
          <a:stretch/>
        </p:blipFill>
        <p:spPr>
          <a:xfrm>
            <a:off x="363528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6108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6109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6110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6111" name="" descr=""/>
          <p:cNvPicPr/>
          <p:nvPr/>
        </p:nvPicPr>
        <p:blipFill>
          <a:blip r:embed="rId8"/>
          <a:stretch/>
        </p:blipFill>
        <p:spPr>
          <a:xfrm>
            <a:off x="7875720" y="47624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6112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6113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6114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6115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6116" name="" descr=""/>
          <p:cNvPicPr/>
          <p:nvPr/>
        </p:nvPicPr>
        <p:blipFill>
          <a:blip r:embed="rId13"/>
          <a:stretch/>
        </p:blipFill>
        <p:spPr>
          <a:xfrm>
            <a:off x="6853320" y="3678120"/>
            <a:ext cx="1174680" cy="803520"/>
          </a:xfrm>
          <a:prstGeom prst="rect">
            <a:avLst/>
          </a:prstGeom>
          <a:ln w="0">
            <a:noFill/>
          </a:ln>
        </p:spPr>
      </p:pic>
      <p:pic>
        <p:nvPicPr>
          <p:cNvPr id="6117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6118" name="" descr=""/>
          <p:cNvPicPr/>
          <p:nvPr/>
        </p:nvPicPr>
        <p:blipFill>
          <a:blip r:embed="rId15"/>
          <a:stretch/>
        </p:blipFill>
        <p:spPr>
          <a:xfrm>
            <a:off x="6510240" y="620388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6119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0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6121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4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5" name=""/>
          <p:cNvSpPr/>
          <p:nvPr/>
        </p:nvSpPr>
        <p:spPr>
          <a:xfrm>
            <a:off x="955800" y="407340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6" name=""/>
          <p:cNvSpPr/>
          <p:nvPr/>
        </p:nvSpPr>
        <p:spPr>
          <a:xfrm>
            <a:off x="4387680" y="1343160"/>
            <a:ext cx="927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7" name=""/>
          <p:cNvSpPr/>
          <p:nvPr/>
        </p:nvSpPr>
        <p:spPr>
          <a:xfrm>
            <a:off x="6415200" y="34128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8" name=""/>
          <p:cNvSpPr/>
          <p:nvPr/>
        </p:nvSpPr>
        <p:spPr>
          <a:xfrm>
            <a:off x="6053040" y="3672000"/>
            <a:ext cx="9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9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0" name=""/>
          <p:cNvSpPr/>
          <p:nvPr/>
        </p:nvSpPr>
        <p:spPr>
          <a:xfrm>
            <a:off x="6853320" y="486108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1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2" name=""/>
          <p:cNvSpPr/>
          <p:nvPr/>
        </p:nvSpPr>
        <p:spPr>
          <a:xfrm>
            <a:off x="3543480" y="526716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3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5" name=""/>
          <p:cNvSpPr/>
          <p:nvPr/>
        </p:nvSpPr>
        <p:spPr>
          <a:xfrm>
            <a:off x="5589720" y="643428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6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828720" y="617400"/>
            <a:ext cx="1371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Therm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2" name=""/>
          <p:cNvGrpSpPr/>
          <p:nvPr/>
        </p:nvGrpSpPr>
        <p:grpSpPr>
          <a:xfrm>
            <a:off x="771480" y="609480"/>
            <a:ext cx="1666800" cy="5676840"/>
            <a:chOff x="771480" y="609480"/>
            <a:chExt cx="1666800" cy="5676840"/>
          </a:xfrm>
        </p:grpSpPr>
        <p:sp>
          <p:nvSpPr>
            <p:cNvPr id="6163" name=""/>
            <p:cNvSpPr/>
            <p:nvPr/>
          </p:nvSpPr>
          <p:spPr>
            <a:xfrm rot="5400000">
              <a:off x="-1233360" y="261432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988920" y="88884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1460520" y="526392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1504800" y="113652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7" name=""/>
            <p:cNvGrpSpPr/>
            <p:nvPr/>
          </p:nvGrpSpPr>
          <p:grpSpPr>
            <a:xfrm>
              <a:off x="1695600" y="1536480"/>
              <a:ext cx="304560" cy="3514680"/>
              <a:chOff x="1695600" y="1536480"/>
              <a:chExt cx="304560" cy="3514680"/>
            </a:xfrm>
          </p:grpSpPr>
          <p:sp>
            <p:nvSpPr>
              <p:cNvPr id="6168" name=""/>
              <p:cNvSpPr/>
              <p:nvPr/>
            </p:nvSpPr>
            <p:spPr>
              <a:xfrm>
                <a:off x="1695600" y="50511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1695600" y="46605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1695600" y="4269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1695600" y="38793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1695600" y="34891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1695600" y="30985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1695600" y="27079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1695600" y="23173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1695600" y="19267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1695600" y="153648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8" name=""/>
            <p:cNvSpPr/>
            <p:nvPr/>
          </p:nvSpPr>
          <p:spPr>
            <a:xfrm>
              <a:off x="1127160" y="36860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925560" y="40719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917640" y="446868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928800" y="48416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988920" y="32972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976320" y="29131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973080" y="250488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979560" y="21254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981000" y="17366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977760" y="13478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950760" y="9064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025720" y="583236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1060560" y="582912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013120" y="95256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1047600" y="94932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1509840" y="527688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4" name=""/>
          <p:cNvGrpSpPr/>
          <p:nvPr/>
        </p:nvGrpSpPr>
        <p:grpSpPr>
          <a:xfrm>
            <a:off x="3711600" y="615960"/>
            <a:ext cx="1666800" cy="5676840"/>
            <a:chOff x="3711600" y="615960"/>
            <a:chExt cx="1666800" cy="5676840"/>
          </a:xfrm>
        </p:grpSpPr>
        <p:sp>
          <p:nvSpPr>
            <p:cNvPr id="6195" name=""/>
            <p:cNvSpPr/>
            <p:nvPr/>
          </p:nvSpPr>
          <p:spPr>
            <a:xfrm rot="5400000">
              <a:off x="1706400" y="262080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929040" y="89532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4400640" y="527040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4444920" y="114300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9" name=""/>
            <p:cNvGrpSpPr/>
            <p:nvPr/>
          </p:nvGrpSpPr>
          <p:grpSpPr>
            <a:xfrm>
              <a:off x="4635720" y="1542960"/>
              <a:ext cx="304560" cy="3514680"/>
              <a:chOff x="4635720" y="1542960"/>
              <a:chExt cx="304560" cy="3514680"/>
            </a:xfrm>
          </p:grpSpPr>
          <p:sp>
            <p:nvSpPr>
              <p:cNvPr id="6200" name=""/>
              <p:cNvSpPr/>
              <p:nvPr/>
            </p:nvSpPr>
            <p:spPr>
              <a:xfrm>
                <a:off x="4635720" y="50576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635720" y="46670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635720" y="42764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635720" y="38858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635720" y="34956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635720" y="31050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635720" y="27144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635720" y="23238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635720" y="19332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635720" y="1542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0" name=""/>
            <p:cNvSpPr/>
            <p:nvPr/>
          </p:nvSpPr>
          <p:spPr>
            <a:xfrm>
              <a:off x="4067280" y="369252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865680" y="40784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857760" y="447516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868920" y="484812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929040" y="33037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3916440" y="291960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3913200" y="25113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3919680" y="213192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3921120" y="17431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3917880" y="13543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890880" y="9129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4965840" y="583884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000680" y="583560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953240" y="95904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987720" y="95580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449960" y="528336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6" name=""/>
          <p:cNvGrpSpPr/>
          <p:nvPr/>
        </p:nvGrpSpPr>
        <p:grpSpPr>
          <a:xfrm>
            <a:off x="6823080" y="584280"/>
            <a:ext cx="1666800" cy="5676840"/>
            <a:chOff x="6823080" y="584280"/>
            <a:chExt cx="1666800" cy="5676840"/>
          </a:xfrm>
        </p:grpSpPr>
        <p:sp>
          <p:nvSpPr>
            <p:cNvPr id="6227" name=""/>
            <p:cNvSpPr/>
            <p:nvPr/>
          </p:nvSpPr>
          <p:spPr>
            <a:xfrm rot="5400000">
              <a:off x="4817880" y="258912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040520" y="86364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512120" y="523872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556400" y="111132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1" name=""/>
            <p:cNvGrpSpPr/>
            <p:nvPr/>
          </p:nvGrpSpPr>
          <p:grpSpPr>
            <a:xfrm>
              <a:off x="7747200" y="1511280"/>
              <a:ext cx="304560" cy="3514680"/>
              <a:chOff x="7747200" y="1511280"/>
              <a:chExt cx="304560" cy="3514680"/>
            </a:xfrm>
          </p:grpSpPr>
          <p:sp>
            <p:nvSpPr>
              <p:cNvPr id="6232" name=""/>
              <p:cNvSpPr/>
              <p:nvPr/>
            </p:nvSpPr>
            <p:spPr>
              <a:xfrm>
                <a:off x="7747200" y="5025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7747200" y="46353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7747200" y="42447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7747200" y="38541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7747200" y="34639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7747200" y="30733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7747200" y="26827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7747200" y="22921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7747200" y="19015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747200" y="151128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2" name=""/>
            <p:cNvSpPr/>
            <p:nvPr/>
          </p:nvSpPr>
          <p:spPr>
            <a:xfrm>
              <a:off x="7178760" y="36608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6977160" y="40467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6969240" y="444348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6980400" y="48164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040520" y="32720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027920" y="28879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024680" y="247968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031160" y="21002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032600" y="17114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029360" y="13226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002360" y="8812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8077320" y="580716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112160" y="580392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8064720" y="92736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099200" y="92412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561440" y="525168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0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33400" y="2000160"/>
            <a:ext cx="190800" cy="354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5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4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4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40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43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33400" y="2967120"/>
            <a:ext cx="190800" cy="2582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46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46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52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55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733400" y="3952800"/>
            <a:ext cx="190800" cy="159696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59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59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65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68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33400" y="4338720"/>
            <a:ext cx="190800" cy="12110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1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71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71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77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80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33400" y="4138560"/>
            <a:ext cx="190800" cy="1411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84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84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84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90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93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33400" y="4734000"/>
            <a:ext cx="190800" cy="81576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2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96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96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96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02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8:41:55Z</dcterms:created>
  <dc:creator/>
  <dc:description/>
  <dc:language>en-US</dc:language>
  <cp:lastModifiedBy>Betsan Wyn Thomas</cp:lastModifiedBy>
  <dcterms:modified xsi:type="dcterms:W3CDTF">2007-02-01T09:37:53Z</dcterms:modified>
  <cp:revision>40</cp:revision>
  <dc:subject/>
  <dc:title>Negative Numbers</dc:title>
</cp:coreProperties>
</file>